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13.jpeg" ContentType="image/jpeg"/>
  <Override PartName="/ppt/media/image4.png" ContentType="image/png"/>
  <Override PartName="/ppt/media/image27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8.png" ContentType="image/png"/>
  <Override PartName="/ppt/media/image28.jpeg" ContentType="image/jpeg"/>
  <Override PartName="/ppt/media/image16.gif" ContentType="image/gif"/>
  <Override PartName="/ppt/media/image1.png" ContentType="image/png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media/image2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A28C-4933-4975-A2B6-13D479475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E639-793B-4D32-ACE8-ABEF45CE4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63F2F5-B345-4DFC-A582-6C361BCC4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B2D4A-F121-409B-BF3B-104A4C0AE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5CE3A-D023-46FF-AB9B-5E9D1B086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CC0F66-E7CB-44CD-AB65-E4C7679DF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9DF9F-E1EF-4CF4-AE9D-2E200CD3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B931D-365F-420B-B61F-39458C49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B6D8F-085C-4367-9AD0-BA77C4746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9CF25-F60F-4B1D-8B7E-0DAE85C55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1F5B8-48C2-4835-8B21-750E4CAD6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50A77F-A81E-4C50-9D50-982153178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1B3D-4409-4BBE-89F6-5B3A6AE22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524A40-2706-4E79-86E4-0D9CD1D19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0C52C7-D55F-4259-9465-92E7E0E0D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85770-DB84-4D9C-8648-D51EEC08B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A9B5D9-EE6B-4642-AA57-7B299C6F7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6ACF5-E708-4A78-9021-5A869EEB1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B1FFF1-625C-4EE1-8766-75694D59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29F42-912C-47A1-9B4D-57EC12BD5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2D0B4E-7856-42F3-B5FD-E4DAA2C1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B0C5F4-99C5-4F14-92FC-52A786709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122876-5AE6-41C1-B7DC-0AB5EC130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8764-1478-42DE-82B2-D9C667413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4446EA-4123-4A54-830A-6B3F694B5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BDF312-3825-4AA5-98C0-D8C3EE9EE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2C4A28-47A7-4EC4-B605-97D3C93D1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E29B54-54CC-4E7C-BB72-422E770DA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1B7B2-9A0E-49ED-B9DC-8D369F686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F89B73-CCF5-4B7C-ABC3-C5657F105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EC8327-1F67-4F49-91FD-BBE4A65D2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57FF53-97D0-48A0-A5D8-6E28FC4E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D27579-5013-4A44-BD4B-8379121E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DC6F5-B11A-483B-A2F2-DE4B9F352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FEF05-8D8E-4C63-8565-D5B0ED655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92A430-B489-4B29-A98D-6175594CF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9F4227-41ED-42FC-9641-CA40FB446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A410E2-AB9C-4D11-846C-466AF8680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71F02E-3B16-4848-B156-C793AD748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FFC519-B89A-418B-98AF-9F1D0F6B7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5E9C25-FA75-4C18-97D1-B4E56CCBD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7C9C16-2AEB-4AA3-BBD9-D41037D59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7AA3C8-1534-434C-997E-65D8A6912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B30FCA-F93C-4815-AFA7-88CA2AD9A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A4CDE7-9209-471A-825A-FC3F96C8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37C30-4D57-41DC-A96B-8A17CF33A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DF5440-B7DB-4AC3-B4EE-2902DDAB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32ABA6-4753-4B3D-8FD6-043CA21F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8BD265-362C-4580-BFE2-D7CACA249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A98548-FCE3-4DC0-80BD-93AF30EAA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514A19-6DDD-462F-8249-5747497BD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CFDEFC-B066-45C5-8D10-E408807A6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28E726-FBC5-4259-B399-9C879388F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58A322-EC60-42E7-8AB4-73B18FDF2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00C63C-707B-431A-8127-46E7E5F1E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5E7067-7FE3-4DF2-ADE4-DD49252AA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65848-FE56-4736-80B6-C166782BD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405DB4-D1EF-41FB-9059-AEF1FA79F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DEA605-5C62-425B-B034-824A7953F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659747-318C-4280-A1CF-3EBC65AF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378496-D52B-4D49-8363-DE75A2260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3F0097-53C4-4085-A821-AF5EEADF1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E98035-A372-4D35-816E-F0BFA172C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94586C-208E-4826-B336-A45883A84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228FCC-DF38-496C-8BCB-19666631E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F5315C-AAE4-49DD-A60E-8CE67A156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1D3F55-535F-46BC-8320-48F9322D2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A4E38-E73C-4DB3-97F7-F21EBD1CD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E611DE-BFAB-48CB-8FA6-43D3E0A1D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3E03C6-77CA-4DFD-8B1B-869810BD8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9795DF-E4B5-40F0-AC40-6DA798289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9BFA5C-4406-4EED-AAE0-5440DA07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F45767-F056-4491-A9ED-F508C9B9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CACD2E-1375-471A-9E2B-3D0976C4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C8D5A0-4935-4717-86C9-104D8F2F0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A4149C-4972-4EA0-AA31-FE9B6897F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0E4C79-7B5D-43DC-811E-0D024E238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2651D-3EC0-4620-B7EE-9F930C947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9EAB2-87E0-41F1-8731-144AF82DB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D94F2-23FA-434A-A27F-D36FCE5A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A2F7-65F2-4D6E-B0AE-ACB57FC3B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D55C6-DBA7-48D7-8ACC-8C72B92EE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01E62-FE25-43CC-9368-90A1F12DB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C8AFF-9F03-4213-8EC5-080BBD74F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36327-A3EE-47A2-AD9E-59F7A1CA8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F157D-18AD-4641-8E60-685C14564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7D48A-2730-4A6D-BC00-203A458A6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99072-F740-43F7-8367-BC472B705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5E8CF-59E8-439C-A3A9-EA079C84C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CA87D2-076C-49EC-98B0-EC4553689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8CAEA-8F9B-4EAF-98D6-44F7F1F7B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C385-FC08-407D-9354-B7E10D35B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19478-82AD-4DBB-B0DD-7F3390B51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0AC36-BCD5-4B83-8CE4-AE5541865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6E1CF0-E4E1-48E0-B213-B3057246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F2DA3-7310-4AC1-BD4B-943E1324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75170-BA7C-432E-9F8D-6F935D04B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D029B-A90F-40FC-8A12-DE7938DC3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6B012-FC26-4EBD-975D-0CF769E35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6A4E-D1B4-4F9A-8D8C-0EEBCED36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70B3-8607-46B6-BE0B-C4F575631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50AA-94C2-42CA-897A-6C3BA4BF3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FE1B-8C4F-41F2-A025-527DC6AED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F6250-90AF-4DBE-8805-0EF1A97CF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DD063-8C65-4E3A-AFAC-42DECB12E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9FB1A0-8399-4A93-9993-2ECE7FBB0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DC0A2-5E15-4264-8103-D994CC410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B4FB1D-C4EE-40E0-B562-BD6180A1C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5999D-3896-4F08-A88A-96612D8EB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188BC-0DA9-4FF2-B754-60B5F3A4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0DF5-2909-4EBA-B046-C008C7D8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CAEEB-DC0E-405B-BD2A-C59CC7A7E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ACC709-8F32-4B32-A4FD-192672FA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CE740-B98F-4062-A97E-26A01684B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4AA40-1A63-4A2D-A91C-7934B5200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DC657-4D0F-4F1B-B5D1-FBCB15F91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E4874-B3A1-4D1F-973D-3E37F7C79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44F6A-34B7-49C8-AC15-7BCFF0DF1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EDB53-E090-4E95-A39B-8AB60F062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D31C9-B473-45A4-AD8F-6AAF9AB6D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98507-5008-4F33-8F31-55F9D5F3E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377A-249E-4B69-A684-19FB16D92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3A4C3-BCFC-4206-84D4-F8D36D109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DAAAF-6DA7-46FE-9E38-A6C795371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9E6E1-074A-44BB-A544-B323AB43E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CFD35-DDAD-4A0F-9D7B-263D6B78A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BAA16-A761-423B-9F0C-31A80F034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94B7D-DFC9-485A-B1B8-0F551DF66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B05FC-FC61-46A7-AC79-B86DFD328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D4A4C0-DDD1-4881-8388-D97EAAACE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62F0E-4D6D-4E62-8D98-483AD4CCA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99AD1E-6AE1-467B-89A8-1A026134F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85.xml"/><Relationship Id="rId9" Type="http://schemas.openxmlformats.org/officeDocument/2006/relationships/slideLayout" Target="../slideLayouts/slideLayout86.xml"/><Relationship Id="rId10" Type="http://schemas.openxmlformats.org/officeDocument/2006/relationships/slideLayout" Target="../slideLayouts/slideLayout87.xml"/><Relationship Id="rId11" Type="http://schemas.openxmlformats.org/officeDocument/2006/relationships/slideLayout" Target="../slideLayouts/slideLayout88.xml"/><Relationship Id="rId12" Type="http://schemas.openxmlformats.org/officeDocument/2006/relationships/slideLayout" Target="../slideLayouts/slideLayout89.xml"/><Relationship Id="rId13" Type="http://schemas.openxmlformats.org/officeDocument/2006/relationships/slideLayout" Target="../slideLayouts/slideLayout90.xml"/><Relationship Id="rId14" Type="http://schemas.openxmlformats.org/officeDocument/2006/relationships/slideLayout" Target="../slideLayouts/slideLayout91.xml"/><Relationship Id="rId15" Type="http://schemas.openxmlformats.org/officeDocument/2006/relationships/slideLayout" Target="../slideLayouts/slideLayout92.xml"/><Relationship Id="rId16" Type="http://schemas.openxmlformats.org/officeDocument/2006/relationships/slideLayout" Target="../slideLayouts/slideLayout93.xml"/><Relationship Id="rId17" Type="http://schemas.openxmlformats.org/officeDocument/2006/relationships/slideLayout" Target="../slideLayouts/slideLayout94.xml"/><Relationship Id="rId18" Type="http://schemas.openxmlformats.org/officeDocument/2006/relationships/slideLayout" Target="../slideLayouts/slideLayout95.xml"/><Relationship Id="rId19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buClr>
                <a:srgbClr val="89898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3D43E1-B26B-47C0-B4DC-A9F3DF1AFAD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组合 6"/>
          <p:cNvGrpSpPr/>
          <p:nvPr/>
        </p:nvGrpSpPr>
        <p:grpSpPr>
          <a:xfrm>
            <a:off x="-369720" y="9360"/>
            <a:ext cx="9515160" cy="6858000"/>
            <a:chOff x="-369720" y="9360"/>
            <a:chExt cx="9515160" cy="6858000"/>
          </a:xfrm>
        </p:grpSpPr>
        <p:pic>
          <p:nvPicPr>
            <p:cNvPr id="375" name="图片 14" descr=""/>
            <p:cNvPicPr/>
            <p:nvPr/>
          </p:nvPicPr>
          <p:blipFill>
            <a:blip r:embed="rId2"/>
            <a:stretch/>
          </p:blipFill>
          <p:spPr>
            <a:xfrm>
              <a:off x="9360" y="9360"/>
              <a:ext cx="9136080" cy="685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6" name="组 15"/>
            <p:cNvGrpSpPr/>
            <p:nvPr/>
          </p:nvGrpSpPr>
          <p:grpSpPr>
            <a:xfrm>
              <a:off x="-369720" y="4599000"/>
              <a:ext cx="1660320" cy="2216160"/>
              <a:chOff x="-369720" y="4599000"/>
              <a:chExt cx="1660320" cy="2216160"/>
            </a:xfrm>
          </p:grpSpPr>
          <p:pic>
            <p:nvPicPr>
              <p:cNvPr id="377" name="Picture 47" descr="연필"/>
              <p:cNvPicPr/>
              <p:nvPr/>
            </p:nvPicPr>
            <p:blipFill>
              <a:blip r:embed="rId3"/>
              <a:stretch/>
            </p:blipFill>
            <p:spPr>
              <a:xfrm>
                <a:off x="97560" y="4599000"/>
                <a:ext cx="505080" cy="2040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8" name="Picture 43" descr="꽃"/>
              <p:cNvPicPr/>
              <p:nvPr/>
            </p:nvPicPr>
            <p:blipFill>
              <a:blip r:embed="rId4"/>
              <a:stretch/>
            </p:blipFill>
            <p:spPr>
              <a:xfrm>
                <a:off x="-369720" y="5212080"/>
                <a:ext cx="1660320" cy="1603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D5886F-97B5-4E57-A049-011302A3BA0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组合 6"/>
          <p:cNvGrpSpPr/>
          <p:nvPr/>
        </p:nvGrpSpPr>
        <p:grpSpPr>
          <a:xfrm>
            <a:off x="-369720" y="9360"/>
            <a:ext cx="9515160" cy="6878880"/>
            <a:chOff x="-369720" y="9360"/>
            <a:chExt cx="9515160" cy="6878880"/>
          </a:xfrm>
        </p:grpSpPr>
        <p:pic>
          <p:nvPicPr>
            <p:cNvPr id="421" name="图片 14" descr=""/>
            <p:cNvPicPr/>
            <p:nvPr/>
          </p:nvPicPr>
          <p:blipFill>
            <a:blip r:embed="rId2"/>
            <a:stretch/>
          </p:blipFill>
          <p:spPr>
            <a:xfrm>
              <a:off x="9360" y="9360"/>
              <a:ext cx="9136080" cy="6859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2" name="组 15"/>
            <p:cNvGrpSpPr/>
            <p:nvPr/>
          </p:nvGrpSpPr>
          <p:grpSpPr>
            <a:xfrm>
              <a:off x="-369720" y="4659840"/>
              <a:ext cx="1660320" cy="2216520"/>
              <a:chOff x="-369720" y="4659840"/>
              <a:chExt cx="1660320" cy="2216520"/>
            </a:xfrm>
          </p:grpSpPr>
          <p:pic>
            <p:nvPicPr>
              <p:cNvPr id="423" name="Picture 47" descr="연필"/>
              <p:cNvPicPr/>
              <p:nvPr/>
            </p:nvPicPr>
            <p:blipFill>
              <a:blip r:embed="rId3"/>
              <a:stretch/>
            </p:blipFill>
            <p:spPr>
              <a:xfrm>
                <a:off x="97560" y="4659840"/>
                <a:ext cx="505080" cy="204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24" name="Picture 43" descr="꽃"/>
              <p:cNvPicPr/>
              <p:nvPr/>
            </p:nvPicPr>
            <p:blipFill>
              <a:blip r:embed="rId4"/>
              <a:stretch/>
            </p:blipFill>
            <p:spPr>
              <a:xfrm>
                <a:off x="-369720" y="5273280"/>
                <a:ext cx="1660320" cy="1603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425" name="图片 22" descr="热气球.png"/>
            <p:cNvPicPr/>
            <p:nvPr/>
          </p:nvPicPr>
          <p:blipFill>
            <a:blip r:embed="rId5"/>
            <a:stretch/>
          </p:blipFill>
          <p:spPr>
            <a:xfrm>
              <a:off x="8660880" y="6337440"/>
              <a:ext cx="482400" cy="5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6DC168-E13D-4BDC-ADF1-DCA6141890F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12" descr=""/>
          <p:cNvPicPr/>
          <p:nvPr/>
        </p:nvPicPr>
        <p:blipFill>
          <a:blip r:embed="rId2"/>
          <a:stretch/>
        </p:blipFill>
        <p:spPr>
          <a:xfrm>
            <a:off x="-34920" y="5095800"/>
            <a:ext cx="9178920" cy="176220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2CF0F2-9791-4180-92C6-5B1E5675D32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ACB50-AB5D-41C6-81B9-E8F531D8447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2A538-C1C3-429E-9764-EFCD78A3D14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4674E45-1A58-4B3C-BE5F-3ECD98A9AE3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D5B397-9724-4902-92FC-A77F6468933E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组合 6"/>
          <p:cNvGrpSpPr/>
          <p:nvPr/>
        </p:nvGrpSpPr>
        <p:grpSpPr>
          <a:xfrm>
            <a:off x="-369720" y="9360"/>
            <a:ext cx="9515160" cy="6878880"/>
            <a:chOff x="-369720" y="9360"/>
            <a:chExt cx="9515160" cy="6878880"/>
          </a:xfrm>
        </p:grpSpPr>
        <p:pic>
          <p:nvPicPr>
            <p:cNvPr id="237" name="图片 14" descr=""/>
            <p:cNvPicPr/>
            <p:nvPr/>
          </p:nvPicPr>
          <p:blipFill>
            <a:blip r:embed="rId2"/>
            <a:stretch/>
          </p:blipFill>
          <p:spPr>
            <a:xfrm>
              <a:off x="9360" y="9360"/>
              <a:ext cx="9136080" cy="6859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8" name="组 15"/>
            <p:cNvGrpSpPr/>
            <p:nvPr/>
          </p:nvGrpSpPr>
          <p:grpSpPr>
            <a:xfrm>
              <a:off x="-369720" y="4659840"/>
              <a:ext cx="1660320" cy="2216520"/>
              <a:chOff x="-369720" y="4659840"/>
              <a:chExt cx="1660320" cy="2216520"/>
            </a:xfrm>
          </p:grpSpPr>
          <p:pic>
            <p:nvPicPr>
              <p:cNvPr id="239" name="Picture 47" descr="연필"/>
              <p:cNvPicPr/>
              <p:nvPr/>
            </p:nvPicPr>
            <p:blipFill>
              <a:blip r:embed="rId3"/>
              <a:stretch/>
            </p:blipFill>
            <p:spPr>
              <a:xfrm>
                <a:off x="97560" y="4659840"/>
                <a:ext cx="505080" cy="204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40" name="Picture 43" descr="꽃"/>
              <p:cNvPicPr/>
              <p:nvPr/>
            </p:nvPicPr>
            <p:blipFill>
              <a:blip r:embed="rId4"/>
              <a:stretch/>
            </p:blipFill>
            <p:spPr>
              <a:xfrm>
                <a:off x="-369720" y="5273280"/>
                <a:ext cx="1660320" cy="1603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41" name="图片 22" descr="热气球.png"/>
            <p:cNvPicPr/>
            <p:nvPr/>
          </p:nvPicPr>
          <p:blipFill>
            <a:blip r:embed="rId5"/>
            <a:stretch/>
          </p:blipFill>
          <p:spPr>
            <a:xfrm>
              <a:off x="8660880" y="6337440"/>
              <a:ext cx="482400" cy="5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buClr>
                <a:srgbClr val="89898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algn="r">
              <a:buClr>
                <a:srgbClr val="89898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384BDC-9024-442C-975A-E9B4AA00102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组合 6"/>
          <p:cNvGrpSpPr/>
          <p:nvPr/>
        </p:nvGrpSpPr>
        <p:grpSpPr>
          <a:xfrm>
            <a:off x="-369720" y="9360"/>
            <a:ext cx="9515160" cy="6878880"/>
            <a:chOff x="-369720" y="9360"/>
            <a:chExt cx="9515160" cy="6878880"/>
          </a:xfrm>
        </p:grpSpPr>
        <p:pic>
          <p:nvPicPr>
            <p:cNvPr id="284" name="图片 14" descr=""/>
            <p:cNvPicPr/>
            <p:nvPr/>
          </p:nvPicPr>
          <p:blipFill>
            <a:blip r:embed="rId2"/>
            <a:stretch/>
          </p:blipFill>
          <p:spPr>
            <a:xfrm>
              <a:off x="9360" y="9360"/>
              <a:ext cx="9136080" cy="6859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5" name="组 15"/>
            <p:cNvGrpSpPr/>
            <p:nvPr/>
          </p:nvGrpSpPr>
          <p:grpSpPr>
            <a:xfrm>
              <a:off x="-369720" y="4659840"/>
              <a:ext cx="1660320" cy="2216520"/>
              <a:chOff x="-369720" y="4659840"/>
              <a:chExt cx="1660320" cy="2216520"/>
            </a:xfrm>
          </p:grpSpPr>
          <p:pic>
            <p:nvPicPr>
              <p:cNvPr id="286" name="Picture 47" descr="연필"/>
              <p:cNvPicPr/>
              <p:nvPr/>
            </p:nvPicPr>
            <p:blipFill>
              <a:blip r:embed="rId3"/>
              <a:stretch/>
            </p:blipFill>
            <p:spPr>
              <a:xfrm>
                <a:off x="97560" y="4659840"/>
                <a:ext cx="505080" cy="204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7" name="Picture 43" descr="꽃"/>
              <p:cNvPicPr/>
              <p:nvPr/>
            </p:nvPicPr>
            <p:blipFill>
              <a:blip r:embed="rId4"/>
              <a:stretch/>
            </p:blipFill>
            <p:spPr>
              <a:xfrm>
                <a:off x="-369720" y="5273280"/>
                <a:ext cx="1660320" cy="160308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88" name="图片 9" descr="荣德基.png"/>
            <p:cNvPicPr/>
            <p:nvPr/>
          </p:nvPicPr>
          <p:blipFill>
            <a:blip r:embed="rId5"/>
            <a:stretch/>
          </p:blipFill>
          <p:spPr>
            <a:xfrm>
              <a:off x="237960" y="136080"/>
              <a:ext cx="15620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图片 13" descr=""/>
            <p:cNvPicPr/>
            <p:nvPr/>
          </p:nvPicPr>
          <p:blipFill>
            <a:blip r:embed="rId6"/>
            <a:stretch/>
          </p:blipFill>
          <p:spPr>
            <a:xfrm>
              <a:off x="6448320" y="6500880"/>
              <a:ext cx="2255760" cy="28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图片 22" descr="热气球.png"/>
            <p:cNvPicPr/>
            <p:nvPr/>
          </p:nvPicPr>
          <p:blipFill>
            <a:blip r:embed="rId7"/>
            <a:stretch/>
          </p:blipFill>
          <p:spPr>
            <a:xfrm>
              <a:off x="8660880" y="6337440"/>
              <a:ext cx="482400" cy="55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D5F7F7-5AF7-4A99-929E-A7611F91EEB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8"/>
    <p:sldLayoutId id="2147483741" r:id="rId9"/>
    <p:sldLayoutId id="2147483742" r:id="rId10"/>
    <p:sldLayoutId id="2147483743" r:id="rId11"/>
    <p:sldLayoutId id="2147483744" r:id="rId12"/>
    <p:sldLayoutId id="2147483745" r:id="rId13"/>
    <p:sldLayoutId id="2147483746" r:id="rId14"/>
    <p:sldLayoutId id="2147483747" r:id="rId15"/>
    <p:sldLayoutId id="2147483748" r:id="rId16"/>
    <p:sldLayoutId id="2147483749" r:id="rId17"/>
    <p:sldLayoutId id="2147483750" r:id="rId18"/>
    <p:sldLayoutId id="2147483751" r:id="rId19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矩形 6"/>
          <p:cNvSpPr/>
          <p:nvPr/>
        </p:nvSpPr>
        <p:spPr>
          <a:xfrm>
            <a:off x="0" y="0"/>
            <a:ext cx="9144000" cy="2185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2" name="Picture 12" descr=""/>
          <p:cNvPicPr/>
          <p:nvPr/>
        </p:nvPicPr>
        <p:blipFill>
          <a:blip r:embed="rId2"/>
          <a:stretch/>
        </p:blipFill>
        <p:spPr>
          <a:xfrm>
            <a:off x="-34920" y="5095800"/>
            <a:ext cx="9178920" cy="176220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8BB7FB2-8CA8-4F6A-B217-AB8C672EBC9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0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0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0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0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0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0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0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0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0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0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圆角矩形 66"/>
          <p:cNvSpPr/>
          <p:nvPr/>
        </p:nvSpPr>
        <p:spPr>
          <a:xfrm>
            <a:off x="1052640" y="3927600"/>
            <a:ext cx="7226280" cy="134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0"/>
          </a:gradFill>
          <a:ln w="9360">
            <a:solidFill>
              <a:srgbClr val="539f36"/>
            </a:solidFill>
            <a:round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2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grpSp>
        <p:nvGrpSpPr>
          <p:cNvPr id="594" name="组合 13338"/>
          <p:cNvGrpSpPr/>
          <p:nvPr/>
        </p:nvGrpSpPr>
        <p:grpSpPr>
          <a:xfrm>
            <a:off x="2162160" y="2044800"/>
            <a:ext cx="5892840" cy="1181160"/>
            <a:chOff x="2162160" y="2044800"/>
            <a:chExt cx="5892840" cy="1181160"/>
          </a:xfrm>
        </p:grpSpPr>
        <p:sp>
          <p:nvSpPr>
            <p:cNvPr id="595" name="Text Box 2"/>
            <p:cNvSpPr/>
            <p:nvPr/>
          </p:nvSpPr>
          <p:spPr>
            <a:xfrm>
              <a:off x="3473280" y="2057400"/>
              <a:ext cx="45817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6000" spc="-1" strike="noStrike">
                  <a:solidFill>
                    <a:srgbClr val="cc0000"/>
                  </a:solidFill>
                  <a:latin typeface="Calibri"/>
                  <a:ea typeface="黑体"/>
                </a:rPr>
                <a:t>古诗两首</a:t>
              </a:r>
              <a:endParaRPr b="0" lang="en-US" sz="6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6" name="组合 13337"/>
            <p:cNvGrpSpPr/>
            <p:nvPr/>
          </p:nvGrpSpPr>
          <p:grpSpPr>
            <a:xfrm>
              <a:off x="2162160" y="2044800"/>
              <a:ext cx="1180800" cy="1181160"/>
              <a:chOff x="2162160" y="2044800"/>
              <a:chExt cx="1180800" cy="1181160"/>
            </a:xfrm>
          </p:grpSpPr>
          <p:sp>
            <p:nvSpPr>
              <p:cNvPr id="597" name="AutoShape 11"/>
              <p:cNvSpPr/>
              <p:nvPr/>
            </p:nvSpPr>
            <p:spPr>
              <a:xfrm>
                <a:off x="2162160" y="2044800"/>
                <a:ext cx="1180800" cy="1181160"/>
              </a:xfrm>
              <a:prstGeom prst="diamond">
                <a:avLst/>
              </a:prstGeom>
              <a:solidFill>
                <a:srgbClr val="236b2a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153753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文本框 13"/>
              <p:cNvSpPr/>
              <p:nvPr/>
            </p:nvSpPr>
            <p:spPr>
              <a:xfrm>
                <a:off x="2202840" y="2109240"/>
                <a:ext cx="109512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r>
                  <a:rPr b="1" lang="en-US" sz="6000" spc="-1" strike="noStrike">
                    <a:solidFill>
                      <a:srgbClr val="ffffff"/>
                    </a:solidFill>
                    <a:latin typeface="方正大黑简体"/>
                    <a:ea typeface="方正大黑简体"/>
                  </a:rPr>
                  <a:t>18</a:t>
                </a:r>
                <a:endParaRPr b="0" lang="en-US" sz="6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55840" y="1945800"/>
            <a:ext cx="36306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夜宿山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（唐）李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危楼高百尺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手可摘星辰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不敢高声语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恐惊天上人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文本框 306181"/>
          <p:cNvSpPr/>
          <p:nvPr/>
        </p:nvSpPr>
        <p:spPr>
          <a:xfrm>
            <a:off x="457200" y="1579680"/>
            <a:ext cx="43610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Calibri"/>
                <a:ea typeface="宋体"/>
              </a:rPr>
              <a:t>自学提示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Calibri"/>
                <a:ea typeface="宋体"/>
              </a:rPr>
              <a:t>一读：自读古诗，看准拼音，把生字多读几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Calibri"/>
                <a:ea typeface="宋体"/>
              </a:rPr>
              <a:t>二读：同桌互助学习，一人读，一人听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Calibri"/>
                <a:ea typeface="宋体"/>
              </a:rPr>
              <a:t>三读：同桌配合读，试着读出节奏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组合 2"/>
          <p:cNvGrpSpPr/>
          <p:nvPr/>
        </p:nvGrpSpPr>
        <p:grpSpPr>
          <a:xfrm>
            <a:off x="614520" y="1368360"/>
            <a:ext cx="2904840" cy="666720"/>
            <a:chOff x="614520" y="1368360"/>
            <a:chExt cx="2904840" cy="666720"/>
          </a:xfrm>
        </p:grpSpPr>
        <p:sp>
          <p:nvSpPr>
            <p:cNvPr id="631" name="圆角矩形 14"/>
            <p:cNvSpPr/>
            <p:nvPr/>
          </p:nvSpPr>
          <p:spPr>
            <a:xfrm>
              <a:off x="1430280" y="1506240"/>
              <a:ext cx="208908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fcee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32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614520" y="136836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3" name="文本框 16"/>
            <p:cNvSpPr/>
            <p:nvPr/>
          </p:nvSpPr>
          <p:spPr>
            <a:xfrm>
              <a:off x="1689840" y="152532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易读错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4" name="TextBox 1"/>
          <p:cNvSpPr/>
          <p:nvPr/>
        </p:nvSpPr>
        <p:spPr>
          <a:xfrm>
            <a:off x="1644480" y="2724120"/>
            <a:ext cx="57834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住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  <a:ea typeface="宋体"/>
              </a:rPr>
              <a:t>宿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  <a:ea typeface="宋体"/>
              </a:rPr>
              <a:t>寺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庙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  <a:ea typeface="宋体"/>
              </a:rPr>
              <a:t>危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险    星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  <a:ea typeface="宋体"/>
              </a:rPr>
              <a:t>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Calibri"/>
                <a:ea typeface="宋体"/>
              </a:rPr>
              <a:t>恐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怕   吃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  <a:ea typeface="宋体"/>
              </a:rPr>
              <a:t>惊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矩形 16"/>
          <p:cNvSpPr/>
          <p:nvPr/>
        </p:nvSpPr>
        <p:spPr>
          <a:xfrm>
            <a:off x="2174760" y="2176560"/>
            <a:ext cx="70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s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矩形 18"/>
          <p:cNvSpPr/>
          <p:nvPr/>
        </p:nvSpPr>
        <p:spPr>
          <a:xfrm>
            <a:off x="3319920" y="2176560"/>
            <a:ext cx="5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s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矩形 19"/>
          <p:cNvSpPr/>
          <p:nvPr/>
        </p:nvSpPr>
        <p:spPr>
          <a:xfrm>
            <a:off x="1588320" y="3332160"/>
            <a:ext cx="98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wē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矩形 22"/>
          <p:cNvSpPr/>
          <p:nvPr/>
        </p:nvSpPr>
        <p:spPr>
          <a:xfrm>
            <a:off x="1393560" y="4616280"/>
            <a:ext cx="133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kǒ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矩形 23"/>
          <p:cNvSpPr/>
          <p:nvPr/>
        </p:nvSpPr>
        <p:spPr>
          <a:xfrm>
            <a:off x="3543120" y="4621320"/>
            <a:ext cx="105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jī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矩形 20"/>
          <p:cNvSpPr/>
          <p:nvPr/>
        </p:nvSpPr>
        <p:spPr>
          <a:xfrm>
            <a:off x="3510360" y="3460680"/>
            <a:ext cx="128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ché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椭圆形标注 29710"/>
          <p:cNvSpPr/>
          <p:nvPr/>
        </p:nvSpPr>
        <p:spPr>
          <a:xfrm>
            <a:off x="4257720" y="2352600"/>
            <a:ext cx="2674800" cy="1621080"/>
          </a:xfrm>
          <a:prstGeom prst="wedgeEllipseCallout">
            <a:avLst>
              <a:gd name="adj1" fmla="val -32078"/>
              <a:gd name="adj2" fmla="val 5068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文本框 29711"/>
          <p:cNvSpPr/>
          <p:nvPr/>
        </p:nvSpPr>
        <p:spPr>
          <a:xfrm>
            <a:off x="4618080" y="2550960"/>
            <a:ext cx="21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带有“辰”字部件的字大多都带有</a:t>
            </a:r>
            <a:r>
              <a:rPr b="0" lang="zh-CN" sz="1800" spc="-1" strike="noStrike">
                <a:solidFill>
                  <a:srgbClr val="ff3300"/>
                </a:solidFill>
                <a:latin typeface="Calibri"/>
                <a:ea typeface="宋体"/>
              </a:rPr>
              <a:t>“</a:t>
            </a:r>
            <a:r>
              <a:rPr b="0" lang="en-US" sz="1800" spc="-1" strike="noStrike">
                <a:solidFill>
                  <a:srgbClr val="ff3300"/>
                </a:solidFill>
                <a:latin typeface="Calibri"/>
              </a:rPr>
              <a:t>en”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的读音</a:t>
            </a:r>
            <a:r>
              <a:rPr b="0" lang="zh-CN" sz="1800" spc="-1" strike="noStrike">
                <a:solidFill>
                  <a:srgbClr val="ff3300"/>
                </a:solidFill>
                <a:latin typeface="Calibri"/>
                <a:ea typeface="宋体"/>
              </a:rPr>
              <a:t>，如：晨、振、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椭圆形标注 29712"/>
          <p:cNvSpPr/>
          <p:nvPr/>
        </p:nvSpPr>
        <p:spPr>
          <a:xfrm>
            <a:off x="4702320" y="4449600"/>
            <a:ext cx="1834920" cy="993960"/>
          </a:xfrm>
          <a:prstGeom prst="wedgeEllipseCallout">
            <a:avLst>
              <a:gd name="adj1" fmla="val -42388"/>
              <a:gd name="adj2" fmla="val 4760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文本框 29713"/>
          <p:cNvSpPr/>
          <p:nvPr/>
        </p:nvSpPr>
        <p:spPr>
          <a:xfrm>
            <a:off x="4702320" y="4678200"/>
            <a:ext cx="18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Calibri"/>
                <a:ea typeface="宋体"/>
              </a:rPr>
              <a:t>惊吓、惊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TextBox 1"/>
          <p:cNvSpPr/>
          <p:nvPr/>
        </p:nvSpPr>
        <p:spPr>
          <a:xfrm>
            <a:off x="1119240" y="2973240"/>
            <a:ext cx="5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6" name="组合 4"/>
          <p:cNvGrpSpPr/>
          <p:nvPr/>
        </p:nvGrpSpPr>
        <p:grpSpPr>
          <a:xfrm>
            <a:off x="1596960" y="2655720"/>
            <a:ext cx="3274920" cy="1373400"/>
            <a:chOff x="1596960" y="2655720"/>
            <a:chExt cx="3274920" cy="1373400"/>
          </a:xfrm>
        </p:grpSpPr>
        <p:sp>
          <p:nvSpPr>
            <p:cNvPr id="647" name="左大括号 2"/>
            <p:cNvSpPr/>
            <p:nvPr/>
          </p:nvSpPr>
          <p:spPr>
            <a:xfrm>
              <a:off x="1596960" y="2833560"/>
              <a:ext cx="185040" cy="1097280"/>
            </a:xfrm>
            <a:custGeom>
              <a:avLst/>
              <a:gdLst>
                <a:gd name="textAreaLeft" fmla="*/ 118440 w 185040"/>
                <a:gd name="textAreaRight" fmla="*/ 185400 w 185040"/>
                <a:gd name="textAreaTop" fmla="*/ 4320 h 1097280"/>
                <a:gd name="textAreaBottom" fmla="*/ 1092960 h 109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37"/>
                    <a:pt x="10800" y="273"/>
                  </a:cubicBezTo>
                  <a:lnTo>
                    <a:pt x="10800" y="10527"/>
                  </a:lnTo>
                  <a:cubicBezTo>
                    <a:pt x="10800" y="10664"/>
                    <a:pt x="5400" y="10800"/>
                    <a:pt x="0" y="10800"/>
                  </a:cubicBezTo>
                  <a:cubicBezTo>
                    <a:pt x="5400" y="10800"/>
                    <a:pt x="10800" y="10937"/>
                    <a:pt x="10800" y="11073"/>
                  </a:cubicBezTo>
                  <a:lnTo>
                    <a:pt x="10800" y="21327"/>
                  </a:lnTo>
                  <a:cubicBezTo>
                    <a:pt x="10800" y="21464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8" name="TextBox 3"/>
            <p:cNvSpPr/>
            <p:nvPr/>
          </p:nvSpPr>
          <p:spPr>
            <a:xfrm>
              <a:off x="1768320" y="2655720"/>
              <a:ext cx="310356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xiǔ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（一宿 两宿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sù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（住宿  宿舍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49" name="TextBox 13"/>
          <p:cNvSpPr/>
          <p:nvPr/>
        </p:nvSpPr>
        <p:spPr>
          <a:xfrm>
            <a:off x="5224320" y="2933640"/>
            <a:ext cx="56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0" name="组合 5"/>
          <p:cNvGrpSpPr/>
          <p:nvPr/>
        </p:nvGrpSpPr>
        <p:grpSpPr>
          <a:xfrm>
            <a:off x="5686560" y="2494080"/>
            <a:ext cx="2741400" cy="1373400"/>
            <a:chOff x="5686560" y="2494080"/>
            <a:chExt cx="2741400" cy="1373400"/>
          </a:xfrm>
        </p:grpSpPr>
        <p:sp>
          <p:nvSpPr>
            <p:cNvPr id="651" name="左大括号 14"/>
            <p:cNvSpPr/>
            <p:nvPr/>
          </p:nvSpPr>
          <p:spPr>
            <a:xfrm>
              <a:off x="5686560" y="2712960"/>
              <a:ext cx="150480" cy="950760"/>
            </a:xfrm>
            <a:custGeom>
              <a:avLst/>
              <a:gdLst>
                <a:gd name="textAreaLeft" fmla="*/ 96120 w 150480"/>
                <a:gd name="textAreaRight" fmla="*/ 150840 w 150480"/>
                <a:gd name="textAreaTop" fmla="*/ 3600 h 950760"/>
                <a:gd name="textAreaBottom" fmla="*/ 947160 h 950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43"/>
                    <a:pt x="10800" y="285"/>
                  </a:cubicBezTo>
                  <a:lnTo>
                    <a:pt x="10800" y="10515"/>
                  </a:lnTo>
                  <a:cubicBezTo>
                    <a:pt x="10800" y="10658"/>
                    <a:pt x="5400" y="10800"/>
                    <a:pt x="0" y="10800"/>
                  </a:cubicBezTo>
                  <a:cubicBezTo>
                    <a:pt x="5400" y="10800"/>
                    <a:pt x="10800" y="10943"/>
                    <a:pt x="10800" y="11085"/>
                  </a:cubicBezTo>
                  <a:lnTo>
                    <a:pt x="10800" y="21315"/>
                  </a:lnTo>
                  <a:cubicBezTo>
                    <a:pt x="10800" y="21458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2" name="TextBox 15"/>
            <p:cNvSpPr/>
            <p:nvPr/>
          </p:nvSpPr>
          <p:spPr>
            <a:xfrm>
              <a:off x="5821200" y="2494080"/>
              <a:ext cx="260676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shì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（似的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sì</a:t>
              </a:r>
              <a:r>
                <a:rPr b="1" lang="zh-CN" sz="28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（似乎 好似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53" name="组合 2"/>
          <p:cNvGrpSpPr/>
          <p:nvPr/>
        </p:nvGrpSpPr>
        <p:grpSpPr>
          <a:xfrm>
            <a:off x="614520" y="1368360"/>
            <a:ext cx="2904840" cy="666720"/>
            <a:chOff x="614520" y="1368360"/>
            <a:chExt cx="2904840" cy="666720"/>
          </a:xfrm>
        </p:grpSpPr>
        <p:sp>
          <p:nvSpPr>
            <p:cNvPr id="654" name="圆角矩形 18"/>
            <p:cNvSpPr/>
            <p:nvPr/>
          </p:nvSpPr>
          <p:spPr>
            <a:xfrm>
              <a:off x="1430280" y="1506240"/>
              <a:ext cx="208908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fcee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55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614520" y="136836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6" name="文本框 16"/>
            <p:cNvSpPr/>
            <p:nvPr/>
          </p:nvSpPr>
          <p:spPr>
            <a:xfrm>
              <a:off x="1689840" y="1525320"/>
              <a:ext cx="1752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多音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7" name="矩形 1"/>
          <p:cNvSpPr/>
          <p:nvPr/>
        </p:nvSpPr>
        <p:spPr>
          <a:xfrm>
            <a:off x="1781280" y="3544920"/>
            <a:ext cx="473040" cy="385560"/>
          </a:xfrm>
          <a:prstGeom prst="rect">
            <a:avLst/>
          </a:prstGeom>
          <a:gradFill rotWithShape="0">
            <a:gsLst>
              <a:gs pos="0">
                <a:srgbClr val="3f7fce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矩形 3"/>
          <p:cNvSpPr/>
          <p:nvPr/>
        </p:nvSpPr>
        <p:spPr>
          <a:xfrm>
            <a:off x="2577960" y="3544920"/>
            <a:ext cx="1727280" cy="385560"/>
          </a:xfrm>
          <a:prstGeom prst="rect">
            <a:avLst/>
          </a:prstGeom>
          <a:gradFill rotWithShape="0">
            <a:gsLst>
              <a:gs pos="0">
                <a:srgbClr val="3f7fce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矩形 6"/>
          <p:cNvSpPr/>
          <p:nvPr/>
        </p:nvSpPr>
        <p:spPr>
          <a:xfrm>
            <a:off x="5931000" y="2712960"/>
            <a:ext cx="473040" cy="385920"/>
          </a:xfrm>
          <a:prstGeom prst="rect">
            <a:avLst/>
          </a:prstGeom>
          <a:gradFill rotWithShape="0">
            <a:gsLst>
              <a:gs pos="0">
                <a:srgbClr val="3f7fce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矩形 7"/>
          <p:cNvSpPr/>
          <p:nvPr/>
        </p:nvSpPr>
        <p:spPr>
          <a:xfrm>
            <a:off x="2577960" y="2933640"/>
            <a:ext cx="1727280" cy="385920"/>
          </a:xfrm>
          <a:prstGeom prst="rect">
            <a:avLst/>
          </a:prstGeom>
          <a:gradFill rotWithShape="0">
            <a:gsLst>
              <a:gs pos="0">
                <a:srgbClr val="3f7fce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矩形 8"/>
          <p:cNvSpPr/>
          <p:nvPr/>
        </p:nvSpPr>
        <p:spPr>
          <a:xfrm>
            <a:off x="6515280" y="2712960"/>
            <a:ext cx="1726920" cy="385920"/>
          </a:xfrm>
          <a:prstGeom prst="rect">
            <a:avLst/>
          </a:prstGeom>
          <a:gradFill rotWithShape="0">
            <a:gsLst>
              <a:gs pos="0">
                <a:srgbClr val="3f7fce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矩形 9"/>
          <p:cNvSpPr/>
          <p:nvPr/>
        </p:nvSpPr>
        <p:spPr>
          <a:xfrm>
            <a:off x="5931000" y="3319560"/>
            <a:ext cx="473040" cy="385560"/>
          </a:xfrm>
          <a:prstGeom prst="rect">
            <a:avLst/>
          </a:prstGeom>
          <a:gradFill rotWithShape="0">
            <a:gsLst>
              <a:gs pos="0">
                <a:srgbClr val="3f7fce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矩形 10"/>
          <p:cNvSpPr/>
          <p:nvPr/>
        </p:nvSpPr>
        <p:spPr>
          <a:xfrm>
            <a:off x="6515280" y="3276720"/>
            <a:ext cx="1726920" cy="473040"/>
          </a:xfrm>
          <a:prstGeom prst="rect">
            <a:avLst/>
          </a:prstGeom>
          <a:gradFill rotWithShape="0">
            <a:gsLst>
              <a:gs pos="0">
                <a:srgbClr val="3f7fce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9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4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4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9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4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9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4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Text Box 5"/>
          <p:cNvSpPr/>
          <p:nvPr/>
        </p:nvSpPr>
        <p:spPr>
          <a:xfrm>
            <a:off x="974880" y="1038240"/>
            <a:ext cx="6064200" cy="44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夜宿山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（唐）李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危楼高百尺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手可摘星辰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不敢高声语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恐惊天上人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5" name="组合 8"/>
          <p:cNvGrpSpPr/>
          <p:nvPr/>
        </p:nvGrpSpPr>
        <p:grpSpPr>
          <a:xfrm>
            <a:off x="3521160" y="2422440"/>
            <a:ext cx="977760" cy="2670120"/>
            <a:chOff x="3521160" y="2422440"/>
            <a:chExt cx="977760" cy="2670120"/>
          </a:xfrm>
        </p:grpSpPr>
        <p:sp>
          <p:nvSpPr>
            <p:cNvPr id="666" name="直接连接符 1"/>
            <p:cNvSpPr/>
            <p:nvPr/>
          </p:nvSpPr>
          <p:spPr>
            <a:xfrm flipH="1">
              <a:off x="3521160" y="3118680"/>
              <a:ext cx="108000" cy="620640"/>
            </a:xfrm>
            <a:prstGeom prst="line">
              <a:avLst/>
            </a:prstGeom>
            <a:ln w="255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7" name="直接连接符 2"/>
            <p:cNvSpPr/>
            <p:nvPr/>
          </p:nvSpPr>
          <p:spPr>
            <a:xfrm flipH="1">
              <a:off x="3521160" y="2422440"/>
              <a:ext cx="108000" cy="620640"/>
            </a:xfrm>
            <a:prstGeom prst="line">
              <a:avLst/>
            </a:prstGeom>
            <a:ln w="255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8" name="直接连接符 3"/>
            <p:cNvSpPr/>
            <p:nvPr/>
          </p:nvSpPr>
          <p:spPr>
            <a:xfrm flipH="1">
              <a:off x="3521160" y="3838320"/>
              <a:ext cx="108000" cy="620640"/>
            </a:xfrm>
            <a:prstGeom prst="line">
              <a:avLst/>
            </a:prstGeom>
            <a:ln w="255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9" name="直接连接符 4"/>
            <p:cNvSpPr/>
            <p:nvPr/>
          </p:nvSpPr>
          <p:spPr>
            <a:xfrm flipH="1">
              <a:off x="3521160" y="4471920"/>
              <a:ext cx="108000" cy="620640"/>
            </a:xfrm>
            <a:prstGeom prst="line">
              <a:avLst/>
            </a:prstGeom>
            <a:ln w="255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0" name="直接连接符 5"/>
            <p:cNvSpPr/>
            <p:nvPr/>
          </p:nvSpPr>
          <p:spPr>
            <a:xfrm flipH="1">
              <a:off x="3952080" y="2422440"/>
              <a:ext cx="107640" cy="620640"/>
            </a:xfrm>
            <a:prstGeom prst="line">
              <a:avLst/>
            </a:prstGeom>
            <a:ln w="255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1" name="直接连接符 6"/>
            <p:cNvSpPr/>
            <p:nvPr/>
          </p:nvSpPr>
          <p:spPr>
            <a:xfrm flipH="1">
              <a:off x="3952080" y="3118680"/>
              <a:ext cx="107640" cy="620640"/>
            </a:xfrm>
            <a:prstGeom prst="line">
              <a:avLst/>
            </a:prstGeom>
            <a:ln w="255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2" name="直接连接符 7"/>
            <p:cNvSpPr/>
            <p:nvPr/>
          </p:nvSpPr>
          <p:spPr>
            <a:xfrm flipH="1">
              <a:off x="4390920" y="3850920"/>
              <a:ext cx="108000" cy="620640"/>
            </a:xfrm>
            <a:prstGeom prst="line">
              <a:avLst/>
            </a:prstGeom>
            <a:ln w="2556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3" name="文本框 9"/>
          <p:cNvSpPr/>
          <p:nvPr/>
        </p:nvSpPr>
        <p:spPr>
          <a:xfrm>
            <a:off x="1654200" y="5527800"/>
            <a:ext cx="66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思考：李白在夜晚看到的山寺是怎样的？你从哪里感受到的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图片 1" descr=""/>
          <p:cNvPicPr/>
          <p:nvPr/>
        </p:nvPicPr>
        <p:blipFill>
          <a:blip r:embed="rId1"/>
          <a:stretch/>
        </p:blipFill>
        <p:spPr>
          <a:xfrm>
            <a:off x="82440" y="954000"/>
            <a:ext cx="5456520" cy="5456160"/>
          </a:xfrm>
          <a:prstGeom prst="rect">
            <a:avLst/>
          </a:prstGeom>
          <a:ln w="0">
            <a:noFill/>
          </a:ln>
        </p:spPr>
      </p:pic>
      <p:sp>
        <p:nvSpPr>
          <p:cNvPr id="675" name="文本框 2"/>
          <p:cNvSpPr/>
          <p:nvPr/>
        </p:nvSpPr>
        <p:spPr>
          <a:xfrm>
            <a:off x="5967360" y="2936880"/>
            <a:ext cx="297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宋体"/>
              </a:rPr>
              <a:t>危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楼高百尺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手可摘星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  <a:ea typeface="宋体"/>
              </a:rPr>
              <a:t>辰</a:t>
            </a:r>
            <a:r>
              <a:rPr b="0" lang="zh-CN" sz="36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文本框 1"/>
          <p:cNvSpPr/>
          <p:nvPr/>
        </p:nvSpPr>
        <p:spPr>
          <a:xfrm>
            <a:off x="6192720" y="5765760"/>
            <a:ext cx="252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你在生活哪些地方见到过危这个字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椭圆形标注 3"/>
          <p:cNvSpPr/>
          <p:nvPr/>
        </p:nvSpPr>
        <p:spPr>
          <a:xfrm>
            <a:off x="5459400" y="1617840"/>
            <a:ext cx="3019320" cy="1190520"/>
          </a:xfrm>
          <a:prstGeom prst="wedgeEllipseCallout">
            <a:avLst>
              <a:gd name="adj1" fmla="val -20833"/>
              <a:gd name="adj2" fmla="val 62500"/>
            </a:avLst>
          </a:prstGeom>
          <a:gradFill rotWithShape="0">
            <a:gsLst>
              <a:gs pos="0">
                <a:srgbClr val="3f7fce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宋体"/>
              </a:rPr>
              <a:t>处于山巅，高崖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文本框 4"/>
          <p:cNvSpPr/>
          <p:nvPr/>
        </p:nvSpPr>
        <p:spPr>
          <a:xfrm>
            <a:off x="4803840" y="450720"/>
            <a:ext cx="31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看这幅图，猜猜危的意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图片 1" descr=""/>
          <p:cNvPicPr/>
          <p:nvPr/>
        </p:nvPicPr>
        <p:blipFill>
          <a:blip r:embed="rId1"/>
          <a:srcRect l="26561" t="0" r="51594" b="0"/>
          <a:stretch/>
        </p:blipFill>
        <p:spPr>
          <a:xfrm>
            <a:off x="157320" y="928800"/>
            <a:ext cx="3319200" cy="4248000"/>
          </a:xfrm>
          <a:prstGeom prst="rect">
            <a:avLst/>
          </a:prstGeom>
          <a:ln w="0">
            <a:noFill/>
          </a:ln>
        </p:spPr>
      </p:pic>
      <p:sp>
        <p:nvSpPr>
          <p:cNvPr id="680" name="文本框 2"/>
          <p:cNvSpPr/>
          <p:nvPr/>
        </p:nvSpPr>
        <p:spPr>
          <a:xfrm>
            <a:off x="3664080" y="2160720"/>
            <a:ext cx="5781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危”本义是表示“高”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危楼”即指“高楼”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1" name="Group 4"/>
          <p:cNvGrpSpPr/>
          <p:nvPr/>
        </p:nvGrpSpPr>
        <p:grpSpPr>
          <a:xfrm>
            <a:off x="4780080" y="3227400"/>
            <a:ext cx="2879640" cy="2879640"/>
            <a:chOff x="4780080" y="3227400"/>
            <a:chExt cx="2879640" cy="2879640"/>
          </a:xfrm>
        </p:grpSpPr>
        <p:sp>
          <p:nvSpPr>
            <p:cNvPr id="682" name="Rectangle 5"/>
            <p:cNvSpPr/>
            <p:nvPr/>
          </p:nvSpPr>
          <p:spPr>
            <a:xfrm>
              <a:off x="6219720" y="465552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3" name="Rectangle 6"/>
            <p:cNvSpPr/>
            <p:nvPr/>
          </p:nvSpPr>
          <p:spPr>
            <a:xfrm>
              <a:off x="4780080" y="465552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4" name="Rectangle 7"/>
            <p:cNvSpPr/>
            <p:nvPr/>
          </p:nvSpPr>
          <p:spPr>
            <a:xfrm>
              <a:off x="6219720" y="322740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5" name="Rectangle 8"/>
            <p:cNvSpPr/>
            <p:nvPr/>
          </p:nvSpPr>
          <p:spPr>
            <a:xfrm>
              <a:off x="4780080" y="322740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6" name="Line 9"/>
            <p:cNvSpPr/>
            <p:nvPr/>
          </p:nvSpPr>
          <p:spPr>
            <a:xfrm>
              <a:off x="4780080" y="322740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7" name="Line 10"/>
            <p:cNvSpPr/>
            <p:nvPr/>
          </p:nvSpPr>
          <p:spPr>
            <a:xfrm>
              <a:off x="4780080" y="610704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8" name="Line 11"/>
            <p:cNvSpPr/>
            <p:nvPr/>
          </p:nvSpPr>
          <p:spPr>
            <a:xfrm>
              <a:off x="4780080" y="322740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89" name="Line 12"/>
            <p:cNvSpPr/>
            <p:nvPr/>
          </p:nvSpPr>
          <p:spPr>
            <a:xfrm>
              <a:off x="7659720" y="322740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0" name="Line 13"/>
            <p:cNvSpPr/>
            <p:nvPr/>
          </p:nvSpPr>
          <p:spPr>
            <a:xfrm>
              <a:off x="4780080" y="465552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91" name="Line 14"/>
            <p:cNvSpPr/>
            <p:nvPr/>
          </p:nvSpPr>
          <p:spPr>
            <a:xfrm>
              <a:off x="6219720" y="322740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92" name="文本框 34832"/>
          <p:cNvSpPr/>
          <p:nvPr/>
        </p:nvSpPr>
        <p:spPr>
          <a:xfrm>
            <a:off x="5052960" y="3227400"/>
            <a:ext cx="19256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200" spc="-1" strike="noStrike">
                <a:solidFill>
                  <a:srgbClr val="ff3300"/>
                </a:solidFill>
                <a:latin typeface="Calibri"/>
                <a:ea typeface="楷体_GB2312"/>
              </a:rPr>
              <a:t>危</a:t>
            </a:r>
            <a:endParaRPr b="0" lang="en-US" sz="1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文本框 1"/>
          <p:cNvSpPr/>
          <p:nvPr/>
        </p:nvSpPr>
        <p:spPr>
          <a:xfrm>
            <a:off x="3395520" y="998640"/>
            <a:ext cx="303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7200" spc="-1" strike="noStrike">
                <a:solidFill>
                  <a:srgbClr val="0000ff"/>
                </a:solidFill>
                <a:latin typeface="Calibri"/>
                <a:ea typeface="宋体"/>
              </a:rPr>
              <a:t>危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4" name="图片 2" descr=""/>
          <p:cNvPicPr/>
          <p:nvPr/>
        </p:nvPicPr>
        <p:blipFill>
          <a:blip r:embed="rId1"/>
          <a:stretch/>
        </p:blipFill>
        <p:spPr>
          <a:xfrm>
            <a:off x="668160" y="1384200"/>
            <a:ext cx="1576440" cy="1922400"/>
          </a:xfrm>
          <a:prstGeom prst="rect">
            <a:avLst/>
          </a:prstGeom>
          <a:ln w="0">
            <a:noFill/>
          </a:ln>
        </p:spPr>
      </p:pic>
      <p:pic>
        <p:nvPicPr>
          <p:cNvPr id="695" name="图片 3" descr=""/>
          <p:cNvPicPr/>
          <p:nvPr/>
        </p:nvPicPr>
        <p:blipFill>
          <a:blip r:embed="rId2"/>
          <a:stretch/>
        </p:blipFill>
        <p:spPr>
          <a:xfrm>
            <a:off x="814320" y="3583080"/>
            <a:ext cx="2963880" cy="1866960"/>
          </a:xfrm>
          <a:prstGeom prst="rect">
            <a:avLst/>
          </a:prstGeom>
          <a:ln w="0">
            <a:noFill/>
          </a:ln>
        </p:spPr>
      </p:pic>
      <p:pic>
        <p:nvPicPr>
          <p:cNvPr id="696" name="图片 4" descr=""/>
          <p:cNvPicPr/>
          <p:nvPr/>
        </p:nvPicPr>
        <p:blipFill>
          <a:blip r:embed="rId3"/>
          <a:stretch/>
        </p:blipFill>
        <p:spPr>
          <a:xfrm>
            <a:off x="5700600" y="1144440"/>
            <a:ext cx="2808360" cy="2108520"/>
          </a:xfrm>
          <a:prstGeom prst="rect">
            <a:avLst/>
          </a:prstGeom>
          <a:ln w="0">
            <a:noFill/>
          </a:ln>
        </p:spPr>
      </p:pic>
      <p:pic>
        <p:nvPicPr>
          <p:cNvPr id="697" name="图片 5" descr=""/>
          <p:cNvPicPr/>
          <p:nvPr/>
        </p:nvPicPr>
        <p:blipFill>
          <a:blip r:embed="rId4"/>
          <a:stretch/>
        </p:blipFill>
        <p:spPr>
          <a:xfrm>
            <a:off x="4915080" y="3362400"/>
            <a:ext cx="1989000" cy="2557440"/>
          </a:xfrm>
          <a:prstGeom prst="rect">
            <a:avLst/>
          </a:prstGeom>
          <a:ln w="0">
            <a:noFill/>
          </a:ln>
        </p:spPr>
      </p:pic>
      <p:sp>
        <p:nvSpPr>
          <p:cNvPr id="698" name="文本框 6"/>
          <p:cNvSpPr/>
          <p:nvPr/>
        </p:nvSpPr>
        <p:spPr>
          <a:xfrm>
            <a:off x="3187800" y="2328840"/>
            <a:ext cx="17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Calibri"/>
                <a:ea typeface="宋体"/>
              </a:rPr>
              <a:t>危险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圆角矩形 4"/>
          <p:cNvSpPr/>
          <p:nvPr/>
        </p:nvSpPr>
        <p:spPr>
          <a:xfrm>
            <a:off x="3425760" y="2486160"/>
            <a:ext cx="970200" cy="5382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ff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圆角矩形 5"/>
          <p:cNvSpPr/>
          <p:nvPr/>
        </p:nvSpPr>
        <p:spPr>
          <a:xfrm>
            <a:off x="6183360" y="2486160"/>
            <a:ext cx="927000" cy="5382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ff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圆角矩形 6"/>
          <p:cNvSpPr/>
          <p:nvPr/>
        </p:nvSpPr>
        <p:spPr>
          <a:xfrm>
            <a:off x="2050920" y="2486160"/>
            <a:ext cx="911520" cy="53820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ff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矩形 1"/>
          <p:cNvSpPr/>
          <p:nvPr/>
        </p:nvSpPr>
        <p:spPr>
          <a:xfrm>
            <a:off x="4625280" y="243216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危楼高百尺，手可摘星辰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矩形 8"/>
          <p:cNvSpPr/>
          <p:nvPr/>
        </p:nvSpPr>
        <p:spPr>
          <a:xfrm>
            <a:off x="1585800" y="1773360"/>
            <a:ext cx="1567080" cy="398880"/>
          </a:xfrm>
          <a:prstGeom prst="rect">
            <a:avLst/>
          </a:prstGeom>
          <a:noFill/>
          <a:ln w="9360">
            <a:solidFill>
              <a:srgbClr val="00a4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危楼：高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矩形 9"/>
          <p:cNvSpPr/>
          <p:nvPr/>
        </p:nvSpPr>
        <p:spPr>
          <a:xfrm>
            <a:off x="4997520" y="1539720"/>
            <a:ext cx="2351160" cy="398880"/>
          </a:xfrm>
          <a:prstGeom prst="rect">
            <a:avLst/>
          </a:prstGeom>
          <a:noFill/>
          <a:ln w="9360">
            <a:solidFill>
              <a:srgbClr val="00a4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星辰：日、月、星的总称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矩形 10"/>
          <p:cNvSpPr/>
          <p:nvPr/>
        </p:nvSpPr>
        <p:spPr>
          <a:xfrm>
            <a:off x="5850000" y="3692520"/>
            <a:ext cx="1839960" cy="1099440"/>
          </a:xfrm>
          <a:prstGeom prst="rect">
            <a:avLst/>
          </a:prstGeom>
          <a:noFill/>
          <a:ln w="9360">
            <a:solidFill>
              <a:srgbClr val="00a4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夸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矩形 11"/>
          <p:cNvSpPr/>
          <p:nvPr/>
        </p:nvSpPr>
        <p:spPr>
          <a:xfrm>
            <a:off x="1585800" y="3230640"/>
            <a:ext cx="3683160" cy="551160"/>
          </a:xfrm>
          <a:prstGeom prst="rect">
            <a:avLst/>
          </a:prstGeom>
          <a:noFill/>
          <a:ln w="9360">
            <a:solidFill>
              <a:srgbClr val="00a4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百尺：百尺：虚指，不是实数，这里形容楼很高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文本框 35850"/>
          <p:cNvSpPr/>
          <p:nvPr/>
        </p:nvSpPr>
        <p:spPr>
          <a:xfrm>
            <a:off x="1343160" y="4915080"/>
            <a:ext cx="610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alibri"/>
                <a:ea typeface="宋体"/>
              </a:rPr>
              <a:t>飞流住下三千尺，疑是银河落九天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文本框 35851"/>
          <p:cNvSpPr/>
          <p:nvPr/>
        </p:nvSpPr>
        <p:spPr>
          <a:xfrm>
            <a:off x="1585800" y="5526000"/>
            <a:ext cx="610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alibri"/>
                <a:ea typeface="宋体"/>
              </a:rPr>
              <a:t>桃花潭水深千尺，不及汪伦送我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文本框 1"/>
          <p:cNvSpPr/>
          <p:nvPr/>
        </p:nvSpPr>
        <p:spPr>
          <a:xfrm>
            <a:off x="2225520" y="222120"/>
            <a:ext cx="512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从这句话中的哪些词语，你感受到楼很高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圆角矩形 8"/>
          <p:cNvSpPr/>
          <p:nvPr/>
        </p:nvSpPr>
        <p:spPr>
          <a:xfrm>
            <a:off x="3016080" y="3198960"/>
            <a:ext cx="1427400" cy="5378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ff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圆角矩形 11"/>
          <p:cNvSpPr/>
          <p:nvPr/>
        </p:nvSpPr>
        <p:spPr>
          <a:xfrm>
            <a:off x="5246640" y="3198960"/>
            <a:ext cx="541440" cy="53784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ff00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矩形 1"/>
          <p:cNvSpPr/>
          <p:nvPr/>
        </p:nvSpPr>
        <p:spPr>
          <a:xfrm>
            <a:off x="3570840" y="3139920"/>
            <a:ext cx="259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不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敢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高声语，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恐惊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天上人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矩形 13"/>
          <p:cNvSpPr/>
          <p:nvPr/>
        </p:nvSpPr>
        <p:spPr>
          <a:xfrm>
            <a:off x="1415880" y="2265480"/>
            <a:ext cx="2903760" cy="459720"/>
          </a:xfrm>
          <a:prstGeom prst="rect">
            <a:avLst/>
          </a:prstGeom>
          <a:noFill/>
          <a:ln w="9360">
            <a:solidFill>
              <a:srgbClr val="00a4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高声语：大声说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矩形 15"/>
          <p:cNvSpPr/>
          <p:nvPr/>
        </p:nvSpPr>
        <p:spPr>
          <a:xfrm>
            <a:off x="5398920" y="2265480"/>
            <a:ext cx="1616400" cy="459720"/>
          </a:xfrm>
          <a:prstGeom prst="rect">
            <a:avLst/>
          </a:prstGeom>
          <a:noFill/>
          <a:ln w="9360">
            <a:solidFill>
              <a:srgbClr val="00a4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惊：惊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直接连接符 37897"/>
          <p:cNvSpPr/>
          <p:nvPr/>
        </p:nvSpPr>
        <p:spPr>
          <a:xfrm>
            <a:off x="4846680" y="3786120"/>
            <a:ext cx="9414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椭圆形标注 37898"/>
          <p:cNvSpPr/>
          <p:nvPr/>
        </p:nvSpPr>
        <p:spPr>
          <a:xfrm>
            <a:off x="5068800" y="3924360"/>
            <a:ext cx="1535040" cy="914400"/>
          </a:xfrm>
          <a:prstGeom prst="wedgeEllipseCallout">
            <a:avLst>
              <a:gd name="adj1" fmla="val -33143"/>
              <a:gd name="adj2" fmla="val -67537"/>
            </a:avLst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文本框 37899"/>
          <p:cNvSpPr/>
          <p:nvPr/>
        </p:nvSpPr>
        <p:spPr>
          <a:xfrm>
            <a:off x="5108400" y="4232160"/>
            <a:ext cx="135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Calibri"/>
                <a:ea typeface="宋体"/>
              </a:rPr>
              <a:t>担心惊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直接连接符 37900"/>
          <p:cNvSpPr/>
          <p:nvPr/>
        </p:nvSpPr>
        <p:spPr>
          <a:xfrm>
            <a:off x="6113520" y="3786120"/>
            <a:ext cx="11872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椭圆形标注 37901"/>
          <p:cNvSpPr/>
          <p:nvPr/>
        </p:nvSpPr>
        <p:spPr>
          <a:xfrm>
            <a:off x="7300800" y="2727360"/>
            <a:ext cx="1175040" cy="1009440"/>
          </a:xfrm>
          <a:prstGeom prst="wedgeEllipseCallout">
            <a:avLst>
              <a:gd name="adj1" fmla="val -58916"/>
              <a:gd name="adj2" fmla="val 28143"/>
            </a:avLst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文本框 37902"/>
          <p:cNvSpPr/>
          <p:nvPr/>
        </p:nvSpPr>
        <p:spPr>
          <a:xfrm>
            <a:off x="7300800" y="3014640"/>
            <a:ext cx="117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Calibri"/>
                <a:ea typeface="宋体"/>
              </a:rPr>
              <a:t>天上神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等腰三角形 37903"/>
          <p:cNvSpPr/>
          <p:nvPr/>
        </p:nvSpPr>
        <p:spPr>
          <a:xfrm>
            <a:off x="2714760" y="3736800"/>
            <a:ext cx="299880" cy="13824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文本框 1"/>
          <p:cNvSpPr/>
          <p:nvPr/>
        </p:nvSpPr>
        <p:spPr>
          <a:xfrm>
            <a:off x="1606680" y="173160"/>
            <a:ext cx="473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文中还有那句话用了夸张的手法说明楼很高？李白夸张地说什么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Text Box 5"/>
          <p:cNvSpPr/>
          <p:nvPr/>
        </p:nvSpPr>
        <p:spPr>
          <a:xfrm>
            <a:off x="1735200" y="934920"/>
            <a:ext cx="33940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夜宿山寺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仿宋"/>
                <a:ea typeface="仿宋"/>
              </a:rPr>
              <a:t>（唐）李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文本框 31752"/>
          <p:cNvSpPr/>
          <p:nvPr/>
        </p:nvSpPr>
        <p:spPr>
          <a:xfrm>
            <a:off x="2048040" y="2949480"/>
            <a:ext cx="3711240" cy="13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危楼高百尺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文本框 31753"/>
          <p:cNvSpPr/>
          <p:nvPr/>
        </p:nvSpPr>
        <p:spPr>
          <a:xfrm>
            <a:off x="2048040" y="3575160"/>
            <a:ext cx="3274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手可摘星辰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文本框 31754"/>
          <p:cNvSpPr/>
          <p:nvPr/>
        </p:nvSpPr>
        <p:spPr>
          <a:xfrm>
            <a:off x="2048040" y="4216320"/>
            <a:ext cx="3274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不敢高声语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文本框 31755"/>
          <p:cNvSpPr/>
          <p:nvPr/>
        </p:nvSpPr>
        <p:spPr>
          <a:xfrm>
            <a:off x="2048040" y="4857840"/>
            <a:ext cx="327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恐惊天上人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601" name="矩形 3"/>
          <p:cNvSpPr/>
          <p:nvPr/>
        </p:nvSpPr>
        <p:spPr>
          <a:xfrm>
            <a:off x="2657520" y="1660680"/>
            <a:ext cx="4579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Calibri"/>
                <a:ea typeface="黑体"/>
              </a:rPr>
              <a:t>夜宿山寺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等腰三角形 5"/>
          <p:cNvSpPr/>
          <p:nvPr/>
        </p:nvSpPr>
        <p:spPr>
          <a:xfrm>
            <a:off x="3908520" y="2689200"/>
            <a:ext cx="295200" cy="3873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d1403c"/>
              </a:gs>
              <a:gs pos="100000">
                <a:srgbClr val="ff9a99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等腰三角形 10"/>
          <p:cNvSpPr/>
          <p:nvPr/>
        </p:nvSpPr>
        <p:spPr>
          <a:xfrm>
            <a:off x="5749920" y="2646360"/>
            <a:ext cx="326880" cy="430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d1403c"/>
              </a:gs>
              <a:gs pos="100000">
                <a:srgbClr val="ff9a99"/>
              </a:gs>
            </a:gsLst>
            <a:lin ang="1620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文本框 1"/>
          <p:cNvSpPr/>
          <p:nvPr/>
        </p:nvSpPr>
        <p:spPr>
          <a:xfrm>
            <a:off x="1168560" y="3386160"/>
            <a:ext cx="606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时间：夜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地点：山中寺庙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椭圆形标注 2"/>
          <p:cNvSpPr/>
          <p:nvPr/>
        </p:nvSpPr>
        <p:spPr>
          <a:xfrm>
            <a:off x="4541760" y="723960"/>
            <a:ext cx="1535040" cy="936720"/>
          </a:xfrm>
          <a:prstGeom prst="wedgeEllipseCallout">
            <a:avLst>
              <a:gd name="adj1" fmla="val -59615"/>
              <a:gd name="adj2" fmla="val 85592"/>
            </a:avLst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借宿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文本框 26632"/>
          <p:cNvSpPr/>
          <p:nvPr/>
        </p:nvSpPr>
        <p:spPr>
          <a:xfrm>
            <a:off x="3787920" y="1339920"/>
            <a:ext cx="83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alibri"/>
              </a:rPr>
              <a:t>s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文本框 26633"/>
          <p:cNvSpPr/>
          <p:nvPr/>
        </p:nvSpPr>
        <p:spPr>
          <a:xfrm>
            <a:off x="5749920" y="1339920"/>
            <a:ext cx="112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alibri"/>
              </a:rPr>
              <a:t>s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文本框 1"/>
          <p:cNvSpPr/>
          <p:nvPr/>
        </p:nvSpPr>
        <p:spPr>
          <a:xfrm>
            <a:off x="1177920" y="4856040"/>
            <a:ext cx="678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湖北</a:t>
            </a:r>
            <a:r>
              <a:rPr b="0" lang="zh-CN" sz="3200" spc="-1" strike="noStrike">
                <a:solidFill>
                  <a:srgbClr val="1f497d"/>
                </a:solidFill>
                <a:latin typeface="华文楷体"/>
                <a:ea typeface="华文楷体"/>
              </a:rPr>
              <a:t>省黄梅县所作，写的是黄梅县蔡山峰顶山的</a:t>
            </a:r>
            <a:r>
              <a:rPr b="0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江心寺</a:t>
            </a:r>
            <a:r>
              <a:rPr b="0" lang="zh-CN" sz="3200" spc="-1" strike="noStrike">
                <a:solidFill>
                  <a:srgbClr val="1f497d"/>
                </a:solidFill>
                <a:latin typeface="华文楷体"/>
                <a:ea typeface="华文楷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Freeform 36"/>
          <p:cNvSpPr/>
          <p:nvPr/>
        </p:nvSpPr>
        <p:spPr>
          <a:xfrm>
            <a:off x="5770440" y="2340000"/>
            <a:ext cx="549360" cy="460440"/>
          </a:xfrm>
          <a:custGeom>
            <a:avLst/>
            <a:gdLst/>
            <a:ahLst/>
            <a:rect l="l" t="t" r="r" b="b"/>
            <a:pathLst>
              <a:path w="865" h="724">
                <a:moveTo>
                  <a:pt x="102" y="336"/>
                </a:moveTo>
                <a:lnTo>
                  <a:pt x="76" y="326"/>
                </a:lnTo>
                <a:lnTo>
                  <a:pt x="64" y="321"/>
                </a:lnTo>
                <a:lnTo>
                  <a:pt x="52" y="314"/>
                </a:lnTo>
                <a:lnTo>
                  <a:pt x="40" y="305"/>
                </a:lnTo>
                <a:lnTo>
                  <a:pt x="31" y="295"/>
                </a:lnTo>
                <a:lnTo>
                  <a:pt x="24" y="286"/>
                </a:lnTo>
                <a:lnTo>
                  <a:pt x="21" y="279"/>
                </a:lnTo>
                <a:lnTo>
                  <a:pt x="19" y="271"/>
                </a:lnTo>
                <a:lnTo>
                  <a:pt x="12" y="262"/>
                </a:lnTo>
                <a:lnTo>
                  <a:pt x="5" y="255"/>
                </a:lnTo>
                <a:lnTo>
                  <a:pt x="2" y="248"/>
                </a:lnTo>
                <a:lnTo>
                  <a:pt x="0" y="240"/>
                </a:lnTo>
                <a:lnTo>
                  <a:pt x="0" y="236"/>
                </a:lnTo>
                <a:lnTo>
                  <a:pt x="0" y="231"/>
                </a:lnTo>
                <a:lnTo>
                  <a:pt x="2" y="224"/>
                </a:lnTo>
                <a:lnTo>
                  <a:pt x="7" y="219"/>
                </a:lnTo>
                <a:lnTo>
                  <a:pt x="12" y="219"/>
                </a:lnTo>
                <a:lnTo>
                  <a:pt x="19" y="219"/>
                </a:lnTo>
                <a:lnTo>
                  <a:pt x="31" y="219"/>
                </a:lnTo>
                <a:lnTo>
                  <a:pt x="40" y="219"/>
                </a:lnTo>
                <a:lnTo>
                  <a:pt x="55" y="217"/>
                </a:lnTo>
                <a:lnTo>
                  <a:pt x="69" y="214"/>
                </a:lnTo>
                <a:lnTo>
                  <a:pt x="86" y="212"/>
                </a:lnTo>
                <a:lnTo>
                  <a:pt x="102" y="207"/>
                </a:lnTo>
                <a:lnTo>
                  <a:pt x="110" y="207"/>
                </a:lnTo>
                <a:lnTo>
                  <a:pt x="119" y="207"/>
                </a:lnTo>
                <a:lnTo>
                  <a:pt x="129" y="205"/>
                </a:lnTo>
                <a:lnTo>
                  <a:pt x="141" y="205"/>
                </a:lnTo>
                <a:lnTo>
                  <a:pt x="150" y="202"/>
                </a:lnTo>
                <a:lnTo>
                  <a:pt x="164" y="200"/>
                </a:lnTo>
                <a:lnTo>
                  <a:pt x="179" y="198"/>
                </a:lnTo>
                <a:lnTo>
                  <a:pt x="193" y="195"/>
                </a:lnTo>
                <a:lnTo>
                  <a:pt x="210" y="193"/>
                </a:lnTo>
                <a:lnTo>
                  <a:pt x="226" y="188"/>
                </a:lnTo>
                <a:lnTo>
                  <a:pt x="243" y="186"/>
                </a:lnTo>
                <a:lnTo>
                  <a:pt x="262" y="181"/>
                </a:lnTo>
                <a:lnTo>
                  <a:pt x="281" y="174"/>
                </a:lnTo>
                <a:lnTo>
                  <a:pt x="303" y="169"/>
                </a:lnTo>
                <a:lnTo>
                  <a:pt x="324" y="162"/>
                </a:lnTo>
                <a:lnTo>
                  <a:pt x="345" y="155"/>
                </a:lnTo>
                <a:lnTo>
                  <a:pt x="367" y="148"/>
                </a:lnTo>
                <a:lnTo>
                  <a:pt x="388" y="141"/>
                </a:lnTo>
                <a:lnTo>
                  <a:pt x="407" y="133"/>
                </a:lnTo>
                <a:lnTo>
                  <a:pt x="426" y="129"/>
                </a:lnTo>
                <a:lnTo>
                  <a:pt x="446" y="121"/>
                </a:lnTo>
                <a:lnTo>
                  <a:pt x="462" y="117"/>
                </a:lnTo>
                <a:lnTo>
                  <a:pt x="477" y="110"/>
                </a:lnTo>
                <a:lnTo>
                  <a:pt x="491" y="102"/>
                </a:lnTo>
                <a:lnTo>
                  <a:pt x="505" y="98"/>
                </a:lnTo>
                <a:lnTo>
                  <a:pt x="519" y="91"/>
                </a:lnTo>
                <a:lnTo>
                  <a:pt x="529" y="86"/>
                </a:lnTo>
                <a:lnTo>
                  <a:pt x="541" y="79"/>
                </a:lnTo>
                <a:lnTo>
                  <a:pt x="550" y="72"/>
                </a:lnTo>
                <a:lnTo>
                  <a:pt x="560" y="67"/>
                </a:lnTo>
                <a:lnTo>
                  <a:pt x="567" y="60"/>
                </a:lnTo>
                <a:lnTo>
                  <a:pt x="574" y="52"/>
                </a:lnTo>
                <a:lnTo>
                  <a:pt x="579" y="45"/>
                </a:lnTo>
                <a:lnTo>
                  <a:pt x="584" y="38"/>
                </a:lnTo>
                <a:lnTo>
                  <a:pt x="593" y="26"/>
                </a:lnTo>
                <a:lnTo>
                  <a:pt x="603" y="19"/>
                </a:lnTo>
                <a:lnTo>
                  <a:pt x="610" y="12"/>
                </a:lnTo>
                <a:lnTo>
                  <a:pt x="619" y="7"/>
                </a:lnTo>
                <a:lnTo>
                  <a:pt x="629" y="2"/>
                </a:lnTo>
                <a:lnTo>
                  <a:pt x="639" y="0"/>
                </a:lnTo>
                <a:lnTo>
                  <a:pt x="648" y="0"/>
                </a:lnTo>
                <a:lnTo>
                  <a:pt x="650" y="0"/>
                </a:lnTo>
                <a:lnTo>
                  <a:pt x="653" y="0"/>
                </a:lnTo>
                <a:lnTo>
                  <a:pt x="658" y="2"/>
                </a:lnTo>
                <a:lnTo>
                  <a:pt x="662" y="2"/>
                </a:lnTo>
                <a:lnTo>
                  <a:pt x="670" y="5"/>
                </a:lnTo>
                <a:lnTo>
                  <a:pt x="674" y="7"/>
                </a:lnTo>
                <a:lnTo>
                  <a:pt x="681" y="10"/>
                </a:lnTo>
                <a:lnTo>
                  <a:pt x="691" y="12"/>
                </a:lnTo>
                <a:lnTo>
                  <a:pt x="708" y="19"/>
                </a:lnTo>
                <a:lnTo>
                  <a:pt x="727" y="26"/>
                </a:lnTo>
                <a:lnTo>
                  <a:pt x="746" y="38"/>
                </a:lnTo>
                <a:lnTo>
                  <a:pt x="758" y="45"/>
                </a:lnTo>
                <a:lnTo>
                  <a:pt x="767" y="52"/>
                </a:lnTo>
                <a:lnTo>
                  <a:pt x="789" y="67"/>
                </a:lnTo>
                <a:lnTo>
                  <a:pt x="801" y="74"/>
                </a:lnTo>
                <a:lnTo>
                  <a:pt x="808" y="81"/>
                </a:lnTo>
                <a:lnTo>
                  <a:pt x="817" y="88"/>
                </a:lnTo>
                <a:lnTo>
                  <a:pt x="824" y="95"/>
                </a:lnTo>
                <a:lnTo>
                  <a:pt x="832" y="100"/>
                </a:lnTo>
                <a:lnTo>
                  <a:pt x="839" y="107"/>
                </a:lnTo>
                <a:lnTo>
                  <a:pt x="846" y="112"/>
                </a:lnTo>
                <a:lnTo>
                  <a:pt x="851" y="119"/>
                </a:lnTo>
                <a:lnTo>
                  <a:pt x="855" y="124"/>
                </a:lnTo>
                <a:lnTo>
                  <a:pt x="858" y="129"/>
                </a:lnTo>
                <a:lnTo>
                  <a:pt x="860" y="133"/>
                </a:lnTo>
                <a:lnTo>
                  <a:pt x="863" y="136"/>
                </a:lnTo>
                <a:lnTo>
                  <a:pt x="865" y="141"/>
                </a:lnTo>
                <a:lnTo>
                  <a:pt x="865" y="143"/>
                </a:lnTo>
                <a:lnTo>
                  <a:pt x="865" y="152"/>
                </a:lnTo>
                <a:lnTo>
                  <a:pt x="860" y="162"/>
                </a:lnTo>
                <a:lnTo>
                  <a:pt x="855" y="171"/>
                </a:lnTo>
                <a:lnTo>
                  <a:pt x="848" y="179"/>
                </a:lnTo>
                <a:lnTo>
                  <a:pt x="839" y="188"/>
                </a:lnTo>
                <a:lnTo>
                  <a:pt x="829" y="195"/>
                </a:lnTo>
                <a:lnTo>
                  <a:pt x="817" y="202"/>
                </a:lnTo>
                <a:lnTo>
                  <a:pt x="805" y="207"/>
                </a:lnTo>
                <a:lnTo>
                  <a:pt x="801" y="210"/>
                </a:lnTo>
                <a:lnTo>
                  <a:pt x="798" y="212"/>
                </a:lnTo>
                <a:lnTo>
                  <a:pt x="793" y="214"/>
                </a:lnTo>
                <a:lnTo>
                  <a:pt x="789" y="219"/>
                </a:lnTo>
                <a:lnTo>
                  <a:pt x="784" y="226"/>
                </a:lnTo>
                <a:lnTo>
                  <a:pt x="779" y="231"/>
                </a:lnTo>
                <a:lnTo>
                  <a:pt x="774" y="240"/>
                </a:lnTo>
                <a:lnTo>
                  <a:pt x="767" y="248"/>
                </a:lnTo>
                <a:lnTo>
                  <a:pt x="762" y="257"/>
                </a:lnTo>
                <a:lnTo>
                  <a:pt x="755" y="267"/>
                </a:lnTo>
                <a:lnTo>
                  <a:pt x="751" y="279"/>
                </a:lnTo>
                <a:lnTo>
                  <a:pt x="743" y="290"/>
                </a:lnTo>
                <a:lnTo>
                  <a:pt x="736" y="305"/>
                </a:lnTo>
                <a:lnTo>
                  <a:pt x="729" y="319"/>
                </a:lnTo>
                <a:lnTo>
                  <a:pt x="722" y="333"/>
                </a:lnTo>
                <a:lnTo>
                  <a:pt x="715" y="350"/>
                </a:lnTo>
                <a:lnTo>
                  <a:pt x="708" y="367"/>
                </a:lnTo>
                <a:lnTo>
                  <a:pt x="698" y="383"/>
                </a:lnTo>
                <a:lnTo>
                  <a:pt x="691" y="402"/>
                </a:lnTo>
                <a:lnTo>
                  <a:pt x="681" y="421"/>
                </a:lnTo>
                <a:lnTo>
                  <a:pt x="674" y="443"/>
                </a:lnTo>
                <a:lnTo>
                  <a:pt x="665" y="464"/>
                </a:lnTo>
                <a:lnTo>
                  <a:pt x="655" y="486"/>
                </a:lnTo>
                <a:lnTo>
                  <a:pt x="646" y="509"/>
                </a:lnTo>
                <a:lnTo>
                  <a:pt x="636" y="533"/>
                </a:lnTo>
                <a:lnTo>
                  <a:pt x="627" y="557"/>
                </a:lnTo>
                <a:lnTo>
                  <a:pt x="617" y="583"/>
                </a:lnTo>
                <a:lnTo>
                  <a:pt x="605" y="609"/>
                </a:lnTo>
                <a:lnTo>
                  <a:pt x="596" y="636"/>
                </a:lnTo>
                <a:lnTo>
                  <a:pt x="584" y="664"/>
                </a:lnTo>
                <a:lnTo>
                  <a:pt x="574" y="695"/>
                </a:lnTo>
                <a:lnTo>
                  <a:pt x="562" y="724"/>
                </a:lnTo>
                <a:lnTo>
                  <a:pt x="467" y="724"/>
                </a:lnTo>
                <a:lnTo>
                  <a:pt x="472" y="695"/>
                </a:lnTo>
                <a:lnTo>
                  <a:pt x="477" y="664"/>
                </a:lnTo>
                <a:lnTo>
                  <a:pt x="481" y="638"/>
                </a:lnTo>
                <a:lnTo>
                  <a:pt x="488" y="609"/>
                </a:lnTo>
                <a:lnTo>
                  <a:pt x="493" y="583"/>
                </a:lnTo>
                <a:lnTo>
                  <a:pt x="498" y="559"/>
                </a:lnTo>
                <a:lnTo>
                  <a:pt x="503" y="533"/>
                </a:lnTo>
                <a:lnTo>
                  <a:pt x="505" y="512"/>
                </a:lnTo>
                <a:lnTo>
                  <a:pt x="510" y="488"/>
                </a:lnTo>
                <a:lnTo>
                  <a:pt x="515" y="467"/>
                </a:lnTo>
                <a:lnTo>
                  <a:pt x="519" y="445"/>
                </a:lnTo>
                <a:lnTo>
                  <a:pt x="522" y="426"/>
                </a:lnTo>
                <a:lnTo>
                  <a:pt x="527" y="407"/>
                </a:lnTo>
                <a:lnTo>
                  <a:pt x="529" y="388"/>
                </a:lnTo>
                <a:lnTo>
                  <a:pt x="531" y="371"/>
                </a:lnTo>
                <a:lnTo>
                  <a:pt x="536" y="355"/>
                </a:lnTo>
                <a:lnTo>
                  <a:pt x="538" y="340"/>
                </a:lnTo>
                <a:lnTo>
                  <a:pt x="541" y="326"/>
                </a:lnTo>
                <a:lnTo>
                  <a:pt x="543" y="312"/>
                </a:lnTo>
                <a:lnTo>
                  <a:pt x="546" y="300"/>
                </a:lnTo>
                <a:lnTo>
                  <a:pt x="546" y="288"/>
                </a:lnTo>
                <a:lnTo>
                  <a:pt x="548" y="279"/>
                </a:lnTo>
                <a:lnTo>
                  <a:pt x="550" y="267"/>
                </a:lnTo>
                <a:lnTo>
                  <a:pt x="550" y="260"/>
                </a:lnTo>
                <a:lnTo>
                  <a:pt x="553" y="250"/>
                </a:lnTo>
                <a:lnTo>
                  <a:pt x="553" y="243"/>
                </a:lnTo>
                <a:lnTo>
                  <a:pt x="553" y="238"/>
                </a:lnTo>
                <a:lnTo>
                  <a:pt x="553" y="231"/>
                </a:lnTo>
                <a:lnTo>
                  <a:pt x="553" y="229"/>
                </a:lnTo>
                <a:lnTo>
                  <a:pt x="553" y="224"/>
                </a:lnTo>
                <a:lnTo>
                  <a:pt x="553" y="221"/>
                </a:lnTo>
                <a:lnTo>
                  <a:pt x="550" y="219"/>
                </a:lnTo>
                <a:lnTo>
                  <a:pt x="548" y="219"/>
                </a:lnTo>
                <a:lnTo>
                  <a:pt x="543" y="217"/>
                </a:lnTo>
                <a:lnTo>
                  <a:pt x="538" y="217"/>
                </a:lnTo>
                <a:lnTo>
                  <a:pt x="531" y="217"/>
                </a:lnTo>
                <a:lnTo>
                  <a:pt x="522" y="219"/>
                </a:lnTo>
                <a:lnTo>
                  <a:pt x="512" y="219"/>
                </a:lnTo>
                <a:lnTo>
                  <a:pt x="500" y="224"/>
                </a:lnTo>
                <a:lnTo>
                  <a:pt x="488" y="226"/>
                </a:lnTo>
                <a:lnTo>
                  <a:pt x="474" y="231"/>
                </a:lnTo>
                <a:lnTo>
                  <a:pt x="460" y="236"/>
                </a:lnTo>
                <a:lnTo>
                  <a:pt x="443" y="240"/>
                </a:lnTo>
                <a:lnTo>
                  <a:pt x="426" y="245"/>
                </a:lnTo>
                <a:lnTo>
                  <a:pt x="407" y="250"/>
                </a:lnTo>
                <a:lnTo>
                  <a:pt x="388" y="257"/>
                </a:lnTo>
                <a:lnTo>
                  <a:pt x="367" y="264"/>
                </a:lnTo>
                <a:lnTo>
                  <a:pt x="345" y="271"/>
                </a:lnTo>
                <a:lnTo>
                  <a:pt x="324" y="281"/>
                </a:lnTo>
                <a:lnTo>
                  <a:pt x="303" y="290"/>
                </a:lnTo>
                <a:lnTo>
                  <a:pt x="281" y="298"/>
                </a:lnTo>
                <a:lnTo>
                  <a:pt x="262" y="305"/>
                </a:lnTo>
                <a:lnTo>
                  <a:pt x="243" y="312"/>
                </a:lnTo>
                <a:lnTo>
                  <a:pt x="226" y="319"/>
                </a:lnTo>
                <a:lnTo>
                  <a:pt x="207" y="324"/>
                </a:lnTo>
                <a:lnTo>
                  <a:pt x="193" y="329"/>
                </a:lnTo>
                <a:lnTo>
                  <a:pt x="179" y="333"/>
                </a:lnTo>
                <a:lnTo>
                  <a:pt x="164" y="336"/>
                </a:lnTo>
                <a:lnTo>
                  <a:pt x="150" y="338"/>
                </a:lnTo>
                <a:lnTo>
                  <a:pt x="141" y="338"/>
                </a:lnTo>
                <a:lnTo>
                  <a:pt x="129" y="340"/>
                </a:lnTo>
                <a:lnTo>
                  <a:pt x="119" y="340"/>
                </a:lnTo>
                <a:lnTo>
                  <a:pt x="110" y="338"/>
                </a:lnTo>
                <a:lnTo>
                  <a:pt x="102" y="33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敢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TextBox 3"/>
          <p:cNvSpPr/>
          <p:nvPr/>
        </p:nvSpPr>
        <p:spPr>
          <a:xfrm>
            <a:off x="1384200" y="2027160"/>
            <a:ext cx="95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gǎn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1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732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3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4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5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6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7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8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9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0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1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42" name="TextBox 15"/>
          <p:cNvSpPr/>
          <p:nvPr/>
        </p:nvSpPr>
        <p:spPr>
          <a:xfrm>
            <a:off x="4632480" y="4844880"/>
            <a:ext cx="421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上面的横钩要短小些，右边是攵，横与撇是两笔，不要写成夂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TextBox 16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TextBox 17"/>
          <p:cNvSpPr/>
          <p:nvPr/>
        </p:nvSpPr>
        <p:spPr>
          <a:xfrm>
            <a:off x="8985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勇敢  不敢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TextBox 18"/>
          <p:cNvSpPr/>
          <p:nvPr/>
        </p:nvSpPr>
        <p:spPr>
          <a:xfrm>
            <a:off x="857160" y="4943520"/>
            <a:ext cx="364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我吓得不敢往外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  <a:ea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Rectangle 27"/>
          <p:cNvSpPr/>
          <p:nvPr/>
        </p:nvSpPr>
        <p:spPr>
          <a:xfrm>
            <a:off x="3492000" y="221760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Freeform 37"/>
          <p:cNvSpPr/>
          <p:nvPr/>
        </p:nvSpPr>
        <p:spPr>
          <a:xfrm>
            <a:off x="6315120" y="2255760"/>
            <a:ext cx="465120" cy="825480"/>
          </a:xfrm>
          <a:custGeom>
            <a:avLst/>
            <a:gdLst/>
            <a:ahLst/>
            <a:rect l="l" t="t" r="r" b="b"/>
            <a:pathLst>
              <a:path w="734" h="1299">
                <a:moveTo>
                  <a:pt x="479" y="276"/>
                </a:moveTo>
                <a:lnTo>
                  <a:pt x="483" y="259"/>
                </a:lnTo>
                <a:lnTo>
                  <a:pt x="486" y="243"/>
                </a:lnTo>
                <a:lnTo>
                  <a:pt x="491" y="228"/>
                </a:lnTo>
                <a:lnTo>
                  <a:pt x="493" y="212"/>
                </a:lnTo>
                <a:lnTo>
                  <a:pt x="495" y="197"/>
                </a:lnTo>
                <a:lnTo>
                  <a:pt x="495" y="185"/>
                </a:lnTo>
                <a:lnTo>
                  <a:pt x="498" y="171"/>
                </a:lnTo>
                <a:lnTo>
                  <a:pt x="498" y="159"/>
                </a:lnTo>
                <a:lnTo>
                  <a:pt x="498" y="147"/>
                </a:lnTo>
                <a:lnTo>
                  <a:pt x="498" y="135"/>
                </a:lnTo>
                <a:lnTo>
                  <a:pt x="498" y="126"/>
                </a:lnTo>
                <a:lnTo>
                  <a:pt x="498" y="116"/>
                </a:lnTo>
                <a:lnTo>
                  <a:pt x="495" y="107"/>
                </a:lnTo>
                <a:lnTo>
                  <a:pt x="495" y="97"/>
                </a:lnTo>
                <a:lnTo>
                  <a:pt x="493" y="90"/>
                </a:lnTo>
                <a:lnTo>
                  <a:pt x="491" y="81"/>
                </a:lnTo>
                <a:lnTo>
                  <a:pt x="483" y="71"/>
                </a:lnTo>
                <a:lnTo>
                  <a:pt x="476" y="62"/>
                </a:lnTo>
                <a:lnTo>
                  <a:pt x="474" y="52"/>
                </a:lnTo>
                <a:lnTo>
                  <a:pt x="472" y="45"/>
                </a:lnTo>
                <a:lnTo>
                  <a:pt x="474" y="36"/>
                </a:lnTo>
                <a:lnTo>
                  <a:pt x="476" y="28"/>
                </a:lnTo>
                <a:lnTo>
                  <a:pt x="483" y="24"/>
                </a:lnTo>
                <a:lnTo>
                  <a:pt x="491" y="16"/>
                </a:lnTo>
                <a:lnTo>
                  <a:pt x="495" y="12"/>
                </a:lnTo>
                <a:lnTo>
                  <a:pt x="503" y="7"/>
                </a:lnTo>
                <a:lnTo>
                  <a:pt x="510" y="5"/>
                </a:lnTo>
                <a:lnTo>
                  <a:pt x="517" y="0"/>
                </a:lnTo>
                <a:lnTo>
                  <a:pt x="526" y="0"/>
                </a:lnTo>
                <a:lnTo>
                  <a:pt x="538" y="0"/>
                </a:lnTo>
                <a:lnTo>
                  <a:pt x="550" y="0"/>
                </a:lnTo>
                <a:lnTo>
                  <a:pt x="557" y="2"/>
                </a:lnTo>
                <a:lnTo>
                  <a:pt x="564" y="5"/>
                </a:lnTo>
                <a:lnTo>
                  <a:pt x="576" y="9"/>
                </a:lnTo>
                <a:lnTo>
                  <a:pt x="591" y="16"/>
                </a:lnTo>
                <a:lnTo>
                  <a:pt x="605" y="24"/>
                </a:lnTo>
                <a:lnTo>
                  <a:pt x="617" y="33"/>
                </a:lnTo>
                <a:lnTo>
                  <a:pt x="631" y="43"/>
                </a:lnTo>
                <a:lnTo>
                  <a:pt x="646" y="55"/>
                </a:lnTo>
                <a:lnTo>
                  <a:pt x="657" y="66"/>
                </a:lnTo>
                <a:lnTo>
                  <a:pt x="672" y="81"/>
                </a:lnTo>
                <a:lnTo>
                  <a:pt x="686" y="97"/>
                </a:lnTo>
                <a:lnTo>
                  <a:pt x="696" y="109"/>
                </a:lnTo>
                <a:lnTo>
                  <a:pt x="707" y="124"/>
                </a:lnTo>
                <a:lnTo>
                  <a:pt x="715" y="138"/>
                </a:lnTo>
                <a:lnTo>
                  <a:pt x="722" y="147"/>
                </a:lnTo>
                <a:lnTo>
                  <a:pt x="729" y="157"/>
                </a:lnTo>
                <a:lnTo>
                  <a:pt x="731" y="166"/>
                </a:lnTo>
                <a:lnTo>
                  <a:pt x="731" y="169"/>
                </a:lnTo>
                <a:lnTo>
                  <a:pt x="734" y="171"/>
                </a:lnTo>
                <a:lnTo>
                  <a:pt x="731" y="176"/>
                </a:lnTo>
                <a:lnTo>
                  <a:pt x="731" y="181"/>
                </a:lnTo>
                <a:lnTo>
                  <a:pt x="729" y="188"/>
                </a:lnTo>
                <a:lnTo>
                  <a:pt x="727" y="195"/>
                </a:lnTo>
                <a:lnTo>
                  <a:pt x="722" y="207"/>
                </a:lnTo>
                <a:lnTo>
                  <a:pt x="717" y="219"/>
                </a:lnTo>
                <a:lnTo>
                  <a:pt x="712" y="233"/>
                </a:lnTo>
                <a:lnTo>
                  <a:pt x="707" y="247"/>
                </a:lnTo>
                <a:lnTo>
                  <a:pt x="700" y="264"/>
                </a:lnTo>
                <a:lnTo>
                  <a:pt x="693" y="283"/>
                </a:lnTo>
                <a:lnTo>
                  <a:pt x="684" y="304"/>
                </a:lnTo>
                <a:lnTo>
                  <a:pt x="676" y="326"/>
                </a:lnTo>
                <a:lnTo>
                  <a:pt x="667" y="350"/>
                </a:lnTo>
                <a:lnTo>
                  <a:pt x="657" y="376"/>
                </a:lnTo>
                <a:lnTo>
                  <a:pt x="646" y="402"/>
                </a:lnTo>
                <a:lnTo>
                  <a:pt x="636" y="431"/>
                </a:lnTo>
                <a:lnTo>
                  <a:pt x="622" y="459"/>
                </a:lnTo>
                <a:lnTo>
                  <a:pt x="610" y="488"/>
                </a:lnTo>
                <a:lnTo>
                  <a:pt x="595" y="516"/>
                </a:lnTo>
                <a:lnTo>
                  <a:pt x="581" y="542"/>
                </a:lnTo>
                <a:lnTo>
                  <a:pt x="555" y="595"/>
                </a:lnTo>
                <a:lnTo>
                  <a:pt x="529" y="645"/>
                </a:lnTo>
                <a:lnTo>
                  <a:pt x="503" y="695"/>
                </a:lnTo>
                <a:lnTo>
                  <a:pt x="476" y="742"/>
                </a:lnTo>
                <a:lnTo>
                  <a:pt x="453" y="788"/>
                </a:lnTo>
                <a:lnTo>
                  <a:pt x="431" y="830"/>
                </a:lnTo>
                <a:lnTo>
                  <a:pt x="402" y="876"/>
                </a:lnTo>
                <a:lnTo>
                  <a:pt x="374" y="919"/>
                </a:lnTo>
                <a:lnTo>
                  <a:pt x="343" y="961"/>
                </a:lnTo>
                <a:lnTo>
                  <a:pt x="312" y="1004"/>
                </a:lnTo>
                <a:lnTo>
                  <a:pt x="281" y="1045"/>
                </a:lnTo>
                <a:lnTo>
                  <a:pt x="245" y="1087"/>
                </a:lnTo>
                <a:lnTo>
                  <a:pt x="212" y="1128"/>
                </a:lnTo>
                <a:lnTo>
                  <a:pt x="176" y="1166"/>
                </a:lnTo>
                <a:lnTo>
                  <a:pt x="159" y="1185"/>
                </a:lnTo>
                <a:lnTo>
                  <a:pt x="143" y="1204"/>
                </a:lnTo>
                <a:lnTo>
                  <a:pt x="126" y="1218"/>
                </a:lnTo>
                <a:lnTo>
                  <a:pt x="112" y="1233"/>
                </a:lnTo>
                <a:lnTo>
                  <a:pt x="97" y="1247"/>
                </a:lnTo>
                <a:lnTo>
                  <a:pt x="83" y="1256"/>
                </a:lnTo>
                <a:lnTo>
                  <a:pt x="71" y="1266"/>
                </a:lnTo>
                <a:lnTo>
                  <a:pt x="59" y="1276"/>
                </a:lnTo>
                <a:lnTo>
                  <a:pt x="50" y="1283"/>
                </a:lnTo>
                <a:lnTo>
                  <a:pt x="40" y="1287"/>
                </a:lnTo>
                <a:lnTo>
                  <a:pt x="33" y="1292"/>
                </a:lnTo>
                <a:lnTo>
                  <a:pt x="26" y="1297"/>
                </a:lnTo>
                <a:lnTo>
                  <a:pt x="19" y="1299"/>
                </a:lnTo>
                <a:lnTo>
                  <a:pt x="14" y="1299"/>
                </a:lnTo>
                <a:lnTo>
                  <a:pt x="9" y="1299"/>
                </a:lnTo>
                <a:lnTo>
                  <a:pt x="7" y="1297"/>
                </a:lnTo>
                <a:lnTo>
                  <a:pt x="2" y="1292"/>
                </a:lnTo>
                <a:lnTo>
                  <a:pt x="0" y="1290"/>
                </a:lnTo>
                <a:lnTo>
                  <a:pt x="0" y="1283"/>
                </a:lnTo>
                <a:lnTo>
                  <a:pt x="0" y="1278"/>
                </a:lnTo>
                <a:lnTo>
                  <a:pt x="2" y="1268"/>
                </a:lnTo>
                <a:lnTo>
                  <a:pt x="5" y="1259"/>
                </a:lnTo>
                <a:lnTo>
                  <a:pt x="9" y="1249"/>
                </a:lnTo>
                <a:lnTo>
                  <a:pt x="14" y="1237"/>
                </a:lnTo>
                <a:lnTo>
                  <a:pt x="21" y="1226"/>
                </a:lnTo>
                <a:lnTo>
                  <a:pt x="31" y="1211"/>
                </a:lnTo>
                <a:lnTo>
                  <a:pt x="40" y="1197"/>
                </a:lnTo>
                <a:lnTo>
                  <a:pt x="50" y="1180"/>
                </a:lnTo>
                <a:lnTo>
                  <a:pt x="62" y="1164"/>
                </a:lnTo>
                <a:lnTo>
                  <a:pt x="74" y="1145"/>
                </a:lnTo>
                <a:lnTo>
                  <a:pt x="88" y="1123"/>
                </a:lnTo>
                <a:lnTo>
                  <a:pt x="105" y="1102"/>
                </a:lnTo>
                <a:lnTo>
                  <a:pt x="119" y="1080"/>
                </a:lnTo>
                <a:lnTo>
                  <a:pt x="136" y="1057"/>
                </a:lnTo>
                <a:lnTo>
                  <a:pt x="150" y="1033"/>
                </a:lnTo>
                <a:lnTo>
                  <a:pt x="164" y="1009"/>
                </a:lnTo>
                <a:lnTo>
                  <a:pt x="178" y="983"/>
                </a:lnTo>
                <a:lnTo>
                  <a:pt x="195" y="957"/>
                </a:lnTo>
                <a:lnTo>
                  <a:pt x="209" y="930"/>
                </a:lnTo>
                <a:lnTo>
                  <a:pt x="224" y="902"/>
                </a:lnTo>
                <a:lnTo>
                  <a:pt x="238" y="873"/>
                </a:lnTo>
                <a:lnTo>
                  <a:pt x="252" y="845"/>
                </a:lnTo>
                <a:lnTo>
                  <a:pt x="279" y="785"/>
                </a:lnTo>
                <a:lnTo>
                  <a:pt x="307" y="726"/>
                </a:lnTo>
                <a:lnTo>
                  <a:pt x="333" y="664"/>
                </a:lnTo>
                <a:lnTo>
                  <a:pt x="348" y="633"/>
                </a:lnTo>
                <a:lnTo>
                  <a:pt x="360" y="602"/>
                </a:lnTo>
                <a:lnTo>
                  <a:pt x="371" y="573"/>
                </a:lnTo>
                <a:lnTo>
                  <a:pt x="383" y="545"/>
                </a:lnTo>
                <a:lnTo>
                  <a:pt x="393" y="516"/>
                </a:lnTo>
                <a:lnTo>
                  <a:pt x="405" y="490"/>
                </a:lnTo>
                <a:lnTo>
                  <a:pt x="414" y="464"/>
                </a:lnTo>
                <a:lnTo>
                  <a:pt x="424" y="440"/>
                </a:lnTo>
                <a:lnTo>
                  <a:pt x="433" y="416"/>
                </a:lnTo>
                <a:lnTo>
                  <a:pt x="441" y="393"/>
                </a:lnTo>
                <a:lnTo>
                  <a:pt x="448" y="371"/>
                </a:lnTo>
                <a:lnTo>
                  <a:pt x="455" y="350"/>
                </a:lnTo>
                <a:lnTo>
                  <a:pt x="462" y="331"/>
                </a:lnTo>
                <a:lnTo>
                  <a:pt x="469" y="312"/>
                </a:lnTo>
                <a:lnTo>
                  <a:pt x="474" y="293"/>
                </a:lnTo>
                <a:lnTo>
                  <a:pt x="479" y="27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Freeform 38"/>
          <p:cNvSpPr/>
          <p:nvPr/>
        </p:nvSpPr>
        <p:spPr>
          <a:xfrm>
            <a:off x="6496200" y="2668680"/>
            <a:ext cx="652320" cy="185760"/>
          </a:xfrm>
          <a:custGeom>
            <a:avLst/>
            <a:gdLst/>
            <a:ahLst/>
            <a:rect l="l" t="t" r="r" b="b"/>
            <a:pathLst>
              <a:path w="1027" h="292">
                <a:moveTo>
                  <a:pt x="810" y="195"/>
                </a:moveTo>
                <a:lnTo>
                  <a:pt x="760" y="209"/>
                </a:lnTo>
                <a:lnTo>
                  <a:pt x="710" y="221"/>
                </a:lnTo>
                <a:lnTo>
                  <a:pt x="660" y="233"/>
                </a:lnTo>
                <a:lnTo>
                  <a:pt x="610" y="242"/>
                </a:lnTo>
                <a:lnTo>
                  <a:pt x="560" y="252"/>
                </a:lnTo>
                <a:lnTo>
                  <a:pt x="510" y="259"/>
                </a:lnTo>
                <a:lnTo>
                  <a:pt x="460" y="266"/>
                </a:lnTo>
                <a:lnTo>
                  <a:pt x="410" y="271"/>
                </a:lnTo>
                <a:lnTo>
                  <a:pt x="383" y="276"/>
                </a:lnTo>
                <a:lnTo>
                  <a:pt x="357" y="280"/>
                </a:lnTo>
                <a:lnTo>
                  <a:pt x="302" y="288"/>
                </a:lnTo>
                <a:lnTo>
                  <a:pt x="252" y="290"/>
                </a:lnTo>
                <a:lnTo>
                  <a:pt x="200" y="292"/>
                </a:lnTo>
                <a:lnTo>
                  <a:pt x="150" y="292"/>
                </a:lnTo>
                <a:lnTo>
                  <a:pt x="100" y="292"/>
                </a:lnTo>
                <a:lnTo>
                  <a:pt x="50" y="288"/>
                </a:lnTo>
                <a:lnTo>
                  <a:pt x="0" y="285"/>
                </a:lnTo>
                <a:lnTo>
                  <a:pt x="0" y="207"/>
                </a:lnTo>
                <a:lnTo>
                  <a:pt x="40" y="199"/>
                </a:lnTo>
                <a:lnTo>
                  <a:pt x="78" y="190"/>
                </a:lnTo>
                <a:lnTo>
                  <a:pt x="116" y="183"/>
                </a:lnTo>
                <a:lnTo>
                  <a:pt x="155" y="173"/>
                </a:lnTo>
                <a:lnTo>
                  <a:pt x="190" y="166"/>
                </a:lnTo>
                <a:lnTo>
                  <a:pt x="224" y="159"/>
                </a:lnTo>
                <a:lnTo>
                  <a:pt x="259" y="152"/>
                </a:lnTo>
                <a:lnTo>
                  <a:pt x="290" y="145"/>
                </a:lnTo>
                <a:lnTo>
                  <a:pt x="324" y="140"/>
                </a:lnTo>
                <a:lnTo>
                  <a:pt x="355" y="133"/>
                </a:lnTo>
                <a:lnTo>
                  <a:pt x="383" y="126"/>
                </a:lnTo>
                <a:lnTo>
                  <a:pt x="412" y="121"/>
                </a:lnTo>
                <a:lnTo>
                  <a:pt x="438" y="114"/>
                </a:lnTo>
                <a:lnTo>
                  <a:pt x="464" y="109"/>
                </a:lnTo>
                <a:lnTo>
                  <a:pt x="491" y="104"/>
                </a:lnTo>
                <a:lnTo>
                  <a:pt x="514" y="97"/>
                </a:lnTo>
                <a:lnTo>
                  <a:pt x="538" y="92"/>
                </a:lnTo>
                <a:lnTo>
                  <a:pt x="560" y="88"/>
                </a:lnTo>
                <a:lnTo>
                  <a:pt x="581" y="83"/>
                </a:lnTo>
                <a:lnTo>
                  <a:pt x="600" y="80"/>
                </a:lnTo>
                <a:lnTo>
                  <a:pt x="619" y="76"/>
                </a:lnTo>
                <a:lnTo>
                  <a:pt x="636" y="71"/>
                </a:lnTo>
                <a:lnTo>
                  <a:pt x="653" y="66"/>
                </a:lnTo>
                <a:lnTo>
                  <a:pt x="667" y="64"/>
                </a:lnTo>
                <a:lnTo>
                  <a:pt x="681" y="59"/>
                </a:lnTo>
                <a:lnTo>
                  <a:pt x="695" y="57"/>
                </a:lnTo>
                <a:lnTo>
                  <a:pt x="707" y="52"/>
                </a:lnTo>
                <a:lnTo>
                  <a:pt x="717" y="50"/>
                </a:lnTo>
                <a:lnTo>
                  <a:pt x="726" y="47"/>
                </a:lnTo>
                <a:lnTo>
                  <a:pt x="736" y="45"/>
                </a:lnTo>
                <a:lnTo>
                  <a:pt x="743" y="42"/>
                </a:lnTo>
                <a:lnTo>
                  <a:pt x="748" y="40"/>
                </a:lnTo>
                <a:lnTo>
                  <a:pt x="769" y="31"/>
                </a:lnTo>
                <a:lnTo>
                  <a:pt x="791" y="21"/>
                </a:lnTo>
                <a:lnTo>
                  <a:pt x="807" y="16"/>
                </a:lnTo>
                <a:lnTo>
                  <a:pt x="822" y="9"/>
                </a:lnTo>
                <a:lnTo>
                  <a:pt x="836" y="7"/>
                </a:lnTo>
                <a:lnTo>
                  <a:pt x="848" y="2"/>
                </a:lnTo>
                <a:lnTo>
                  <a:pt x="860" y="2"/>
                </a:lnTo>
                <a:lnTo>
                  <a:pt x="869" y="0"/>
                </a:lnTo>
                <a:lnTo>
                  <a:pt x="879" y="2"/>
                </a:lnTo>
                <a:lnTo>
                  <a:pt x="891" y="2"/>
                </a:lnTo>
                <a:lnTo>
                  <a:pt x="900" y="4"/>
                </a:lnTo>
                <a:lnTo>
                  <a:pt x="915" y="9"/>
                </a:lnTo>
                <a:lnTo>
                  <a:pt x="927" y="11"/>
                </a:lnTo>
                <a:lnTo>
                  <a:pt x="939" y="16"/>
                </a:lnTo>
                <a:lnTo>
                  <a:pt x="967" y="26"/>
                </a:lnTo>
                <a:lnTo>
                  <a:pt x="979" y="35"/>
                </a:lnTo>
                <a:lnTo>
                  <a:pt x="991" y="45"/>
                </a:lnTo>
                <a:lnTo>
                  <a:pt x="1000" y="54"/>
                </a:lnTo>
                <a:lnTo>
                  <a:pt x="1010" y="64"/>
                </a:lnTo>
                <a:lnTo>
                  <a:pt x="1017" y="71"/>
                </a:lnTo>
                <a:lnTo>
                  <a:pt x="1022" y="78"/>
                </a:lnTo>
                <a:lnTo>
                  <a:pt x="1027" y="85"/>
                </a:lnTo>
                <a:lnTo>
                  <a:pt x="1027" y="90"/>
                </a:lnTo>
                <a:lnTo>
                  <a:pt x="1024" y="95"/>
                </a:lnTo>
                <a:lnTo>
                  <a:pt x="1020" y="102"/>
                </a:lnTo>
                <a:lnTo>
                  <a:pt x="1015" y="107"/>
                </a:lnTo>
                <a:lnTo>
                  <a:pt x="1008" y="111"/>
                </a:lnTo>
                <a:lnTo>
                  <a:pt x="998" y="119"/>
                </a:lnTo>
                <a:lnTo>
                  <a:pt x="989" y="123"/>
                </a:lnTo>
                <a:lnTo>
                  <a:pt x="977" y="130"/>
                </a:lnTo>
                <a:lnTo>
                  <a:pt x="962" y="138"/>
                </a:lnTo>
                <a:lnTo>
                  <a:pt x="948" y="145"/>
                </a:lnTo>
                <a:lnTo>
                  <a:pt x="934" y="152"/>
                </a:lnTo>
                <a:lnTo>
                  <a:pt x="917" y="159"/>
                </a:lnTo>
                <a:lnTo>
                  <a:pt x="898" y="164"/>
                </a:lnTo>
                <a:lnTo>
                  <a:pt x="877" y="173"/>
                </a:lnTo>
                <a:lnTo>
                  <a:pt x="855" y="180"/>
                </a:lnTo>
                <a:lnTo>
                  <a:pt x="834" y="188"/>
                </a:lnTo>
                <a:lnTo>
                  <a:pt x="810" y="19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Freeform 39"/>
          <p:cNvSpPr/>
          <p:nvPr/>
        </p:nvSpPr>
        <p:spPr>
          <a:xfrm>
            <a:off x="6227640" y="2800440"/>
            <a:ext cx="635040" cy="944640"/>
          </a:xfrm>
          <a:custGeom>
            <a:avLst/>
            <a:gdLst/>
            <a:ahLst/>
            <a:rect l="l" t="t" r="r" b="b"/>
            <a:pathLst>
              <a:path w="1000" h="1487">
                <a:moveTo>
                  <a:pt x="702" y="607"/>
                </a:moveTo>
                <a:lnTo>
                  <a:pt x="719" y="533"/>
                </a:lnTo>
                <a:lnTo>
                  <a:pt x="733" y="459"/>
                </a:lnTo>
                <a:lnTo>
                  <a:pt x="745" y="385"/>
                </a:lnTo>
                <a:lnTo>
                  <a:pt x="755" y="309"/>
                </a:lnTo>
                <a:lnTo>
                  <a:pt x="764" y="233"/>
                </a:lnTo>
                <a:lnTo>
                  <a:pt x="769" y="154"/>
                </a:lnTo>
                <a:lnTo>
                  <a:pt x="772" y="78"/>
                </a:lnTo>
                <a:lnTo>
                  <a:pt x="774" y="0"/>
                </a:lnTo>
                <a:lnTo>
                  <a:pt x="798" y="16"/>
                </a:lnTo>
                <a:lnTo>
                  <a:pt x="822" y="33"/>
                </a:lnTo>
                <a:lnTo>
                  <a:pt x="843" y="47"/>
                </a:lnTo>
                <a:lnTo>
                  <a:pt x="862" y="62"/>
                </a:lnTo>
                <a:lnTo>
                  <a:pt x="881" y="73"/>
                </a:lnTo>
                <a:lnTo>
                  <a:pt x="898" y="88"/>
                </a:lnTo>
                <a:lnTo>
                  <a:pt x="912" y="97"/>
                </a:lnTo>
                <a:lnTo>
                  <a:pt x="929" y="109"/>
                </a:lnTo>
                <a:lnTo>
                  <a:pt x="941" y="119"/>
                </a:lnTo>
                <a:lnTo>
                  <a:pt x="953" y="128"/>
                </a:lnTo>
                <a:lnTo>
                  <a:pt x="962" y="135"/>
                </a:lnTo>
                <a:lnTo>
                  <a:pt x="972" y="142"/>
                </a:lnTo>
                <a:lnTo>
                  <a:pt x="979" y="150"/>
                </a:lnTo>
                <a:lnTo>
                  <a:pt x="984" y="157"/>
                </a:lnTo>
                <a:lnTo>
                  <a:pt x="988" y="161"/>
                </a:lnTo>
                <a:lnTo>
                  <a:pt x="991" y="169"/>
                </a:lnTo>
                <a:lnTo>
                  <a:pt x="996" y="178"/>
                </a:lnTo>
                <a:lnTo>
                  <a:pt x="998" y="190"/>
                </a:lnTo>
                <a:lnTo>
                  <a:pt x="1000" y="202"/>
                </a:lnTo>
                <a:lnTo>
                  <a:pt x="1000" y="214"/>
                </a:lnTo>
                <a:lnTo>
                  <a:pt x="1000" y="228"/>
                </a:lnTo>
                <a:lnTo>
                  <a:pt x="998" y="242"/>
                </a:lnTo>
                <a:lnTo>
                  <a:pt x="996" y="257"/>
                </a:lnTo>
                <a:lnTo>
                  <a:pt x="991" y="271"/>
                </a:lnTo>
                <a:lnTo>
                  <a:pt x="988" y="283"/>
                </a:lnTo>
                <a:lnTo>
                  <a:pt x="986" y="295"/>
                </a:lnTo>
                <a:lnTo>
                  <a:pt x="981" y="307"/>
                </a:lnTo>
                <a:lnTo>
                  <a:pt x="979" y="323"/>
                </a:lnTo>
                <a:lnTo>
                  <a:pt x="974" y="340"/>
                </a:lnTo>
                <a:lnTo>
                  <a:pt x="967" y="357"/>
                </a:lnTo>
                <a:lnTo>
                  <a:pt x="962" y="378"/>
                </a:lnTo>
                <a:lnTo>
                  <a:pt x="957" y="399"/>
                </a:lnTo>
                <a:lnTo>
                  <a:pt x="950" y="423"/>
                </a:lnTo>
                <a:lnTo>
                  <a:pt x="943" y="447"/>
                </a:lnTo>
                <a:lnTo>
                  <a:pt x="936" y="473"/>
                </a:lnTo>
                <a:lnTo>
                  <a:pt x="929" y="502"/>
                </a:lnTo>
                <a:lnTo>
                  <a:pt x="919" y="533"/>
                </a:lnTo>
                <a:lnTo>
                  <a:pt x="912" y="564"/>
                </a:lnTo>
                <a:lnTo>
                  <a:pt x="903" y="597"/>
                </a:lnTo>
                <a:lnTo>
                  <a:pt x="895" y="633"/>
                </a:lnTo>
                <a:lnTo>
                  <a:pt x="884" y="668"/>
                </a:lnTo>
                <a:lnTo>
                  <a:pt x="872" y="704"/>
                </a:lnTo>
                <a:lnTo>
                  <a:pt x="857" y="740"/>
                </a:lnTo>
                <a:lnTo>
                  <a:pt x="845" y="773"/>
                </a:lnTo>
                <a:lnTo>
                  <a:pt x="831" y="806"/>
                </a:lnTo>
                <a:lnTo>
                  <a:pt x="814" y="840"/>
                </a:lnTo>
                <a:lnTo>
                  <a:pt x="800" y="873"/>
                </a:lnTo>
                <a:lnTo>
                  <a:pt x="784" y="904"/>
                </a:lnTo>
                <a:lnTo>
                  <a:pt x="764" y="935"/>
                </a:lnTo>
                <a:lnTo>
                  <a:pt x="748" y="966"/>
                </a:lnTo>
                <a:lnTo>
                  <a:pt x="726" y="997"/>
                </a:lnTo>
                <a:lnTo>
                  <a:pt x="707" y="1025"/>
                </a:lnTo>
                <a:lnTo>
                  <a:pt x="686" y="1054"/>
                </a:lnTo>
                <a:lnTo>
                  <a:pt x="664" y="1083"/>
                </a:lnTo>
                <a:lnTo>
                  <a:pt x="641" y="1109"/>
                </a:lnTo>
                <a:lnTo>
                  <a:pt x="617" y="1137"/>
                </a:lnTo>
                <a:lnTo>
                  <a:pt x="593" y="1163"/>
                </a:lnTo>
                <a:lnTo>
                  <a:pt x="567" y="1190"/>
                </a:lnTo>
                <a:lnTo>
                  <a:pt x="540" y="1213"/>
                </a:lnTo>
                <a:lnTo>
                  <a:pt x="517" y="1237"/>
                </a:lnTo>
                <a:lnTo>
                  <a:pt x="490" y="1259"/>
                </a:lnTo>
                <a:lnTo>
                  <a:pt x="464" y="1280"/>
                </a:lnTo>
                <a:lnTo>
                  <a:pt x="438" y="1302"/>
                </a:lnTo>
                <a:lnTo>
                  <a:pt x="412" y="1321"/>
                </a:lnTo>
                <a:lnTo>
                  <a:pt x="386" y="1337"/>
                </a:lnTo>
                <a:lnTo>
                  <a:pt x="359" y="1354"/>
                </a:lnTo>
                <a:lnTo>
                  <a:pt x="333" y="1371"/>
                </a:lnTo>
                <a:lnTo>
                  <a:pt x="307" y="1385"/>
                </a:lnTo>
                <a:lnTo>
                  <a:pt x="281" y="1399"/>
                </a:lnTo>
                <a:lnTo>
                  <a:pt x="257" y="1413"/>
                </a:lnTo>
                <a:lnTo>
                  <a:pt x="231" y="1423"/>
                </a:lnTo>
                <a:lnTo>
                  <a:pt x="204" y="1435"/>
                </a:lnTo>
                <a:lnTo>
                  <a:pt x="181" y="1444"/>
                </a:lnTo>
                <a:lnTo>
                  <a:pt x="159" y="1451"/>
                </a:lnTo>
                <a:lnTo>
                  <a:pt x="138" y="1459"/>
                </a:lnTo>
                <a:lnTo>
                  <a:pt x="116" y="1466"/>
                </a:lnTo>
                <a:lnTo>
                  <a:pt x="100" y="1473"/>
                </a:lnTo>
                <a:lnTo>
                  <a:pt x="83" y="1478"/>
                </a:lnTo>
                <a:lnTo>
                  <a:pt x="66" y="1480"/>
                </a:lnTo>
                <a:lnTo>
                  <a:pt x="52" y="1482"/>
                </a:lnTo>
                <a:lnTo>
                  <a:pt x="40" y="1485"/>
                </a:lnTo>
                <a:lnTo>
                  <a:pt x="31" y="1485"/>
                </a:lnTo>
                <a:lnTo>
                  <a:pt x="21" y="1487"/>
                </a:lnTo>
                <a:lnTo>
                  <a:pt x="14" y="1485"/>
                </a:lnTo>
                <a:lnTo>
                  <a:pt x="7" y="1482"/>
                </a:lnTo>
                <a:lnTo>
                  <a:pt x="4" y="1480"/>
                </a:lnTo>
                <a:lnTo>
                  <a:pt x="2" y="1478"/>
                </a:lnTo>
                <a:lnTo>
                  <a:pt x="0" y="1473"/>
                </a:lnTo>
                <a:lnTo>
                  <a:pt x="0" y="1470"/>
                </a:lnTo>
                <a:lnTo>
                  <a:pt x="2" y="1468"/>
                </a:lnTo>
                <a:lnTo>
                  <a:pt x="4" y="1463"/>
                </a:lnTo>
                <a:lnTo>
                  <a:pt x="9" y="1459"/>
                </a:lnTo>
                <a:lnTo>
                  <a:pt x="14" y="1454"/>
                </a:lnTo>
                <a:lnTo>
                  <a:pt x="19" y="1449"/>
                </a:lnTo>
                <a:lnTo>
                  <a:pt x="26" y="1442"/>
                </a:lnTo>
                <a:lnTo>
                  <a:pt x="35" y="1437"/>
                </a:lnTo>
                <a:lnTo>
                  <a:pt x="45" y="1430"/>
                </a:lnTo>
                <a:lnTo>
                  <a:pt x="54" y="1423"/>
                </a:lnTo>
                <a:lnTo>
                  <a:pt x="64" y="1413"/>
                </a:lnTo>
                <a:lnTo>
                  <a:pt x="76" y="1406"/>
                </a:lnTo>
                <a:lnTo>
                  <a:pt x="90" y="1397"/>
                </a:lnTo>
                <a:lnTo>
                  <a:pt x="102" y="1390"/>
                </a:lnTo>
                <a:lnTo>
                  <a:pt x="119" y="1380"/>
                </a:lnTo>
                <a:lnTo>
                  <a:pt x="133" y="1371"/>
                </a:lnTo>
                <a:lnTo>
                  <a:pt x="150" y="1361"/>
                </a:lnTo>
                <a:lnTo>
                  <a:pt x="166" y="1351"/>
                </a:lnTo>
                <a:lnTo>
                  <a:pt x="183" y="1342"/>
                </a:lnTo>
                <a:lnTo>
                  <a:pt x="200" y="1330"/>
                </a:lnTo>
                <a:lnTo>
                  <a:pt x="216" y="1318"/>
                </a:lnTo>
                <a:lnTo>
                  <a:pt x="235" y="1304"/>
                </a:lnTo>
                <a:lnTo>
                  <a:pt x="255" y="1290"/>
                </a:lnTo>
                <a:lnTo>
                  <a:pt x="274" y="1273"/>
                </a:lnTo>
                <a:lnTo>
                  <a:pt x="293" y="1256"/>
                </a:lnTo>
                <a:lnTo>
                  <a:pt x="312" y="1237"/>
                </a:lnTo>
                <a:lnTo>
                  <a:pt x="333" y="1216"/>
                </a:lnTo>
                <a:lnTo>
                  <a:pt x="355" y="1194"/>
                </a:lnTo>
                <a:lnTo>
                  <a:pt x="376" y="1173"/>
                </a:lnTo>
                <a:lnTo>
                  <a:pt x="400" y="1149"/>
                </a:lnTo>
                <a:lnTo>
                  <a:pt x="424" y="1125"/>
                </a:lnTo>
                <a:lnTo>
                  <a:pt x="448" y="1099"/>
                </a:lnTo>
                <a:lnTo>
                  <a:pt x="471" y="1071"/>
                </a:lnTo>
                <a:lnTo>
                  <a:pt x="495" y="1044"/>
                </a:lnTo>
                <a:lnTo>
                  <a:pt x="517" y="1016"/>
                </a:lnTo>
                <a:lnTo>
                  <a:pt x="538" y="987"/>
                </a:lnTo>
                <a:lnTo>
                  <a:pt x="557" y="959"/>
                </a:lnTo>
                <a:lnTo>
                  <a:pt x="576" y="930"/>
                </a:lnTo>
                <a:lnTo>
                  <a:pt x="593" y="902"/>
                </a:lnTo>
                <a:lnTo>
                  <a:pt x="610" y="871"/>
                </a:lnTo>
                <a:lnTo>
                  <a:pt x="626" y="842"/>
                </a:lnTo>
                <a:lnTo>
                  <a:pt x="641" y="809"/>
                </a:lnTo>
                <a:lnTo>
                  <a:pt x="652" y="778"/>
                </a:lnTo>
                <a:lnTo>
                  <a:pt x="664" y="745"/>
                </a:lnTo>
                <a:lnTo>
                  <a:pt x="676" y="711"/>
                </a:lnTo>
                <a:lnTo>
                  <a:pt x="686" y="678"/>
                </a:lnTo>
                <a:lnTo>
                  <a:pt x="693" y="642"/>
                </a:lnTo>
                <a:lnTo>
                  <a:pt x="702" y="60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Freeform 40"/>
          <p:cNvSpPr/>
          <p:nvPr/>
        </p:nvSpPr>
        <p:spPr>
          <a:xfrm>
            <a:off x="5452920" y="2709720"/>
            <a:ext cx="959040" cy="222480"/>
          </a:xfrm>
          <a:custGeom>
            <a:avLst/>
            <a:gdLst/>
            <a:ahLst/>
            <a:rect l="l" t="t" r="r" b="b"/>
            <a:pathLst>
              <a:path w="1510" h="350">
                <a:moveTo>
                  <a:pt x="157" y="350"/>
                </a:moveTo>
                <a:lnTo>
                  <a:pt x="143" y="350"/>
                </a:lnTo>
                <a:lnTo>
                  <a:pt x="131" y="347"/>
                </a:lnTo>
                <a:lnTo>
                  <a:pt x="119" y="343"/>
                </a:lnTo>
                <a:lnTo>
                  <a:pt x="107" y="338"/>
                </a:lnTo>
                <a:lnTo>
                  <a:pt x="97" y="331"/>
                </a:lnTo>
                <a:lnTo>
                  <a:pt x="85" y="324"/>
                </a:lnTo>
                <a:lnTo>
                  <a:pt x="71" y="312"/>
                </a:lnTo>
                <a:lnTo>
                  <a:pt x="66" y="304"/>
                </a:lnTo>
                <a:lnTo>
                  <a:pt x="59" y="297"/>
                </a:lnTo>
                <a:lnTo>
                  <a:pt x="47" y="283"/>
                </a:lnTo>
                <a:lnTo>
                  <a:pt x="35" y="271"/>
                </a:lnTo>
                <a:lnTo>
                  <a:pt x="23" y="259"/>
                </a:lnTo>
                <a:lnTo>
                  <a:pt x="16" y="250"/>
                </a:lnTo>
                <a:lnTo>
                  <a:pt x="9" y="240"/>
                </a:lnTo>
                <a:lnTo>
                  <a:pt x="4" y="233"/>
                </a:lnTo>
                <a:lnTo>
                  <a:pt x="0" y="226"/>
                </a:lnTo>
                <a:lnTo>
                  <a:pt x="0" y="221"/>
                </a:lnTo>
                <a:lnTo>
                  <a:pt x="0" y="216"/>
                </a:lnTo>
                <a:lnTo>
                  <a:pt x="2" y="214"/>
                </a:lnTo>
                <a:lnTo>
                  <a:pt x="4" y="212"/>
                </a:lnTo>
                <a:lnTo>
                  <a:pt x="9" y="209"/>
                </a:lnTo>
                <a:lnTo>
                  <a:pt x="16" y="209"/>
                </a:lnTo>
                <a:lnTo>
                  <a:pt x="23" y="207"/>
                </a:lnTo>
                <a:lnTo>
                  <a:pt x="35" y="207"/>
                </a:lnTo>
                <a:lnTo>
                  <a:pt x="47" y="207"/>
                </a:lnTo>
                <a:lnTo>
                  <a:pt x="52" y="207"/>
                </a:lnTo>
                <a:lnTo>
                  <a:pt x="57" y="207"/>
                </a:lnTo>
                <a:lnTo>
                  <a:pt x="62" y="207"/>
                </a:lnTo>
                <a:lnTo>
                  <a:pt x="69" y="207"/>
                </a:lnTo>
                <a:lnTo>
                  <a:pt x="78" y="205"/>
                </a:lnTo>
                <a:lnTo>
                  <a:pt x="88" y="205"/>
                </a:lnTo>
                <a:lnTo>
                  <a:pt x="97" y="202"/>
                </a:lnTo>
                <a:lnTo>
                  <a:pt x="109" y="200"/>
                </a:lnTo>
                <a:lnTo>
                  <a:pt x="121" y="200"/>
                </a:lnTo>
                <a:lnTo>
                  <a:pt x="135" y="197"/>
                </a:lnTo>
                <a:lnTo>
                  <a:pt x="150" y="195"/>
                </a:lnTo>
                <a:lnTo>
                  <a:pt x="164" y="193"/>
                </a:lnTo>
                <a:lnTo>
                  <a:pt x="181" y="190"/>
                </a:lnTo>
                <a:lnTo>
                  <a:pt x="200" y="188"/>
                </a:lnTo>
                <a:lnTo>
                  <a:pt x="219" y="183"/>
                </a:lnTo>
                <a:lnTo>
                  <a:pt x="238" y="181"/>
                </a:lnTo>
                <a:lnTo>
                  <a:pt x="259" y="178"/>
                </a:lnTo>
                <a:lnTo>
                  <a:pt x="281" y="174"/>
                </a:lnTo>
                <a:lnTo>
                  <a:pt x="305" y="169"/>
                </a:lnTo>
                <a:lnTo>
                  <a:pt x="328" y="166"/>
                </a:lnTo>
                <a:lnTo>
                  <a:pt x="352" y="162"/>
                </a:lnTo>
                <a:lnTo>
                  <a:pt x="378" y="157"/>
                </a:lnTo>
                <a:lnTo>
                  <a:pt x="407" y="152"/>
                </a:lnTo>
                <a:lnTo>
                  <a:pt x="436" y="147"/>
                </a:lnTo>
                <a:lnTo>
                  <a:pt x="464" y="143"/>
                </a:lnTo>
                <a:lnTo>
                  <a:pt x="495" y="138"/>
                </a:lnTo>
                <a:lnTo>
                  <a:pt x="526" y="133"/>
                </a:lnTo>
                <a:lnTo>
                  <a:pt x="560" y="128"/>
                </a:lnTo>
                <a:lnTo>
                  <a:pt x="593" y="121"/>
                </a:lnTo>
                <a:lnTo>
                  <a:pt x="629" y="116"/>
                </a:lnTo>
                <a:lnTo>
                  <a:pt x="664" y="109"/>
                </a:lnTo>
                <a:lnTo>
                  <a:pt x="700" y="105"/>
                </a:lnTo>
                <a:lnTo>
                  <a:pt x="736" y="97"/>
                </a:lnTo>
                <a:lnTo>
                  <a:pt x="772" y="93"/>
                </a:lnTo>
                <a:lnTo>
                  <a:pt x="807" y="86"/>
                </a:lnTo>
                <a:lnTo>
                  <a:pt x="841" y="81"/>
                </a:lnTo>
                <a:lnTo>
                  <a:pt x="874" y="76"/>
                </a:lnTo>
                <a:lnTo>
                  <a:pt x="905" y="71"/>
                </a:lnTo>
                <a:lnTo>
                  <a:pt x="936" y="64"/>
                </a:lnTo>
                <a:lnTo>
                  <a:pt x="965" y="59"/>
                </a:lnTo>
                <a:lnTo>
                  <a:pt x="993" y="55"/>
                </a:lnTo>
                <a:lnTo>
                  <a:pt x="1022" y="52"/>
                </a:lnTo>
                <a:lnTo>
                  <a:pt x="1048" y="47"/>
                </a:lnTo>
                <a:lnTo>
                  <a:pt x="1072" y="43"/>
                </a:lnTo>
                <a:lnTo>
                  <a:pt x="1096" y="38"/>
                </a:lnTo>
                <a:lnTo>
                  <a:pt x="1119" y="36"/>
                </a:lnTo>
                <a:lnTo>
                  <a:pt x="1141" y="31"/>
                </a:lnTo>
                <a:lnTo>
                  <a:pt x="1162" y="28"/>
                </a:lnTo>
                <a:lnTo>
                  <a:pt x="1181" y="24"/>
                </a:lnTo>
                <a:lnTo>
                  <a:pt x="1201" y="21"/>
                </a:lnTo>
                <a:lnTo>
                  <a:pt x="1220" y="19"/>
                </a:lnTo>
                <a:lnTo>
                  <a:pt x="1236" y="16"/>
                </a:lnTo>
                <a:lnTo>
                  <a:pt x="1251" y="14"/>
                </a:lnTo>
                <a:lnTo>
                  <a:pt x="1265" y="12"/>
                </a:lnTo>
                <a:lnTo>
                  <a:pt x="1279" y="9"/>
                </a:lnTo>
                <a:lnTo>
                  <a:pt x="1291" y="7"/>
                </a:lnTo>
                <a:lnTo>
                  <a:pt x="1303" y="7"/>
                </a:lnTo>
                <a:lnTo>
                  <a:pt x="1312" y="5"/>
                </a:lnTo>
                <a:lnTo>
                  <a:pt x="1322" y="5"/>
                </a:lnTo>
                <a:lnTo>
                  <a:pt x="1332" y="2"/>
                </a:lnTo>
                <a:lnTo>
                  <a:pt x="1339" y="2"/>
                </a:lnTo>
                <a:lnTo>
                  <a:pt x="1343" y="2"/>
                </a:lnTo>
                <a:lnTo>
                  <a:pt x="1348" y="0"/>
                </a:lnTo>
                <a:lnTo>
                  <a:pt x="1353" y="0"/>
                </a:lnTo>
                <a:lnTo>
                  <a:pt x="1379" y="0"/>
                </a:lnTo>
                <a:lnTo>
                  <a:pt x="1394" y="2"/>
                </a:lnTo>
                <a:lnTo>
                  <a:pt x="1408" y="2"/>
                </a:lnTo>
                <a:lnTo>
                  <a:pt x="1420" y="5"/>
                </a:lnTo>
                <a:lnTo>
                  <a:pt x="1434" y="7"/>
                </a:lnTo>
                <a:lnTo>
                  <a:pt x="1448" y="9"/>
                </a:lnTo>
                <a:lnTo>
                  <a:pt x="1463" y="14"/>
                </a:lnTo>
                <a:lnTo>
                  <a:pt x="1475" y="19"/>
                </a:lnTo>
                <a:lnTo>
                  <a:pt x="1484" y="26"/>
                </a:lnTo>
                <a:lnTo>
                  <a:pt x="1494" y="33"/>
                </a:lnTo>
                <a:lnTo>
                  <a:pt x="1498" y="40"/>
                </a:lnTo>
                <a:lnTo>
                  <a:pt x="1506" y="50"/>
                </a:lnTo>
                <a:lnTo>
                  <a:pt x="1508" y="59"/>
                </a:lnTo>
                <a:lnTo>
                  <a:pt x="1510" y="69"/>
                </a:lnTo>
                <a:lnTo>
                  <a:pt x="1510" y="78"/>
                </a:lnTo>
                <a:lnTo>
                  <a:pt x="1510" y="83"/>
                </a:lnTo>
                <a:lnTo>
                  <a:pt x="1508" y="88"/>
                </a:lnTo>
                <a:lnTo>
                  <a:pt x="1503" y="93"/>
                </a:lnTo>
                <a:lnTo>
                  <a:pt x="1498" y="95"/>
                </a:lnTo>
                <a:lnTo>
                  <a:pt x="1494" y="100"/>
                </a:lnTo>
                <a:lnTo>
                  <a:pt x="1484" y="102"/>
                </a:lnTo>
                <a:lnTo>
                  <a:pt x="1477" y="107"/>
                </a:lnTo>
                <a:lnTo>
                  <a:pt x="1467" y="109"/>
                </a:lnTo>
                <a:lnTo>
                  <a:pt x="1455" y="112"/>
                </a:lnTo>
                <a:lnTo>
                  <a:pt x="1441" y="114"/>
                </a:lnTo>
                <a:lnTo>
                  <a:pt x="1429" y="116"/>
                </a:lnTo>
                <a:lnTo>
                  <a:pt x="1413" y="121"/>
                </a:lnTo>
                <a:lnTo>
                  <a:pt x="1396" y="124"/>
                </a:lnTo>
                <a:lnTo>
                  <a:pt x="1379" y="126"/>
                </a:lnTo>
                <a:lnTo>
                  <a:pt x="1360" y="128"/>
                </a:lnTo>
                <a:lnTo>
                  <a:pt x="1341" y="131"/>
                </a:lnTo>
                <a:lnTo>
                  <a:pt x="1317" y="133"/>
                </a:lnTo>
                <a:lnTo>
                  <a:pt x="1293" y="135"/>
                </a:lnTo>
                <a:lnTo>
                  <a:pt x="1267" y="138"/>
                </a:lnTo>
                <a:lnTo>
                  <a:pt x="1239" y="143"/>
                </a:lnTo>
                <a:lnTo>
                  <a:pt x="1210" y="145"/>
                </a:lnTo>
                <a:lnTo>
                  <a:pt x="1179" y="150"/>
                </a:lnTo>
                <a:lnTo>
                  <a:pt x="1148" y="155"/>
                </a:lnTo>
                <a:lnTo>
                  <a:pt x="1115" y="159"/>
                </a:lnTo>
                <a:lnTo>
                  <a:pt x="1081" y="164"/>
                </a:lnTo>
                <a:lnTo>
                  <a:pt x="1046" y="169"/>
                </a:lnTo>
                <a:lnTo>
                  <a:pt x="1010" y="174"/>
                </a:lnTo>
                <a:lnTo>
                  <a:pt x="972" y="181"/>
                </a:lnTo>
                <a:lnTo>
                  <a:pt x="934" y="188"/>
                </a:lnTo>
                <a:lnTo>
                  <a:pt x="893" y="193"/>
                </a:lnTo>
                <a:lnTo>
                  <a:pt x="850" y="200"/>
                </a:lnTo>
                <a:lnTo>
                  <a:pt x="810" y="207"/>
                </a:lnTo>
                <a:lnTo>
                  <a:pt x="764" y="214"/>
                </a:lnTo>
                <a:lnTo>
                  <a:pt x="722" y="221"/>
                </a:lnTo>
                <a:lnTo>
                  <a:pt x="681" y="231"/>
                </a:lnTo>
                <a:lnTo>
                  <a:pt x="643" y="238"/>
                </a:lnTo>
                <a:lnTo>
                  <a:pt x="607" y="243"/>
                </a:lnTo>
                <a:lnTo>
                  <a:pt x="571" y="250"/>
                </a:lnTo>
                <a:lnTo>
                  <a:pt x="538" y="257"/>
                </a:lnTo>
                <a:lnTo>
                  <a:pt x="507" y="264"/>
                </a:lnTo>
                <a:lnTo>
                  <a:pt x="479" y="271"/>
                </a:lnTo>
                <a:lnTo>
                  <a:pt x="452" y="276"/>
                </a:lnTo>
                <a:lnTo>
                  <a:pt x="426" y="283"/>
                </a:lnTo>
                <a:lnTo>
                  <a:pt x="402" y="290"/>
                </a:lnTo>
                <a:lnTo>
                  <a:pt x="381" y="295"/>
                </a:lnTo>
                <a:lnTo>
                  <a:pt x="359" y="300"/>
                </a:lnTo>
                <a:lnTo>
                  <a:pt x="343" y="307"/>
                </a:lnTo>
                <a:lnTo>
                  <a:pt x="326" y="312"/>
                </a:lnTo>
                <a:lnTo>
                  <a:pt x="309" y="316"/>
                </a:lnTo>
                <a:lnTo>
                  <a:pt x="295" y="321"/>
                </a:lnTo>
                <a:lnTo>
                  <a:pt x="281" y="324"/>
                </a:lnTo>
                <a:lnTo>
                  <a:pt x="269" y="328"/>
                </a:lnTo>
                <a:lnTo>
                  <a:pt x="257" y="331"/>
                </a:lnTo>
                <a:lnTo>
                  <a:pt x="245" y="335"/>
                </a:lnTo>
                <a:lnTo>
                  <a:pt x="233" y="338"/>
                </a:lnTo>
                <a:lnTo>
                  <a:pt x="224" y="340"/>
                </a:lnTo>
                <a:lnTo>
                  <a:pt x="202" y="345"/>
                </a:lnTo>
                <a:lnTo>
                  <a:pt x="185" y="347"/>
                </a:lnTo>
                <a:lnTo>
                  <a:pt x="171" y="350"/>
                </a:lnTo>
                <a:lnTo>
                  <a:pt x="157" y="35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Freeform 41"/>
          <p:cNvSpPr/>
          <p:nvPr/>
        </p:nvSpPr>
        <p:spPr>
          <a:xfrm>
            <a:off x="5751360" y="2841480"/>
            <a:ext cx="100080" cy="828720"/>
          </a:xfrm>
          <a:custGeom>
            <a:avLst/>
            <a:gdLst/>
            <a:ahLst/>
            <a:rect l="l" t="t" r="r" b="b"/>
            <a:pathLst>
              <a:path w="158" h="1307">
                <a:moveTo>
                  <a:pt x="24" y="0"/>
                </a:moveTo>
                <a:lnTo>
                  <a:pt x="158" y="0"/>
                </a:lnTo>
                <a:lnTo>
                  <a:pt x="146" y="652"/>
                </a:lnTo>
                <a:lnTo>
                  <a:pt x="131" y="1307"/>
                </a:lnTo>
                <a:lnTo>
                  <a:pt x="0" y="1307"/>
                </a:lnTo>
                <a:lnTo>
                  <a:pt x="24" y="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Freeform 43"/>
          <p:cNvSpPr/>
          <p:nvPr/>
        </p:nvSpPr>
        <p:spPr>
          <a:xfrm>
            <a:off x="5797440" y="3027240"/>
            <a:ext cx="268560" cy="100080"/>
          </a:xfrm>
          <a:custGeom>
            <a:avLst/>
            <a:gdLst/>
            <a:ahLst/>
            <a:rect l="l" t="t" r="r" b="b"/>
            <a:pathLst>
              <a:path w="424" h="159">
                <a:moveTo>
                  <a:pt x="193" y="31"/>
                </a:moveTo>
                <a:lnTo>
                  <a:pt x="224" y="21"/>
                </a:lnTo>
                <a:lnTo>
                  <a:pt x="252" y="14"/>
                </a:lnTo>
                <a:lnTo>
                  <a:pt x="279" y="7"/>
                </a:lnTo>
                <a:lnTo>
                  <a:pt x="302" y="2"/>
                </a:lnTo>
                <a:lnTo>
                  <a:pt x="324" y="0"/>
                </a:lnTo>
                <a:lnTo>
                  <a:pt x="343" y="0"/>
                </a:lnTo>
                <a:lnTo>
                  <a:pt x="360" y="2"/>
                </a:lnTo>
                <a:lnTo>
                  <a:pt x="367" y="2"/>
                </a:lnTo>
                <a:lnTo>
                  <a:pt x="374" y="4"/>
                </a:lnTo>
                <a:lnTo>
                  <a:pt x="388" y="9"/>
                </a:lnTo>
                <a:lnTo>
                  <a:pt x="398" y="16"/>
                </a:lnTo>
                <a:lnTo>
                  <a:pt x="405" y="23"/>
                </a:lnTo>
                <a:lnTo>
                  <a:pt x="412" y="31"/>
                </a:lnTo>
                <a:lnTo>
                  <a:pt x="417" y="38"/>
                </a:lnTo>
                <a:lnTo>
                  <a:pt x="422" y="45"/>
                </a:lnTo>
                <a:lnTo>
                  <a:pt x="422" y="52"/>
                </a:lnTo>
                <a:lnTo>
                  <a:pt x="424" y="57"/>
                </a:lnTo>
                <a:lnTo>
                  <a:pt x="422" y="62"/>
                </a:lnTo>
                <a:lnTo>
                  <a:pt x="422" y="66"/>
                </a:lnTo>
                <a:lnTo>
                  <a:pt x="419" y="71"/>
                </a:lnTo>
                <a:lnTo>
                  <a:pt x="417" y="76"/>
                </a:lnTo>
                <a:lnTo>
                  <a:pt x="412" y="81"/>
                </a:lnTo>
                <a:lnTo>
                  <a:pt x="407" y="85"/>
                </a:lnTo>
                <a:lnTo>
                  <a:pt x="403" y="90"/>
                </a:lnTo>
                <a:lnTo>
                  <a:pt x="398" y="92"/>
                </a:lnTo>
                <a:lnTo>
                  <a:pt x="391" y="97"/>
                </a:lnTo>
                <a:lnTo>
                  <a:pt x="383" y="102"/>
                </a:lnTo>
                <a:lnTo>
                  <a:pt x="376" y="104"/>
                </a:lnTo>
                <a:lnTo>
                  <a:pt x="367" y="109"/>
                </a:lnTo>
                <a:lnTo>
                  <a:pt x="357" y="111"/>
                </a:lnTo>
                <a:lnTo>
                  <a:pt x="348" y="116"/>
                </a:lnTo>
                <a:lnTo>
                  <a:pt x="338" y="119"/>
                </a:lnTo>
                <a:lnTo>
                  <a:pt x="326" y="121"/>
                </a:lnTo>
                <a:lnTo>
                  <a:pt x="314" y="126"/>
                </a:lnTo>
                <a:lnTo>
                  <a:pt x="302" y="131"/>
                </a:lnTo>
                <a:lnTo>
                  <a:pt x="288" y="135"/>
                </a:lnTo>
                <a:lnTo>
                  <a:pt x="271" y="138"/>
                </a:lnTo>
                <a:lnTo>
                  <a:pt x="255" y="142"/>
                </a:lnTo>
                <a:lnTo>
                  <a:pt x="238" y="145"/>
                </a:lnTo>
                <a:lnTo>
                  <a:pt x="219" y="147"/>
                </a:lnTo>
                <a:lnTo>
                  <a:pt x="200" y="150"/>
                </a:lnTo>
                <a:lnTo>
                  <a:pt x="179" y="152"/>
                </a:lnTo>
                <a:lnTo>
                  <a:pt x="157" y="154"/>
                </a:lnTo>
                <a:lnTo>
                  <a:pt x="133" y="157"/>
                </a:lnTo>
                <a:lnTo>
                  <a:pt x="109" y="157"/>
                </a:lnTo>
                <a:lnTo>
                  <a:pt x="83" y="159"/>
                </a:lnTo>
                <a:lnTo>
                  <a:pt x="57" y="159"/>
                </a:lnTo>
                <a:lnTo>
                  <a:pt x="28" y="159"/>
                </a:lnTo>
                <a:lnTo>
                  <a:pt x="0" y="159"/>
                </a:lnTo>
                <a:lnTo>
                  <a:pt x="0" y="57"/>
                </a:lnTo>
                <a:lnTo>
                  <a:pt x="7" y="57"/>
                </a:lnTo>
                <a:lnTo>
                  <a:pt x="14" y="57"/>
                </a:lnTo>
                <a:lnTo>
                  <a:pt x="24" y="54"/>
                </a:lnTo>
                <a:lnTo>
                  <a:pt x="33" y="54"/>
                </a:lnTo>
                <a:lnTo>
                  <a:pt x="43" y="52"/>
                </a:lnTo>
                <a:lnTo>
                  <a:pt x="55" y="52"/>
                </a:lnTo>
                <a:lnTo>
                  <a:pt x="67" y="50"/>
                </a:lnTo>
                <a:lnTo>
                  <a:pt x="78" y="50"/>
                </a:lnTo>
                <a:lnTo>
                  <a:pt x="105" y="45"/>
                </a:lnTo>
                <a:lnTo>
                  <a:pt x="133" y="40"/>
                </a:lnTo>
                <a:lnTo>
                  <a:pt x="162" y="35"/>
                </a:lnTo>
                <a:lnTo>
                  <a:pt x="193" y="3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Freeform 44"/>
          <p:cNvSpPr/>
          <p:nvPr/>
        </p:nvSpPr>
        <p:spPr>
          <a:xfrm>
            <a:off x="5797440" y="3259080"/>
            <a:ext cx="268560" cy="108000"/>
          </a:xfrm>
          <a:custGeom>
            <a:avLst/>
            <a:gdLst/>
            <a:ahLst/>
            <a:rect l="l" t="t" r="r" b="b"/>
            <a:pathLst>
              <a:path w="424" h="169">
                <a:moveTo>
                  <a:pt x="193" y="38"/>
                </a:moveTo>
                <a:lnTo>
                  <a:pt x="214" y="31"/>
                </a:lnTo>
                <a:lnTo>
                  <a:pt x="236" y="22"/>
                </a:lnTo>
                <a:lnTo>
                  <a:pt x="255" y="14"/>
                </a:lnTo>
                <a:lnTo>
                  <a:pt x="271" y="10"/>
                </a:lnTo>
                <a:lnTo>
                  <a:pt x="279" y="7"/>
                </a:lnTo>
                <a:lnTo>
                  <a:pt x="286" y="5"/>
                </a:lnTo>
                <a:lnTo>
                  <a:pt x="293" y="5"/>
                </a:lnTo>
                <a:lnTo>
                  <a:pt x="298" y="3"/>
                </a:lnTo>
                <a:lnTo>
                  <a:pt x="305" y="3"/>
                </a:lnTo>
                <a:lnTo>
                  <a:pt x="307" y="0"/>
                </a:lnTo>
                <a:lnTo>
                  <a:pt x="312" y="0"/>
                </a:lnTo>
                <a:lnTo>
                  <a:pt x="314" y="0"/>
                </a:lnTo>
                <a:lnTo>
                  <a:pt x="324" y="0"/>
                </a:lnTo>
                <a:lnTo>
                  <a:pt x="329" y="0"/>
                </a:lnTo>
                <a:lnTo>
                  <a:pt x="336" y="3"/>
                </a:lnTo>
                <a:lnTo>
                  <a:pt x="343" y="3"/>
                </a:lnTo>
                <a:lnTo>
                  <a:pt x="353" y="5"/>
                </a:lnTo>
                <a:lnTo>
                  <a:pt x="362" y="10"/>
                </a:lnTo>
                <a:lnTo>
                  <a:pt x="374" y="14"/>
                </a:lnTo>
                <a:lnTo>
                  <a:pt x="388" y="19"/>
                </a:lnTo>
                <a:lnTo>
                  <a:pt x="398" y="26"/>
                </a:lnTo>
                <a:lnTo>
                  <a:pt x="405" y="31"/>
                </a:lnTo>
                <a:lnTo>
                  <a:pt x="412" y="41"/>
                </a:lnTo>
                <a:lnTo>
                  <a:pt x="417" y="48"/>
                </a:lnTo>
                <a:lnTo>
                  <a:pt x="422" y="53"/>
                </a:lnTo>
                <a:lnTo>
                  <a:pt x="422" y="60"/>
                </a:lnTo>
                <a:lnTo>
                  <a:pt x="424" y="64"/>
                </a:lnTo>
                <a:lnTo>
                  <a:pt x="422" y="69"/>
                </a:lnTo>
                <a:lnTo>
                  <a:pt x="422" y="74"/>
                </a:lnTo>
                <a:lnTo>
                  <a:pt x="417" y="79"/>
                </a:lnTo>
                <a:lnTo>
                  <a:pt x="414" y="83"/>
                </a:lnTo>
                <a:lnTo>
                  <a:pt x="410" y="88"/>
                </a:lnTo>
                <a:lnTo>
                  <a:pt x="403" y="93"/>
                </a:lnTo>
                <a:lnTo>
                  <a:pt x="395" y="98"/>
                </a:lnTo>
                <a:lnTo>
                  <a:pt x="386" y="103"/>
                </a:lnTo>
                <a:lnTo>
                  <a:pt x="376" y="107"/>
                </a:lnTo>
                <a:lnTo>
                  <a:pt x="367" y="110"/>
                </a:lnTo>
                <a:lnTo>
                  <a:pt x="355" y="114"/>
                </a:lnTo>
                <a:lnTo>
                  <a:pt x="341" y="117"/>
                </a:lnTo>
                <a:lnTo>
                  <a:pt x="326" y="122"/>
                </a:lnTo>
                <a:lnTo>
                  <a:pt x="312" y="124"/>
                </a:lnTo>
                <a:lnTo>
                  <a:pt x="295" y="126"/>
                </a:lnTo>
                <a:lnTo>
                  <a:pt x="279" y="129"/>
                </a:lnTo>
                <a:lnTo>
                  <a:pt x="243" y="138"/>
                </a:lnTo>
                <a:lnTo>
                  <a:pt x="205" y="148"/>
                </a:lnTo>
                <a:lnTo>
                  <a:pt x="169" y="152"/>
                </a:lnTo>
                <a:lnTo>
                  <a:pt x="133" y="160"/>
                </a:lnTo>
                <a:lnTo>
                  <a:pt x="100" y="164"/>
                </a:lnTo>
                <a:lnTo>
                  <a:pt x="67" y="167"/>
                </a:lnTo>
                <a:lnTo>
                  <a:pt x="33" y="169"/>
                </a:lnTo>
                <a:lnTo>
                  <a:pt x="0" y="169"/>
                </a:lnTo>
                <a:lnTo>
                  <a:pt x="0" y="64"/>
                </a:lnTo>
                <a:lnTo>
                  <a:pt x="24" y="64"/>
                </a:lnTo>
                <a:lnTo>
                  <a:pt x="48" y="62"/>
                </a:lnTo>
                <a:lnTo>
                  <a:pt x="71" y="60"/>
                </a:lnTo>
                <a:lnTo>
                  <a:pt x="98" y="57"/>
                </a:lnTo>
                <a:lnTo>
                  <a:pt x="121" y="53"/>
                </a:lnTo>
                <a:lnTo>
                  <a:pt x="145" y="48"/>
                </a:lnTo>
                <a:lnTo>
                  <a:pt x="169" y="43"/>
                </a:lnTo>
                <a:lnTo>
                  <a:pt x="193" y="38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Freeform 45"/>
          <p:cNvSpPr/>
          <p:nvPr/>
        </p:nvSpPr>
        <p:spPr>
          <a:xfrm>
            <a:off x="6081840" y="2776680"/>
            <a:ext cx="136440" cy="1353960"/>
          </a:xfrm>
          <a:custGeom>
            <a:avLst/>
            <a:gdLst/>
            <a:ahLst/>
            <a:rect l="l" t="t" r="r" b="b"/>
            <a:pathLst>
              <a:path w="214" h="2132">
                <a:moveTo>
                  <a:pt x="133" y="2132"/>
                </a:moveTo>
                <a:lnTo>
                  <a:pt x="128" y="2130"/>
                </a:lnTo>
                <a:lnTo>
                  <a:pt x="124" y="2130"/>
                </a:lnTo>
                <a:lnTo>
                  <a:pt x="119" y="2127"/>
                </a:lnTo>
                <a:lnTo>
                  <a:pt x="114" y="2125"/>
                </a:lnTo>
                <a:lnTo>
                  <a:pt x="109" y="2120"/>
                </a:lnTo>
                <a:lnTo>
                  <a:pt x="105" y="2115"/>
                </a:lnTo>
                <a:lnTo>
                  <a:pt x="100" y="2111"/>
                </a:lnTo>
                <a:lnTo>
                  <a:pt x="95" y="2103"/>
                </a:lnTo>
                <a:lnTo>
                  <a:pt x="88" y="2096"/>
                </a:lnTo>
                <a:lnTo>
                  <a:pt x="83" y="2089"/>
                </a:lnTo>
                <a:lnTo>
                  <a:pt x="78" y="2080"/>
                </a:lnTo>
                <a:lnTo>
                  <a:pt x="71" y="2070"/>
                </a:lnTo>
                <a:lnTo>
                  <a:pt x="67" y="2061"/>
                </a:lnTo>
                <a:lnTo>
                  <a:pt x="59" y="2051"/>
                </a:lnTo>
                <a:lnTo>
                  <a:pt x="55" y="2039"/>
                </a:lnTo>
                <a:lnTo>
                  <a:pt x="47" y="2027"/>
                </a:lnTo>
                <a:lnTo>
                  <a:pt x="36" y="2004"/>
                </a:lnTo>
                <a:lnTo>
                  <a:pt x="26" y="1982"/>
                </a:lnTo>
                <a:lnTo>
                  <a:pt x="16" y="1961"/>
                </a:lnTo>
                <a:lnTo>
                  <a:pt x="14" y="1951"/>
                </a:lnTo>
                <a:lnTo>
                  <a:pt x="9" y="1944"/>
                </a:lnTo>
                <a:lnTo>
                  <a:pt x="7" y="1935"/>
                </a:lnTo>
                <a:lnTo>
                  <a:pt x="5" y="1927"/>
                </a:lnTo>
                <a:lnTo>
                  <a:pt x="2" y="1920"/>
                </a:lnTo>
                <a:lnTo>
                  <a:pt x="2" y="1915"/>
                </a:lnTo>
                <a:lnTo>
                  <a:pt x="0" y="1911"/>
                </a:lnTo>
                <a:lnTo>
                  <a:pt x="0" y="1906"/>
                </a:lnTo>
                <a:lnTo>
                  <a:pt x="0" y="1901"/>
                </a:lnTo>
                <a:lnTo>
                  <a:pt x="0" y="1899"/>
                </a:lnTo>
                <a:lnTo>
                  <a:pt x="0" y="1896"/>
                </a:lnTo>
                <a:lnTo>
                  <a:pt x="0" y="1892"/>
                </a:lnTo>
                <a:lnTo>
                  <a:pt x="0" y="1887"/>
                </a:lnTo>
                <a:lnTo>
                  <a:pt x="0" y="1880"/>
                </a:lnTo>
                <a:lnTo>
                  <a:pt x="0" y="1870"/>
                </a:lnTo>
                <a:lnTo>
                  <a:pt x="0" y="1863"/>
                </a:lnTo>
                <a:lnTo>
                  <a:pt x="0" y="1851"/>
                </a:lnTo>
                <a:lnTo>
                  <a:pt x="0" y="1842"/>
                </a:lnTo>
                <a:lnTo>
                  <a:pt x="2" y="1827"/>
                </a:lnTo>
                <a:lnTo>
                  <a:pt x="2" y="1813"/>
                </a:lnTo>
                <a:lnTo>
                  <a:pt x="2" y="1799"/>
                </a:lnTo>
                <a:lnTo>
                  <a:pt x="5" y="1782"/>
                </a:lnTo>
                <a:lnTo>
                  <a:pt x="5" y="1766"/>
                </a:lnTo>
                <a:lnTo>
                  <a:pt x="7" y="1746"/>
                </a:lnTo>
                <a:lnTo>
                  <a:pt x="9" y="1725"/>
                </a:lnTo>
                <a:lnTo>
                  <a:pt x="12" y="1706"/>
                </a:lnTo>
                <a:lnTo>
                  <a:pt x="14" y="1666"/>
                </a:lnTo>
                <a:lnTo>
                  <a:pt x="19" y="1627"/>
                </a:lnTo>
                <a:lnTo>
                  <a:pt x="21" y="1589"/>
                </a:lnTo>
                <a:lnTo>
                  <a:pt x="24" y="1551"/>
                </a:lnTo>
                <a:lnTo>
                  <a:pt x="26" y="1513"/>
                </a:lnTo>
                <a:lnTo>
                  <a:pt x="28" y="1478"/>
                </a:lnTo>
                <a:lnTo>
                  <a:pt x="31" y="1442"/>
                </a:lnTo>
                <a:lnTo>
                  <a:pt x="36" y="1409"/>
                </a:lnTo>
                <a:lnTo>
                  <a:pt x="38" y="1389"/>
                </a:lnTo>
                <a:lnTo>
                  <a:pt x="40" y="1370"/>
                </a:lnTo>
                <a:lnTo>
                  <a:pt x="40" y="1349"/>
                </a:lnTo>
                <a:lnTo>
                  <a:pt x="43" y="1328"/>
                </a:lnTo>
                <a:lnTo>
                  <a:pt x="45" y="1304"/>
                </a:lnTo>
                <a:lnTo>
                  <a:pt x="45" y="1278"/>
                </a:lnTo>
                <a:lnTo>
                  <a:pt x="47" y="1251"/>
                </a:lnTo>
                <a:lnTo>
                  <a:pt x="47" y="1223"/>
                </a:lnTo>
                <a:lnTo>
                  <a:pt x="50" y="1194"/>
                </a:lnTo>
                <a:lnTo>
                  <a:pt x="50" y="1163"/>
                </a:lnTo>
                <a:lnTo>
                  <a:pt x="52" y="1130"/>
                </a:lnTo>
                <a:lnTo>
                  <a:pt x="52" y="1094"/>
                </a:lnTo>
                <a:lnTo>
                  <a:pt x="55" y="1059"/>
                </a:lnTo>
                <a:lnTo>
                  <a:pt x="55" y="1021"/>
                </a:lnTo>
                <a:lnTo>
                  <a:pt x="57" y="983"/>
                </a:lnTo>
                <a:lnTo>
                  <a:pt x="59" y="942"/>
                </a:lnTo>
                <a:lnTo>
                  <a:pt x="59" y="902"/>
                </a:lnTo>
                <a:lnTo>
                  <a:pt x="59" y="864"/>
                </a:lnTo>
                <a:lnTo>
                  <a:pt x="59" y="825"/>
                </a:lnTo>
                <a:lnTo>
                  <a:pt x="59" y="790"/>
                </a:lnTo>
                <a:lnTo>
                  <a:pt x="59" y="754"/>
                </a:lnTo>
                <a:lnTo>
                  <a:pt x="59" y="723"/>
                </a:lnTo>
                <a:lnTo>
                  <a:pt x="59" y="690"/>
                </a:lnTo>
                <a:lnTo>
                  <a:pt x="59" y="659"/>
                </a:lnTo>
                <a:lnTo>
                  <a:pt x="59" y="630"/>
                </a:lnTo>
                <a:lnTo>
                  <a:pt x="59" y="604"/>
                </a:lnTo>
                <a:lnTo>
                  <a:pt x="59" y="578"/>
                </a:lnTo>
                <a:lnTo>
                  <a:pt x="59" y="552"/>
                </a:lnTo>
                <a:lnTo>
                  <a:pt x="59" y="528"/>
                </a:lnTo>
                <a:lnTo>
                  <a:pt x="59" y="506"/>
                </a:lnTo>
                <a:lnTo>
                  <a:pt x="59" y="485"/>
                </a:lnTo>
                <a:lnTo>
                  <a:pt x="59" y="464"/>
                </a:lnTo>
                <a:lnTo>
                  <a:pt x="59" y="445"/>
                </a:lnTo>
                <a:lnTo>
                  <a:pt x="59" y="423"/>
                </a:lnTo>
                <a:lnTo>
                  <a:pt x="59" y="402"/>
                </a:lnTo>
                <a:lnTo>
                  <a:pt x="57" y="378"/>
                </a:lnTo>
                <a:lnTo>
                  <a:pt x="57" y="352"/>
                </a:lnTo>
                <a:lnTo>
                  <a:pt x="55" y="326"/>
                </a:lnTo>
                <a:lnTo>
                  <a:pt x="55" y="299"/>
                </a:lnTo>
                <a:lnTo>
                  <a:pt x="52" y="271"/>
                </a:lnTo>
                <a:lnTo>
                  <a:pt x="50" y="240"/>
                </a:lnTo>
                <a:lnTo>
                  <a:pt x="47" y="209"/>
                </a:lnTo>
                <a:lnTo>
                  <a:pt x="47" y="178"/>
                </a:lnTo>
                <a:lnTo>
                  <a:pt x="45" y="145"/>
                </a:lnTo>
                <a:lnTo>
                  <a:pt x="43" y="109"/>
                </a:lnTo>
                <a:lnTo>
                  <a:pt x="40" y="73"/>
                </a:lnTo>
                <a:lnTo>
                  <a:pt x="38" y="38"/>
                </a:lnTo>
                <a:lnTo>
                  <a:pt x="36" y="0"/>
                </a:lnTo>
                <a:lnTo>
                  <a:pt x="52" y="7"/>
                </a:lnTo>
                <a:lnTo>
                  <a:pt x="69" y="14"/>
                </a:lnTo>
                <a:lnTo>
                  <a:pt x="86" y="21"/>
                </a:lnTo>
                <a:lnTo>
                  <a:pt x="100" y="28"/>
                </a:lnTo>
                <a:lnTo>
                  <a:pt x="114" y="35"/>
                </a:lnTo>
                <a:lnTo>
                  <a:pt x="128" y="42"/>
                </a:lnTo>
                <a:lnTo>
                  <a:pt x="140" y="50"/>
                </a:lnTo>
                <a:lnTo>
                  <a:pt x="152" y="57"/>
                </a:lnTo>
                <a:lnTo>
                  <a:pt x="162" y="61"/>
                </a:lnTo>
                <a:lnTo>
                  <a:pt x="171" y="69"/>
                </a:lnTo>
                <a:lnTo>
                  <a:pt x="179" y="76"/>
                </a:lnTo>
                <a:lnTo>
                  <a:pt x="186" y="80"/>
                </a:lnTo>
                <a:lnTo>
                  <a:pt x="193" y="88"/>
                </a:lnTo>
                <a:lnTo>
                  <a:pt x="198" y="92"/>
                </a:lnTo>
                <a:lnTo>
                  <a:pt x="202" y="97"/>
                </a:lnTo>
                <a:lnTo>
                  <a:pt x="205" y="102"/>
                </a:lnTo>
                <a:lnTo>
                  <a:pt x="207" y="109"/>
                </a:lnTo>
                <a:lnTo>
                  <a:pt x="210" y="116"/>
                </a:lnTo>
                <a:lnTo>
                  <a:pt x="210" y="123"/>
                </a:lnTo>
                <a:lnTo>
                  <a:pt x="212" y="133"/>
                </a:lnTo>
                <a:lnTo>
                  <a:pt x="212" y="145"/>
                </a:lnTo>
                <a:lnTo>
                  <a:pt x="214" y="159"/>
                </a:lnTo>
                <a:lnTo>
                  <a:pt x="214" y="173"/>
                </a:lnTo>
                <a:lnTo>
                  <a:pt x="214" y="188"/>
                </a:lnTo>
                <a:lnTo>
                  <a:pt x="214" y="204"/>
                </a:lnTo>
                <a:lnTo>
                  <a:pt x="214" y="223"/>
                </a:lnTo>
                <a:lnTo>
                  <a:pt x="212" y="242"/>
                </a:lnTo>
                <a:lnTo>
                  <a:pt x="212" y="264"/>
                </a:lnTo>
                <a:lnTo>
                  <a:pt x="210" y="288"/>
                </a:lnTo>
                <a:lnTo>
                  <a:pt x="210" y="311"/>
                </a:lnTo>
                <a:lnTo>
                  <a:pt x="207" y="335"/>
                </a:lnTo>
                <a:lnTo>
                  <a:pt x="205" y="361"/>
                </a:lnTo>
                <a:lnTo>
                  <a:pt x="202" y="387"/>
                </a:lnTo>
                <a:lnTo>
                  <a:pt x="200" y="416"/>
                </a:lnTo>
                <a:lnTo>
                  <a:pt x="200" y="445"/>
                </a:lnTo>
                <a:lnTo>
                  <a:pt x="198" y="476"/>
                </a:lnTo>
                <a:lnTo>
                  <a:pt x="198" y="504"/>
                </a:lnTo>
                <a:lnTo>
                  <a:pt x="195" y="535"/>
                </a:lnTo>
                <a:lnTo>
                  <a:pt x="195" y="568"/>
                </a:lnTo>
                <a:lnTo>
                  <a:pt x="195" y="599"/>
                </a:lnTo>
                <a:lnTo>
                  <a:pt x="193" y="633"/>
                </a:lnTo>
                <a:lnTo>
                  <a:pt x="193" y="666"/>
                </a:lnTo>
                <a:lnTo>
                  <a:pt x="193" y="735"/>
                </a:lnTo>
                <a:lnTo>
                  <a:pt x="193" y="806"/>
                </a:lnTo>
                <a:lnTo>
                  <a:pt x="193" y="878"/>
                </a:lnTo>
                <a:lnTo>
                  <a:pt x="190" y="918"/>
                </a:lnTo>
                <a:lnTo>
                  <a:pt x="188" y="959"/>
                </a:lnTo>
                <a:lnTo>
                  <a:pt x="188" y="999"/>
                </a:lnTo>
                <a:lnTo>
                  <a:pt x="186" y="1042"/>
                </a:lnTo>
                <a:lnTo>
                  <a:pt x="186" y="1087"/>
                </a:lnTo>
                <a:lnTo>
                  <a:pt x="183" y="1132"/>
                </a:lnTo>
                <a:lnTo>
                  <a:pt x="183" y="1180"/>
                </a:lnTo>
                <a:lnTo>
                  <a:pt x="183" y="1228"/>
                </a:lnTo>
                <a:lnTo>
                  <a:pt x="181" y="1275"/>
                </a:lnTo>
                <a:lnTo>
                  <a:pt x="181" y="1325"/>
                </a:lnTo>
                <a:lnTo>
                  <a:pt x="181" y="1378"/>
                </a:lnTo>
                <a:lnTo>
                  <a:pt x="181" y="1430"/>
                </a:lnTo>
                <a:lnTo>
                  <a:pt x="181" y="1485"/>
                </a:lnTo>
                <a:lnTo>
                  <a:pt x="181" y="1539"/>
                </a:lnTo>
                <a:lnTo>
                  <a:pt x="181" y="1597"/>
                </a:lnTo>
                <a:lnTo>
                  <a:pt x="181" y="1654"/>
                </a:lnTo>
                <a:lnTo>
                  <a:pt x="179" y="1682"/>
                </a:lnTo>
                <a:lnTo>
                  <a:pt x="179" y="1708"/>
                </a:lnTo>
                <a:lnTo>
                  <a:pt x="176" y="1737"/>
                </a:lnTo>
                <a:lnTo>
                  <a:pt x="176" y="1763"/>
                </a:lnTo>
                <a:lnTo>
                  <a:pt x="176" y="1787"/>
                </a:lnTo>
                <a:lnTo>
                  <a:pt x="174" y="1811"/>
                </a:lnTo>
                <a:lnTo>
                  <a:pt x="174" y="1835"/>
                </a:lnTo>
                <a:lnTo>
                  <a:pt x="171" y="1856"/>
                </a:lnTo>
                <a:lnTo>
                  <a:pt x="171" y="1877"/>
                </a:lnTo>
                <a:lnTo>
                  <a:pt x="169" y="1899"/>
                </a:lnTo>
                <a:lnTo>
                  <a:pt x="167" y="1918"/>
                </a:lnTo>
                <a:lnTo>
                  <a:pt x="167" y="1937"/>
                </a:lnTo>
                <a:lnTo>
                  <a:pt x="164" y="1956"/>
                </a:lnTo>
                <a:lnTo>
                  <a:pt x="164" y="1973"/>
                </a:lnTo>
                <a:lnTo>
                  <a:pt x="162" y="1989"/>
                </a:lnTo>
                <a:lnTo>
                  <a:pt x="162" y="2004"/>
                </a:lnTo>
                <a:lnTo>
                  <a:pt x="159" y="2018"/>
                </a:lnTo>
                <a:lnTo>
                  <a:pt x="157" y="2032"/>
                </a:lnTo>
                <a:lnTo>
                  <a:pt x="157" y="2044"/>
                </a:lnTo>
                <a:lnTo>
                  <a:pt x="155" y="2056"/>
                </a:lnTo>
                <a:lnTo>
                  <a:pt x="152" y="2068"/>
                </a:lnTo>
                <a:lnTo>
                  <a:pt x="152" y="2077"/>
                </a:lnTo>
                <a:lnTo>
                  <a:pt x="150" y="2087"/>
                </a:lnTo>
                <a:lnTo>
                  <a:pt x="148" y="2094"/>
                </a:lnTo>
                <a:lnTo>
                  <a:pt x="148" y="2101"/>
                </a:lnTo>
                <a:lnTo>
                  <a:pt x="145" y="2108"/>
                </a:lnTo>
                <a:lnTo>
                  <a:pt x="143" y="2115"/>
                </a:lnTo>
                <a:lnTo>
                  <a:pt x="140" y="2120"/>
                </a:lnTo>
                <a:lnTo>
                  <a:pt x="138" y="2125"/>
                </a:lnTo>
                <a:lnTo>
                  <a:pt x="136" y="2127"/>
                </a:lnTo>
                <a:lnTo>
                  <a:pt x="133" y="2130"/>
                </a:lnTo>
                <a:lnTo>
                  <a:pt x="133" y="213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Freeform 46"/>
          <p:cNvSpPr/>
          <p:nvPr/>
        </p:nvSpPr>
        <p:spPr>
          <a:xfrm>
            <a:off x="6389640" y="2955960"/>
            <a:ext cx="981000" cy="909720"/>
          </a:xfrm>
          <a:custGeom>
            <a:avLst/>
            <a:gdLst/>
            <a:ahLst/>
            <a:rect l="l" t="t" r="r" b="b"/>
            <a:pathLst>
              <a:path w="1546" h="1433">
                <a:moveTo>
                  <a:pt x="1243" y="1216"/>
                </a:moveTo>
                <a:lnTo>
                  <a:pt x="1262" y="1223"/>
                </a:lnTo>
                <a:lnTo>
                  <a:pt x="1281" y="1230"/>
                </a:lnTo>
                <a:lnTo>
                  <a:pt x="1298" y="1237"/>
                </a:lnTo>
                <a:lnTo>
                  <a:pt x="1317" y="1242"/>
                </a:lnTo>
                <a:lnTo>
                  <a:pt x="1332" y="1249"/>
                </a:lnTo>
                <a:lnTo>
                  <a:pt x="1348" y="1256"/>
                </a:lnTo>
                <a:lnTo>
                  <a:pt x="1362" y="1264"/>
                </a:lnTo>
                <a:lnTo>
                  <a:pt x="1379" y="1268"/>
                </a:lnTo>
                <a:lnTo>
                  <a:pt x="1391" y="1275"/>
                </a:lnTo>
                <a:lnTo>
                  <a:pt x="1405" y="1280"/>
                </a:lnTo>
                <a:lnTo>
                  <a:pt x="1417" y="1285"/>
                </a:lnTo>
                <a:lnTo>
                  <a:pt x="1429" y="1292"/>
                </a:lnTo>
                <a:lnTo>
                  <a:pt x="1441" y="1297"/>
                </a:lnTo>
                <a:lnTo>
                  <a:pt x="1453" y="1302"/>
                </a:lnTo>
                <a:lnTo>
                  <a:pt x="1463" y="1306"/>
                </a:lnTo>
                <a:lnTo>
                  <a:pt x="1472" y="1311"/>
                </a:lnTo>
                <a:lnTo>
                  <a:pt x="1482" y="1316"/>
                </a:lnTo>
                <a:lnTo>
                  <a:pt x="1489" y="1318"/>
                </a:lnTo>
                <a:lnTo>
                  <a:pt x="1498" y="1323"/>
                </a:lnTo>
                <a:lnTo>
                  <a:pt x="1505" y="1328"/>
                </a:lnTo>
                <a:lnTo>
                  <a:pt x="1517" y="1335"/>
                </a:lnTo>
                <a:lnTo>
                  <a:pt x="1529" y="1340"/>
                </a:lnTo>
                <a:lnTo>
                  <a:pt x="1536" y="1347"/>
                </a:lnTo>
                <a:lnTo>
                  <a:pt x="1541" y="1352"/>
                </a:lnTo>
                <a:lnTo>
                  <a:pt x="1546" y="1354"/>
                </a:lnTo>
                <a:lnTo>
                  <a:pt x="1546" y="1356"/>
                </a:lnTo>
                <a:lnTo>
                  <a:pt x="1546" y="1361"/>
                </a:lnTo>
                <a:lnTo>
                  <a:pt x="1544" y="1366"/>
                </a:lnTo>
                <a:lnTo>
                  <a:pt x="1541" y="1371"/>
                </a:lnTo>
                <a:lnTo>
                  <a:pt x="1536" y="1375"/>
                </a:lnTo>
                <a:lnTo>
                  <a:pt x="1529" y="1380"/>
                </a:lnTo>
                <a:lnTo>
                  <a:pt x="1522" y="1385"/>
                </a:lnTo>
                <a:lnTo>
                  <a:pt x="1513" y="1390"/>
                </a:lnTo>
                <a:lnTo>
                  <a:pt x="1503" y="1394"/>
                </a:lnTo>
                <a:lnTo>
                  <a:pt x="1491" y="1399"/>
                </a:lnTo>
                <a:lnTo>
                  <a:pt x="1479" y="1402"/>
                </a:lnTo>
                <a:lnTo>
                  <a:pt x="1465" y="1406"/>
                </a:lnTo>
                <a:lnTo>
                  <a:pt x="1451" y="1409"/>
                </a:lnTo>
                <a:lnTo>
                  <a:pt x="1434" y="1414"/>
                </a:lnTo>
                <a:lnTo>
                  <a:pt x="1415" y="1416"/>
                </a:lnTo>
                <a:lnTo>
                  <a:pt x="1396" y="1418"/>
                </a:lnTo>
                <a:lnTo>
                  <a:pt x="1377" y="1423"/>
                </a:lnTo>
                <a:lnTo>
                  <a:pt x="1334" y="1425"/>
                </a:lnTo>
                <a:lnTo>
                  <a:pt x="1291" y="1430"/>
                </a:lnTo>
                <a:lnTo>
                  <a:pt x="1250" y="1430"/>
                </a:lnTo>
                <a:lnTo>
                  <a:pt x="1212" y="1433"/>
                </a:lnTo>
                <a:lnTo>
                  <a:pt x="1177" y="1430"/>
                </a:lnTo>
                <a:lnTo>
                  <a:pt x="1141" y="1430"/>
                </a:lnTo>
                <a:lnTo>
                  <a:pt x="1108" y="1425"/>
                </a:lnTo>
                <a:lnTo>
                  <a:pt x="1074" y="1423"/>
                </a:lnTo>
                <a:lnTo>
                  <a:pt x="1046" y="1418"/>
                </a:lnTo>
                <a:lnTo>
                  <a:pt x="1017" y="1414"/>
                </a:lnTo>
                <a:lnTo>
                  <a:pt x="991" y="1411"/>
                </a:lnTo>
                <a:lnTo>
                  <a:pt x="967" y="1409"/>
                </a:lnTo>
                <a:lnTo>
                  <a:pt x="945" y="1406"/>
                </a:lnTo>
                <a:lnTo>
                  <a:pt x="926" y="1404"/>
                </a:lnTo>
                <a:lnTo>
                  <a:pt x="907" y="1399"/>
                </a:lnTo>
                <a:lnTo>
                  <a:pt x="893" y="1397"/>
                </a:lnTo>
                <a:lnTo>
                  <a:pt x="886" y="1392"/>
                </a:lnTo>
                <a:lnTo>
                  <a:pt x="879" y="1390"/>
                </a:lnTo>
                <a:lnTo>
                  <a:pt x="872" y="1383"/>
                </a:lnTo>
                <a:lnTo>
                  <a:pt x="862" y="1375"/>
                </a:lnTo>
                <a:lnTo>
                  <a:pt x="853" y="1368"/>
                </a:lnTo>
                <a:lnTo>
                  <a:pt x="843" y="1359"/>
                </a:lnTo>
                <a:lnTo>
                  <a:pt x="831" y="1349"/>
                </a:lnTo>
                <a:lnTo>
                  <a:pt x="822" y="1337"/>
                </a:lnTo>
                <a:lnTo>
                  <a:pt x="810" y="1323"/>
                </a:lnTo>
                <a:lnTo>
                  <a:pt x="798" y="1309"/>
                </a:lnTo>
                <a:lnTo>
                  <a:pt x="783" y="1292"/>
                </a:lnTo>
                <a:lnTo>
                  <a:pt x="772" y="1275"/>
                </a:lnTo>
                <a:lnTo>
                  <a:pt x="757" y="1256"/>
                </a:lnTo>
                <a:lnTo>
                  <a:pt x="743" y="1235"/>
                </a:lnTo>
                <a:lnTo>
                  <a:pt x="729" y="1214"/>
                </a:lnTo>
                <a:lnTo>
                  <a:pt x="712" y="1190"/>
                </a:lnTo>
                <a:lnTo>
                  <a:pt x="702" y="1176"/>
                </a:lnTo>
                <a:lnTo>
                  <a:pt x="693" y="1161"/>
                </a:lnTo>
                <a:lnTo>
                  <a:pt x="681" y="1147"/>
                </a:lnTo>
                <a:lnTo>
                  <a:pt x="669" y="1130"/>
                </a:lnTo>
                <a:lnTo>
                  <a:pt x="657" y="1111"/>
                </a:lnTo>
                <a:lnTo>
                  <a:pt x="643" y="1090"/>
                </a:lnTo>
                <a:lnTo>
                  <a:pt x="629" y="1068"/>
                </a:lnTo>
                <a:lnTo>
                  <a:pt x="612" y="1047"/>
                </a:lnTo>
                <a:lnTo>
                  <a:pt x="595" y="1023"/>
                </a:lnTo>
                <a:lnTo>
                  <a:pt x="579" y="997"/>
                </a:lnTo>
                <a:lnTo>
                  <a:pt x="562" y="971"/>
                </a:lnTo>
                <a:lnTo>
                  <a:pt x="543" y="942"/>
                </a:lnTo>
                <a:lnTo>
                  <a:pt x="521" y="911"/>
                </a:lnTo>
                <a:lnTo>
                  <a:pt x="502" y="880"/>
                </a:lnTo>
                <a:lnTo>
                  <a:pt x="481" y="847"/>
                </a:lnTo>
                <a:lnTo>
                  <a:pt x="459" y="814"/>
                </a:lnTo>
                <a:lnTo>
                  <a:pt x="436" y="778"/>
                </a:lnTo>
                <a:lnTo>
                  <a:pt x="412" y="742"/>
                </a:lnTo>
                <a:lnTo>
                  <a:pt x="388" y="704"/>
                </a:lnTo>
                <a:lnTo>
                  <a:pt x="362" y="664"/>
                </a:lnTo>
                <a:lnTo>
                  <a:pt x="336" y="623"/>
                </a:lnTo>
                <a:lnTo>
                  <a:pt x="309" y="581"/>
                </a:lnTo>
                <a:lnTo>
                  <a:pt x="281" y="535"/>
                </a:lnTo>
                <a:lnTo>
                  <a:pt x="252" y="490"/>
                </a:lnTo>
                <a:lnTo>
                  <a:pt x="224" y="445"/>
                </a:lnTo>
                <a:lnTo>
                  <a:pt x="195" y="397"/>
                </a:lnTo>
                <a:lnTo>
                  <a:pt x="164" y="347"/>
                </a:lnTo>
                <a:lnTo>
                  <a:pt x="131" y="295"/>
                </a:lnTo>
                <a:lnTo>
                  <a:pt x="100" y="243"/>
                </a:lnTo>
                <a:lnTo>
                  <a:pt x="66" y="190"/>
                </a:lnTo>
                <a:lnTo>
                  <a:pt x="33" y="135"/>
                </a:lnTo>
                <a:lnTo>
                  <a:pt x="0" y="78"/>
                </a:lnTo>
                <a:lnTo>
                  <a:pt x="28" y="40"/>
                </a:lnTo>
                <a:lnTo>
                  <a:pt x="59" y="0"/>
                </a:lnTo>
                <a:lnTo>
                  <a:pt x="92" y="47"/>
                </a:lnTo>
                <a:lnTo>
                  <a:pt x="123" y="95"/>
                </a:lnTo>
                <a:lnTo>
                  <a:pt x="154" y="140"/>
                </a:lnTo>
                <a:lnTo>
                  <a:pt x="185" y="183"/>
                </a:lnTo>
                <a:lnTo>
                  <a:pt x="214" y="223"/>
                </a:lnTo>
                <a:lnTo>
                  <a:pt x="243" y="264"/>
                </a:lnTo>
                <a:lnTo>
                  <a:pt x="269" y="302"/>
                </a:lnTo>
                <a:lnTo>
                  <a:pt x="295" y="340"/>
                </a:lnTo>
                <a:lnTo>
                  <a:pt x="321" y="376"/>
                </a:lnTo>
                <a:lnTo>
                  <a:pt x="345" y="409"/>
                </a:lnTo>
                <a:lnTo>
                  <a:pt x="369" y="442"/>
                </a:lnTo>
                <a:lnTo>
                  <a:pt x="390" y="473"/>
                </a:lnTo>
                <a:lnTo>
                  <a:pt x="412" y="502"/>
                </a:lnTo>
                <a:lnTo>
                  <a:pt x="433" y="531"/>
                </a:lnTo>
                <a:lnTo>
                  <a:pt x="452" y="557"/>
                </a:lnTo>
                <a:lnTo>
                  <a:pt x="471" y="583"/>
                </a:lnTo>
                <a:lnTo>
                  <a:pt x="488" y="609"/>
                </a:lnTo>
                <a:lnTo>
                  <a:pt x="507" y="635"/>
                </a:lnTo>
                <a:lnTo>
                  <a:pt x="526" y="659"/>
                </a:lnTo>
                <a:lnTo>
                  <a:pt x="545" y="683"/>
                </a:lnTo>
                <a:lnTo>
                  <a:pt x="564" y="707"/>
                </a:lnTo>
                <a:lnTo>
                  <a:pt x="583" y="730"/>
                </a:lnTo>
                <a:lnTo>
                  <a:pt x="602" y="754"/>
                </a:lnTo>
                <a:lnTo>
                  <a:pt x="624" y="776"/>
                </a:lnTo>
                <a:lnTo>
                  <a:pt x="643" y="797"/>
                </a:lnTo>
                <a:lnTo>
                  <a:pt x="662" y="819"/>
                </a:lnTo>
                <a:lnTo>
                  <a:pt x="702" y="859"/>
                </a:lnTo>
                <a:lnTo>
                  <a:pt x="745" y="895"/>
                </a:lnTo>
                <a:lnTo>
                  <a:pt x="786" y="930"/>
                </a:lnTo>
                <a:lnTo>
                  <a:pt x="805" y="949"/>
                </a:lnTo>
                <a:lnTo>
                  <a:pt x="826" y="968"/>
                </a:lnTo>
                <a:lnTo>
                  <a:pt x="850" y="987"/>
                </a:lnTo>
                <a:lnTo>
                  <a:pt x="874" y="1007"/>
                </a:lnTo>
                <a:lnTo>
                  <a:pt x="900" y="1026"/>
                </a:lnTo>
                <a:lnTo>
                  <a:pt x="926" y="1042"/>
                </a:lnTo>
                <a:lnTo>
                  <a:pt x="955" y="1059"/>
                </a:lnTo>
                <a:lnTo>
                  <a:pt x="984" y="1078"/>
                </a:lnTo>
                <a:lnTo>
                  <a:pt x="1012" y="1095"/>
                </a:lnTo>
                <a:lnTo>
                  <a:pt x="1043" y="1111"/>
                </a:lnTo>
                <a:lnTo>
                  <a:pt x="1074" y="1130"/>
                </a:lnTo>
                <a:lnTo>
                  <a:pt x="1108" y="1147"/>
                </a:lnTo>
                <a:lnTo>
                  <a:pt x="1139" y="1164"/>
                </a:lnTo>
                <a:lnTo>
                  <a:pt x="1174" y="1180"/>
                </a:lnTo>
                <a:lnTo>
                  <a:pt x="1208" y="1197"/>
                </a:lnTo>
                <a:lnTo>
                  <a:pt x="1243" y="121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Freeform 42"/>
          <p:cNvSpPr/>
          <p:nvPr/>
        </p:nvSpPr>
        <p:spPr>
          <a:xfrm>
            <a:off x="5457960" y="3456000"/>
            <a:ext cx="892080" cy="353880"/>
          </a:xfrm>
          <a:custGeom>
            <a:avLst/>
            <a:gdLst/>
            <a:ahLst/>
            <a:rect l="l" t="t" r="r" b="b"/>
            <a:pathLst>
              <a:path w="1404" h="556">
                <a:moveTo>
                  <a:pt x="400" y="311"/>
                </a:moveTo>
                <a:lnTo>
                  <a:pt x="417" y="307"/>
                </a:lnTo>
                <a:lnTo>
                  <a:pt x="436" y="299"/>
                </a:lnTo>
                <a:lnTo>
                  <a:pt x="458" y="292"/>
                </a:lnTo>
                <a:lnTo>
                  <a:pt x="481" y="285"/>
                </a:lnTo>
                <a:lnTo>
                  <a:pt x="508" y="276"/>
                </a:lnTo>
                <a:lnTo>
                  <a:pt x="536" y="266"/>
                </a:lnTo>
                <a:lnTo>
                  <a:pt x="565" y="257"/>
                </a:lnTo>
                <a:lnTo>
                  <a:pt x="598" y="245"/>
                </a:lnTo>
                <a:lnTo>
                  <a:pt x="632" y="233"/>
                </a:lnTo>
                <a:lnTo>
                  <a:pt x="667" y="221"/>
                </a:lnTo>
                <a:lnTo>
                  <a:pt x="705" y="207"/>
                </a:lnTo>
                <a:lnTo>
                  <a:pt x="744" y="192"/>
                </a:lnTo>
                <a:lnTo>
                  <a:pt x="786" y="178"/>
                </a:lnTo>
                <a:lnTo>
                  <a:pt x="829" y="164"/>
                </a:lnTo>
                <a:lnTo>
                  <a:pt x="875" y="147"/>
                </a:lnTo>
                <a:lnTo>
                  <a:pt x="920" y="130"/>
                </a:lnTo>
                <a:lnTo>
                  <a:pt x="944" y="121"/>
                </a:lnTo>
                <a:lnTo>
                  <a:pt x="968" y="114"/>
                </a:lnTo>
                <a:lnTo>
                  <a:pt x="989" y="104"/>
                </a:lnTo>
                <a:lnTo>
                  <a:pt x="1010" y="97"/>
                </a:lnTo>
                <a:lnTo>
                  <a:pt x="1032" y="90"/>
                </a:lnTo>
                <a:lnTo>
                  <a:pt x="1051" y="83"/>
                </a:lnTo>
                <a:lnTo>
                  <a:pt x="1072" y="78"/>
                </a:lnTo>
                <a:lnTo>
                  <a:pt x="1091" y="71"/>
                </a:lnTo>
                <a:lnTo>
                  <a:pt x="1108" y="64"/>
                </a:lnTo>
                <a:lnTo>
                  <a:pt x="1127" y="59"/>
                </a:lnTo>
                <a:lnTo>
                  <a:pt x="1144" y="54"/>
                </a:lnTo>
                <a:lnTo>
                  <a:pt x="1161" y="50"/>
                </a:lnTo>
                <a:lnTo>
                  <a:pt x="1177" y="42"/>
                </a:lnTo>
                <a:lnTo>
                  <a:pt x="1192" y="40"/>
                </a:lnTo>
                <a:lnTo>
                  <a:pt x="1206" y="35"/>
                </a:lnTo>
                <a:lnTo>
                  <a:pt x="1220" y="31"/>
                </a:lnTo>
                <a:lnTo>
                  <a:pt x="1232" y="26"/>
                </a:lnTo>
                <a:lnTo>
                  <a:pt x="1246" y="23"/>
                </a:lnTo>
                <a:lnTo>
                  <a:pt x="1258" y="21"/>
                </a:lnTo>
                <a:lnTo>
                  <a:pt x="1270" y="16"/>
                </a:lnTo>
                <a:lnTo>
                  <a:pt x="1280" y="14"/>
                </a:lnTo>
                <a:lnTo>
                  <a:pt x="1289" y="11"/>
                </a:lnTo>
                <a:lnTo>
                  <a:pt x="1299" y="9"/>
                </a:lnTo>
                <a:lnTo>
                  <a:pt x="1308" y="7"/>
                </a:lnTo>
                <a:lnTo>
                  <a:pt x="1315" y="7"/>
                </a:lnTo>
                <a:lnTo>
                  <a:pt x="1325" y="4"/>
                </a:lnTo>
                <a:lnTo>
                  <a:pt x="1332" y="4"/>
                </a:lnTo>
                <a:lnTo>
                  <a:pt x="1337" y="2"/>
                </a:lnTo>
                <a:lnTo>
                  <a:pt x="1344" y="2"/>
                </a:lnTo>
                <a:lnTo>
                  <a:pt x="1349" y="2"/>
                </a:lnTo>
                <a:lnTo>
                  <a:pt x="1351" y="0"/>
                </a:lnTo>
                <a:lnTo>
                  <a:pt x="1356" y="0"/>
                </a:lnTo>
                <a:lnTo>
                  <a:pt x="1368" y="2"/>
                </a:lnTo>
                <a:lnTo>
                  <a:pt x="1380" y="2"/>
                </a:lnTo>
                <a:lnTo>
                  <a:pt x="1387" y="4"/>
                </a:lnTo>
                <a:lnTo>
                  <a:pt x="1394" y="9"/>
                </a:lnTo>
                <a:lnTo>
                  <a:pt x="1399" y="11"/>
                </a:lnTo>
                <a:lnTo>
                  <a:pt x="1401" y="16"/>
                </a:lnTo>
                <a:lnTo>
                  <a:pt x="1404" y="21"/>
                </a:lnTo>
                <a:lnTo>
                  <a:pt x="1404" y="26"/>
                </a:lnTo>
                <a:lnTo>
                  <a:pt x="1404" y="28"/>
                </a:lnTo>
                <a:lnTo>
                  <a:pt x="1401" y="31"/>
                </a:lnTo>
                <a:lnTo>
                  <a:pt x="1399" y="33"/>
                </a:lnTo>
                <a:lnTo>
                  <a:pt x="1396" y="35"/>
                </a:lnTo>
                <a:lnTo>
                  <a:pt x="1389" y="38"/>
                </a:lnTo>
                <a:lnTo>
                  <a:pt x="1385" y="42"/>
                </a:lnTo>
                <a:lnTo>
                  <a:pt x="1377" y="45"/>
                </a:lnTo>
                <a:lnTo>
                  <a:pt x="1368" y="50"/>
                </a:lnTo>
                <a:lnTo>
                  <a:pt x="1358" y="54"/>
                </a:lnTo>
                <a:lnTo>
                  <a:pt x="1346" y="61"/>
                </a:lnTo>
                <a:lnTo>
                  <a:pt x="1334" y="66"/>
                </a:lnTo>
                <a:lnTo>
                  <a:pt x="1323" y="73"/>
                </a:lnTo>
                <a:lnTo>
                  <a:pt x="1308" y="80"/>
                </a:lnTo>
                <a:lnTo>
                  <a:pt x="1294" y="88"/>
                </a:lnTo>
                <a:lnTo>
                  <a:pt x="1277" y="95"/>
                </a:lnTo>
                <a:lnTo>
                  <a:pt x="1258" y="102"/>
                </a:lnTo>
                <a:lnTo>
                  <a:pt x="1239" y="111"/>
                </a:lnTo>
                <a:lnTo>
                  <a:pt x="1220" y="121"/>
                </a:lnTo>
                <a:lnTo>
                  <a:pt x="1199" y="130"/>
                </a:lnTo>
                <a:lnTo>
                  <a:pt x="1177" y="140"/>
                </a:lnTo>
                <a:lnTo>
                  <a:pt x="1153" y="152"/>
                </a:lnTo>
                <a:lnTo>
                  <a:pt x="1130" y="161"/>
                </a:lnTo>
                <a:lnTo>
                  <a:pt x="1103" y="173"/>
                </a:lnTo>
                <a:lnTo>
                  <a:pt x="1077" y="185"/>
                </a:lnTo>
                <a:lnTo>
                  <a:pt x="1049" y="197"/>
                </a:lnTo>
                <a:lnTo>
                  <a:pt x="1020" y="211"/>
                </a:lnTo>
                <a:lnTo>
                  <a:pt x="991" y="223"/>
                </a:lnTo>
                <a:lnTo>
                  <a:pt x="960" y="238"/>
                </a:lnTo>
                <a:lnTo>
                  <a:pt x="927" y="252"/>
                </a:lnTo>
                <a:lnTo>
                  <a:pt x="894" y="266"/>
                </a:lnTo>
                <a:lnTo>
                  <a:pt x="860" y="283"/>
                </a:lnTo>
                <a:lnTo>
                  <a:pt x="825" y="297"/>
                </a:lnTo>
                <a:lnTo>
                  <a:pt x="786" y="314"/>
                </a:lnTo>
                <a:lnTo>
                  <a:pt x="751" y="328"/>
                </a:lnTo>
                <a:lnTo>
                  <a:pt x="717" y="345"/>
                </a:lnTo>
                <a:lnTo>
                  <a:pt x="684" y="359"/>
                </a:lnTo>
                <a:lnTo>
                  <a:pt x="651" y="371"/>
                </a:lnTo>
                <a:lnTo>
                  <a:pt x="620" y="385"/>
                </a:lnTo>
                <a:lnTo>
                  <a:pt x="591" y="397"/>
                </a:lnTo>
                <a:lnTo>
                  <a:pt x="562" y="411"/>
                </a:lnTo>
                <a:lnTo>
                  <a:pt x="534" y="423"/>
                </a:lnTo>
                <a:lnTo>
                  <a:pt x="508" y="433"/>
                </a:lnTo>
                <a:lnTo>
                  <a:pt x="481" y="445"/>
                </a:lnTo>
                <a:lnTo>
                  <a:pt x="455" y="454"/>
                </a:lnTo>
                <a:lnTo>
                  <a:pt x="431" y="464"/>
                </a:lnTo>
                <a:lnTo>
                  <a:pt x="410" y="473"/>
                </a:lnTo>
                <a:lnTo>
                  <a:pt x="389" y="483"/>
                </a:lnTo>
                <a:lnTo>
                  <a:pt x="367" y="492"/>
                </a:lnTo>
                <a:lnTo>
                  <a:pt x="348" y="499"/>
                </a:lnTo>
                <a:lnTo>
                  <a:pt x="331" y="507"/>
                </a:lnTo>
                <a:lnTo>
                  <a:pt x="312" y="514"/>
                </a:lnTo>
                <a:lnTo>
                  <a:pt x="298" y="518"/>
                </a:lnTo>
                <a:lnTo>
                  <a:pt x="281" y="526"/>
                </a:lnTo>
                <a:lnTo>
                  <a:pt x="267" y="530"/>
                </a:lnTo>
                <a:lnTo>
                  <a:pt x="255" y="535"/>
                </a:lnTo>
                <a:lnTo>
                  <a:pt x="243" y="540"/>
                </a:lnTo>
                <a:lnTo>
                  <a:pt x="231" y="545"/>
                </a:lnTo>
                <a:lnTo>
                  <a:pt x="222" y="547"/>
                </a:lnTo>
                <a:lnTo>
                  <a:pt x="212" y="549"/>
                </a:lnTo>
                <a:lnTo>
                  <a:pt x="205" y="552"/>
                </a:lnTo>
                <a:lnTo>
                  <a:pt x="198" y="554"/>
                </a:lnTo>
                <a:lnTo>
                  <a:pt x="193" y="554"/>
                </a:lnTo>
                <a:lnTo>
                  <a:pt x="188" y="556"/>
                </a:lnTo>
                <a:lnTo>
                  <a:pt x="184" y="556"/>
                </a:lnTo>
                <a:lnTo>
                  <a:pt x="176" y="556"/>
                </a:lnTo>
                <a:lnTo>
                  <a:pt x="169" y="554"/>
                </a:lnTo>
                <a:lnTo>
                  <a:pt x="162" y="554"/>
                </a:lnTo>
                <a:lnTo>
                  <a:pt x="155" y="552"/>
                </a:lnTo>
                <a:lnTo>
                  <a:pt x="145" y="549"/>
                </a:lnTo>
                <a:lnTo>
                  <a:pt x="138" y="545"/>
                </a:lnTo>
                <a:lnTo>
                  <a:pt x="131" y="542"/>
                </a:lnTo>
                <a:lnTo>
                  <a:pt x="122" y="537"/>
                </a:lnTo>
                <a:lnTo>
                  <a:pt x="114" y="533"/>
                </a:lnTo>
                <a:lnTo>
                  <a:pt x="107" y="526"/>
                </a:lnTo>
                <a:lnTo>
                  <a:pt x="98" y="521"/>
                </a:lnTo>
                <a:lnTo>
                  <a:pt x="91" y="514"/>
                </a:lnTo>
                <a:lnTo>
                  <a:pt x="84" y="504"/>
                </a:lnTo>
                <a:lnTo>
                  <a:pt x="76" y="497"/>
                </a:lnTo>
                <a:lnTo>
                  <a:pt x="69" y="487"/>
                </a:lnTo>
                <a:lnTo>
                  <a:pt x="62" y="478"/>
                </a:lnTo>
                <a:lnTo>
                  <a:pt x="45" y="464"/>
                </a:lnTo>
                <a:lnTo>
                  <a:pt x="38" y="457"/>
                </a:lnTo>
                <a:lnTo>
                  <a:pt x="31" y="449"/>
                </a:lnTo>
                <a:lnTo>
                  <a:pt x="24" y="442"/>
                </a:lnTo>
                <a:lnTo>
                  <a:pt x="19" y="435"/>
                </a:lnTo>
                <a:lnTo>
                  <a:pt x="14" y="428"/>
                </a:lnTo>
                <a:lnTo>
                  <a:pt x="10" y="423"/>
                </a:lnTo>
                <a:lnTo>
                  <a:pt x="7" y="416"/>
                </a:lnTo>
                <a:lnTo>
                  <a:pt x="2" y="409"/>
                </a:lnTo>
                <a:lnTo>
                  <a:pt x="0" y="402"/>
                </a:lnTo>
                <a:lnTo>
                  <a:pt x="0" y="397"/>
                </a:lnTo>
                <a:lnTo>
                  <a:pt x="0" y="392"/>
                </a:lnTo>
                <a:lnTo>
                  <a:pt x="0" y="385"/>
                </a:lnTo>
                <a:lnTo>
                  <a:pt x="0" y="380"/>
                </a:lnTo>
                <a:lnTo>
                  <a:pt x="2" y="376"/>
                </a:lnTo>
                <a:lnTo>
                  <a:pt x="2" y="371"/>
                </a:lnTo>
                <a:lnTo>
                  <a:pt x="2" y="366"/>
                </a:lnTo>
                <a:lnTo>
                  <a:pt x="5" y="361"/>
                </a:lnTo>
                <a:lnTo>
                  <a:pt x="10" y="359"/>
                </a:lnTo>
                <a:lnTo>
                  <a:pt x="12" y="354"/>
                </a:lnTo>
                <a:lnTo>
                  <a:pt x="17" y="352"/>
                </a:lnTo>
                <a:lnTo>
                  <a:pt x="22" y="349"/>
                </a:lnTo>
                <a:lnTo>
                  <a:pt x="29" y="347"/>
                </a:lnTo>
                <a:lnTo>
                  <a:pt x="33" y="345"/>
                </a:lnTo>
                <a:lnTo>
                  <a:pt x="41" y="342"/>
                </a:lnTo>
                <a:lnTo>
                  <a:pt x="50" y="340"/>
                </a:lnTo>
                <a:lnTo>
                  <a:pt x="57" y="340"/>
                </a:lnTo>
                <a:lnTo>
                  <a:pt x="67" y="338"/>
                </a:lnTo>
                <a:lnTo>
                  <a:pt x="76" y="338"/>
                </a:lnTo>
                <a:lnTo>
                  <a:pt x="88" y="338"/>
                </a:lnTo>
                <a:lnTo>
                  <a:pt x="98" y="338"/>
                </a:lnTo>
                <a:lnTo>
                  <a:pt x="119" y="340"/>
                </a:lnTo>
                <a:lnTo>
                  <a:pt x="141" y="345"/>
                </a:lnTo>
                <a:lnTo>
                  <a:pt x="157" y="347"/>
                </a:lnTo>
                <a:lnTo>
                  <a:pt x="174" y="347"/>
                </a:lnTo>
                <a:lnTo>
                  <a:pt x="191" y="347"/>
                </a:lnTo>
                <a:lnTo>
                  <a:pt x="205" y="345"/>
                </a:lnTo>
                <a:lnTo>
                  <a:pt x="217" y="340"/>
                </a:lnTo>
                <a:lnTo>
                  <a:pt x="231" y="338"/>
                </a:lnTo>
                <a:lnTo>
                  <a:pt x="236" y="338"/>
                </a:lnTo>
                <a:lnTo>
                  <a:pt x="243" y="335"/>
                </a:lnTo>
                <a:lnTo>
                  <a:pt x="248" y="335"/>
                </a:lnTo>
                <a:lnTo>
                  <a:pt x="257" y="335"/>
                </a:lnTo>
                <a:lnTo>
                  <a:pt x="265" y="333"/>
                </a:lnTo>
                <a:lnTo>
                  <a:pt x="274" y="333"/>
                </a:lnTo>
                <a:lnTo>
                  <a:pt x="284" y="330"/>
                </a:lnTo>
                <a:lnTo>
                  <a:pt x="293" y="328"/>
                </a:lnTo>
                <a:lnTo>
                  <a:pt x="305" y="326"/>
                </a:lnTo>
                <a:lnTo>
                  <a:pt x="317" y="326"/>
                </a:lnTo>
                <a:lnTo>
                  <a:pt x="329" y="323"/>
                </a:lnTo>
                <a:lnTo>
                  <a:pt x="341" y="321"/>
                </a:lnTo>
                <a:lnTo>
                  <a:pt x="355" y="318"/>
                </a:lnTo>
                <a:lnTo>
                  <a:pt x="369" y="316"/>
                </a:lnTo>
                <a:lnTo>
                  <a:pt x="386" y="314"/>
                </a:lnTo>
                <a:lnTo>
                  <a:pt x="400" y="31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矩形 2"/>
          <p:cNvSpPr/>
          <p:nvPr/>
        </p:nvSpPr>
        <p:spPr>
          <a:xfrm>
            <a:off x="4366440" y="1027080"/>
            <a:ext cx="3073320" cy="4597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Calibri"/>
                <a:ea typeface="宋体"/>
              </a:rPr>
              <a:t>耳朵上面挂上钩，右边反文不是又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62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7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2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7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8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43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Freeform 33"/>
          <p:cNvSpPr/>
          <p:nvPr/>
        </p:nvSpPr>
        <p:spPr>
          <a:xfrm>
            <a:off x="6502320" y="2324160"/>
            <a:ext cx="274680" cy="274680"/>
          </a:xfrm>
          <a:custGeom>
            <a:avLst/>
            <a:gdLst/>
            <a:ahLst/>
            <a:rect l="l" t="t" r="r" b="b"/>
            <a:pathLst>
              <a:path w="431" h="431">
                <a:moveTo>
                  <a:pt x="0" y="26"/>
                </a:moveTo>
                <a:lnTo>
                  <a:pt x="4" y="22"/>
                </a:lnTo>
                <a:lnTo>
                  <a:pt x="12" y="17"/>
                </a:lnTo>
                <a:lnTo>
                  <a:pt x="21" y="12"/>
                </a:lnTo>
                <a:lnTo>
                  <a:pt x="26" y="10"/>
                </a:lnTo>
                <a:lnTo>
                  <a:pt x="33" y="7"/>
                </a:lnTo>
                <a:lnTo>
                  <a:pt x="40" y="5"/>
                </a:lnTo>
                <a:lnTo>
                  <a:pt x="47" y="5"/>
                </a:lnTo>
                <a:lnTo>
                  <a:pt x="55" y="3"/>
                </a:lnTo>
                <a:lnTo>
                  <a:pt x="64" y="3"/>
                </a:lnTo>
                <a:lnTo>
                  <a:pt x="74" y="0"/>
                </a:lnTo>
                <a:lnTo>
                  <a:pt x="83" y="0"/>
                </a:lnTo>
                <a:lnTo>
                  <a:pt x="95" y="0"/>
                </a:lnTo>
                <a:lnTo>
                  <a:pt x="107" y="0"/>
                </a:lnTo>
                <a:lnTo>
                  <a:pt x="116" y="0"/>
                </a:lnTo>
                <a:lnTo>
                  <a:pt x="128" y="0"/>
                </a:lnTo>
                <a:lnTo>
                  <a:pt x="140" y="3"/>
                </a:lnTo>
                <a:lnTo>
                  <a:pt x="150" y="5"/>
                </a:lnTo>
                <a:lnTo>
                  <a:pt x="162" y="7"/>
                </a:lnTo>
                <a:lnTo>
                  <a:pt x="174" y="10"/>
                </a:lnTo>
                <a:lnTo>
                  <a:pt x="186" y="14"/>
                </a:lnTo>
                <a:lnTo>
                  <a:pt x="200" y="19"/>
                </a:lnTo>
                <a:lnTo>
                  <a:pt x="212" y="24"/>
                </a:lnTo>
                <a:lnTo>
                  <a:pt x="224" y="31"/>
                </a:lnTo>
                <a:lnTo>
                  <a:pt x="238" y="38"/>
                </a:lnTo>
                <a:lnTo>
                  <a:pt x="252" y="45"/>
                </a:lnTo>
                <a:lnTo>
                  <a:pt x="267" y="53"/>
                </a:lnTo>
                <a:lnTo>
                  <a:pt x="281" y="62"/>
                </a:lnTo>
                <a:lnTo>
                  <a:pt x="295" y="72"/>
                </a:lnTo>
                <a:lnTo>
                  <a:pt x="309" y="81"/>
                </a:lnTo>
                <a:lnTo>
                  <a:pt x="326" y="93"/>
                </a:lnTo>
                <a:lnTo>
                  <a:pt x="338" y="103"/>
                </a:lnTo>
                <a:lnTo>
                  <a:pt x="352" y="114"/>
                </a:lnTo>
                <a:lnTo>
                  <a:pt x="364" y="126"/>
                </a:lnTo>
                <a:lnTo>
                  <a:pt x="374" y="138"/>
                </a:lnTo>
                <a:lnTo>
                  <a:pt x="383" y="150"/>
                </a:lnTo>
                <a:lnTo>
                  <a:pt x="393" y="162"/>
                </a:lnTo>
                <a:lnTo>
                  <a:pt x="402" y="174"/>
                </a:lnTo>
                <a:lnTo>
                  <a:pt x="410" y="188"/>
                </a:lnTo>
                <a:lnTo>
                  <a:pt x="414" y="200"/>
                </a:lnTo>
                <a:lnTo>
                  <a:pt x="419" y="214"/>
                </a:lnTo>
                <a:lnTo>
                  <a:pt x="424" y="229"/>
                </a:lnTo>
                <a:lnTo>
                  <a:pt x="429" y="243"/>
                </a:lnTo>
                <a:lnTo>
                  <a:pt x="431" y="257"/>
                </a:lnTo>
                <a:lnTo>
                  <a:pt x="431" y="271"/>
                </a:lnTo>
                <a:lnTo>
                  <a:pt x="431" y="288"/>
                </a:lnTo>
                <a:lnTo>
                  <a:pt x="431" y="305"/>
                </a:lnTo>
                <a:lnTo>
                  <a:pt x="431" y="321"/>
                </a:lnTo>
                <a:lnTo>
                  <a:pt x="431" y="336"/>
                </a:lnTo>
                <a:lnTo>
                  <a:pt x="431" y="350"/>
                </a:lnTo>
                <a:lnTo>
                  <a:pt x="431" y="362"/>
                </a:lnTo>
                <a:lnTo>
                  <a:pt x="431" y="374"/>
                </a:lnTo>
                <a:lnTo>
                  <a:pt x="431" y="383"/>
                </a:lnTo>
                <a:lnTo>
                  <a:pt x="431" y="393"/>
                </a:lnTo>
                <a:lnTo>
                  <a:pt x="429" y="400"/>
                </a:lnTo>
                <a:lnTo>
                  <a:pt x="429" y="407"/>
                </a:lnTo>
                <a:lnTo>
                  <a:pt x="429" y="412"/>
                </a:lnTo>
                <a:lnTo>
                  <a:pt x="426" y="417"/>
                </a:lnTo>
                <a:lnTo>
                  <a:pt x="424" y="421"/>
                </a:lnTo>
                <a:lnTo>
                  <a:pt x="424" y="424"/>
                </a:lnTo>
                <a:lnTo>
                  <a:pt x="421" y="424"/>
                </a:lnTo>
                <a:lnTo>
                  <a:pt x="419" y="426"/>
                </a:lnTo>
                <a:lnTo>
                  <a:pt x="417" y="426"/>
                </a:lnTo>
                <a:lnTo>
                  <a:pt x="412" y="429"/>
                </a:lnTo>
                <a:lnTo>
                  <a:pt x="410" y="431"/>
                </a:lnTo>
                <a:lnTo>
                  <a:pt x="405" y="431"/>
                </a:lnTo>
                <a:lnTo>
                  <a:pt x="400" y="431"/>
                </a:lnTo>
                <a:lnTo>
                  <a:pt x="395" y="429"/>
                </a:lnTo>
                <a:lnTo>
                  <a:pt x="391" y="429"/>
                </a:lnTo>
                <a:lnTo>
                  <a:pt x="386" y="426"/>
                </a:lnTo>
                <a:lnTo>
                  <a:pt x="379" y="421"/>
                </a:lnTo>
                <a:lnTo>
                  <a:pt x="371" y="419"/>
                </a:lnTo>
                <a:lnTo>
                  <a:pt x="362" y="414"/>
                </a:lnTo>
                <a:lnTo>
                  <a:pt x="355" y="410"/>
                </a:lnTo>
                <a:lnTo>
                  <a:pt x="345" y="405"/>
                </a:lnTo>
                <a:lnTo>
                  <a:pt x="333" y="398"/>
                </a:lnTo>
                <a:lnTo>
                  <a:pt x="321" y="390"/>
                </a:lnTo>
                <a:lnTo>
                  <a:pt x="309" y="383"/>
                </a:lnTo>
                <a:lnTo>
                  <a:pt x="298" y="379"/>
                </a:lnTo>
                <a:lnTo>
                  <a:pt x="286" y="371"/>
                </a:lnTo>
                <a:lnTo>
                  <a:pt x="271" y="364"/>
                </a:lnTo>
                <a:lnTo>
                  <a:pt x="259" y="355"/>
                </a:lnTo>
                <a:lnTo>
                  <a:pt x="248" y="345"/>
                </a:lnTo>
                <a:lnTo>
                  <a:pt x="233" y="336"/>
                </a:lnTo>
                <a:lnTo>
                  <a:pt x="221" y="326"/>
                </a:lnTo>
                <a:lnTo>
                  <a:pt x="209" y="314"/>
                </a:lnTo>
                <a:lnTo>
                  <a:pt x="195" y="300"/>
                </a:lnTo>
                <a:lnTo>
                  <a:pt x="183" y="288"/>
                </a:lnTo>
                <a:lnTo>
                  <a:pt x="171" y="274"/>
                </a:lnTo>
                <a:lnTo>
                  <a:pt x="157" y="260"/>
                </a:lnTo>
                <a:lnTo>
                  <a:pt x="145" y="243"/>
                </a:lnTo>
                <a:lnTo>
                  <a:pt x="133" y="226"/>
                </a:lnTo>
                <a:lnTo>
                  <a:pt x="119" y="210"/>
                </a:lnTo>
                <a:lnTo>
                  <a:pt x="107" y="191"/>
                </a:lnTo>
                <a:lnTo>
                  <a:pt x="95" y="174"/>
                </a:lnTo>
                <a:lnTo>
                  <a:pt x="83" y="157"/>
                </a:lnTo>
                <a:lnTo>
                  <a:pt x="74" y="141"/>
                </a:lnTo>
                <a:lnTo>
                  <a:pt x="62" y="126"/>
                </a:lnTo>
                <a:lnTo>
                  <a:pt x="52" y="114"/>
                </a:lnTo>
                <a:lnTo>
                  <a:pt x="43" y="100"/>
                </a:lnTo>
                <a:lnTo>
                  <a:pt x="35" y="88"/>
                </a:lnTo>
                <a:lnTo>
                  <a:pt x="28" y="79"/>
                </a:lnTo>
                <a:lnTo>
                  <a:pt x="21" y="69"/>
                </a:lnTo>
                <a:lnTo>
                  <a:pt x="16" y="60"/>
                </a:lnTo>
                <a:lnTo>
                  <a:pt x="12" y="53"/>
                </a:lnTo>
                <a:lnTo>
                  <a:pt x="7" y="45"/>
                </a:lnTo>
                <a:lnTo>
                  <a:pt x="2" y="38"/>
                </a:lnTo>
                <a:lnTo>
                  <a:pt x="0" y="33"/>
                </a:lnTo>
                <a:lnTo>
                  <a:pt x="0" y="31"/>
                </a:lnTo>
                <a:lnTo>
                  <a:pt x="0" y="2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惊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TextBox 3"/>
          <p:cNvSpPr/>
          <p:nvPr/>
        </p:nvSpPr>
        <p:spPr>
          <a:xfrm>
            <a:off x="1235160" y="2017800"/>
            <a:ext cx="112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jīng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63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764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5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6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7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8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9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0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1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2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3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74" name="TextBox 15"/>
          <p:cNvSpPr/>
          <p:nvPr/>
        </p:nvSpPr>
        <p:spPr>
          <a:xfrm>
            <a:off x="4619520" y="4857840"/>
            <a:ext cx="42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注意忄两边的点的写法，左边是垂点，是侧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TextBox 16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忄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TextBox 17"/>
          <p:cNvSpPr/>
          <p:nvPr/>
        </p:nvSpPr>
        <p:spPr>
          <a:xfrm>
            <a:off x="8985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惊动  受惊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TextBox 18"/>
          <p:cNvSpPr/>
          <p:nvPr/>
        </p:nvSpPr>
        <p:spPr>
          <a:xfrm>
            <a:off x="857160" y="4943520"/>
            <a:ext cx="364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孩子们在睡觉，我们不要惊动他们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  <a:ea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Rectangle 27"/>
          <p:cNvSpPr/>
          <p:nvPr/>
        </p:nvSpPr>
        <p:spPr>
          <a:xfrm>
            <a:off x="5435280" y="229716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Freeform 30"/>
          <p:cNvSpPr/>
          <p:nvPr/>
        </p:nvSpPr>
        <p:spPr>
          <a:xfrm>
            <a:off x="5445000" y="2860560"/>
            <a:ext cx="192240" cy="484200"/>
          </a:xfrm>
          <a:custGeom>
            <a:avLst/>
            <a:gdLst/>
            <a:ahLst/>
            <a:rect l="l" t="t" r="r" b="b"/>
            <a:pathLst>
              <a:path w="303" h="762">
                <a:moveTo>
                  <a:pt x="122" y="762"/>
                </a:moveTo>
                <a:lnTo>
                  <a:pt x="119" y="762"/>
                </a:lnTo>
                <a:lnTo>
                  <a:pt x="117" y="759"/>
                </a:lnTo>
                <a:lnTo>
                  <a:pt x="112" y="759"/>
                </a:lnTo>
                <a:lnTo>
                  <a:pt x="110" y="757"/>
                </a:lnTo>
                <a:lnTo>
                  <a:pt x="105" y="755"/>
                </a:lnTo>
                <a:lnTo>
                  <a:pt x="100" y="750"/>
                </a:lnTo>
                <a:lnTo>
                  <a:pt x="98" y="745"/>
                </a:lnTo>
                <a:lnTo>
                  <a:pt x="93" y="740"/>
                </a:lnTo>
                <a:lnTo>
                  <a:pt x="88" y="736"/>
                </a:lnTo>
                <a:lnTo>
                  <a:pt x="84" y="728"/>
                </a:lnTo>
                <a:lnTo>
                  <a:pt x="79" y="724"/>
                </a:lnTo>
                <a:lnTo>
                  <a:pt x="74" y="714"/>
                </a:lnTo>
                <a:lnTo>
                  <a:pt x="69" y="707"/>
                </a:lnTo>
                <a:lnTo>
                  <a:pt x="64" y="697"/>
                </a:lnTo>
                <a:lnTo>
                  <a:pt x="60" y="688"/>
                </a:lnTo>
                <a:lnTo>
                  <a:pt x="55" y="678"/>
                </a:lnTo>
                <a:lnTo>
                  <a:pt x="45" y="671"/>
                </a:lnTo>
                <a:lnTo>
                  <a:pt x="41" y="664"/>
                </a:lnTo>
                <a:lnTo>
                  <a:pt x="29" y="647"/>
                </a:lnTo>
                <a:lnTo>
                  <a:pt x="19" y="633"/>
                </a:lnTo>
                <a:lnTo>
                  <a:pt x="12" y="619"/>
                </a:lnTo>
                <a:lnTo>
                  <a:pt x="7" y="605"/>
                </a:lnTo>
                <a:lnTo>
                  <a:pt x="3" y="593"/>
                </a:lnTo>
                <a:lnTo>
                  <a:pt x="0" y="581"/>
                </a:lnTo>
                <a:lnTo>
                  <a:pt x="0" y="569"/>
                </a:lnTo>
                <a:lnTo>
                  <a:pt x="0" y="564"/>
                </a:lnTo>
                <a:lnTo>
                  <a:pt x="0" y="557"/>
                </a:lnTo>
                <a:lnTo>
                  <a:pt x="3" y="552"/>
                </a:lnTo>
                <a:lnTo>
                  <a:pt x="5" y="545"/>
                </a:lnTo>
                <a:lnTo>
                  <a:pt x="10" y="531"/>
                </a:lnTo>
                <a:lnTo>
                  <a:pt x="19" y="517"/>
                </a:lnTo>
                <a:lnTo>
                  <a:pt x="29" y="497"/>
                </a:lnTo>
                <a:lnTo>
                  <a:pt x="41" y="478"/>
                </a:lnTo>
                <a:lnTo>
                  <a:pt x="45" y="467"/>
                </a:lnTo>
                <a:lnTo>
                  <a:pt x="53" y="457"/>
                </a:lnTo>
                <a:lnTo>
                  <a:pt x="60" y="445"/>
                </a:lnTo>
                <a:lnTo>
                  <a:pt x="67" y="431"/>
                </a:lnTo>
                <a:lnTo>
                  <a:pt x="74" y="421"/>
                </a:lnTo>
                <a:lnTo>
                  <a:pt x="81" y="409"/>
                </a:lnTo>
                <a:lnTo>
                  <a:pt x="88" y="398"/>
                </a:lnTo>
                <a:lnTo>
                  <a:pt x="93" y="386"/>
                </a:lnTo>
                <a:lnTo>
                  <a:pt x="98" y="371"/>
                </a:lnTo>
                <a:lnTo>
                  <a:pt x="103" y="357"/>
                </a:lnTo>
                <a:lnTo>
                  <a:pt x="107" y="343"/>
                </a:lnTo>
                <a:lnTo>
                  <a:pt x="112" y="329"/>
                </a:lnTo>
                <a:lnTo>
                  <a:pt x="115" y="312"/>
                </a:lnTo>
                <a:lnTo>
                  <a:pt x="119" y="298"/>
                </a:lnTo>
                <a:lnTo>
                  <a:pt x="122" y="279"/>
                </a:lnTo>
                <a:lnTo>
                  <a:pt x="124" y="262"/>
                </a:lnTo>
                <a:lnTo>
                  <a:pt x="126" y="243"/>
                </a:lnTo>
                <a:lnTo>
                  <a:pt x="129" y="224"/>
                </a:lnTo>
                <a:lnTo>
                  <a:pt x="134" y="205"/>
                </a:lnTo>
                <a:lnTo>
                  <a:pt x="136" y="186"/>
                </a:lnTo>
                <a:lnTo>
                  <a:pt x="138" y="167"/>
                </a:lnTo>
                <a:lnTo>
                  <a:pt x="138" y="150"/>
                </a:lnTo>
                <a:lnTo>
                  <a:pt x="141" y="133"/>
                </a:lnTo>
                <a:lnTo>
                  <a:pt x="143" y="119"/>
                </a:lnTo>
                <a:lnTo>
                  <a:pt x="145" y="102"/>
                </a:lnTo>
                <a:lnTo>
                  <a:pt x="145" y="91"/>
                </a:lnTo>
                <a:lnTo>
                  <a:pt x="148" y="76"/>
                </a:lnTo>
                <a:lnTo>
                  <a:pt x="148" y="64"/>
                </a:lnTo>
                <a:lnTo>
                  <a:pt x="150" y="52"/>
                </a:lnTo>
                <a:lnTo>
                  <a:pt x="150" y="43"/>
                </a:lnTo>
                <a:lnTo>
                  <a:pt x="153" y="33"/>
                </a:lnTo>
                <a:lnTo>
                  <a:pt x="155" y="26"/>
                </a:lnTo>
                <a:lnTo>
                  <a:pt x="155" y="19"/>
                </a:lnTo>
                <a:lnTo>
                  <a:pt x="157" y="14"/>
                </a:lnTo>
                <a:lnTo>
                  <a:pt x="160" y="10"/>
                </a:lnTo>
                <a:lnTo>
                  <a:pt x="162" y="5"/>
                </a:lnTo>
                <a:lnTo>
                  <a:pt x="165" y="5"/>
                </a:lnTo>
                <a:lnTo>
                  <a:pt x="167" y="2"/>
                </a:lnTo>
                <a:lnTo>
                  <a:pt x="172" y="0"/>
                </a:lnTo>
                <a:lnTo>
                  <a:pt x="179" y="0"/>
                </a:lnTo>
                <a:lnTo>
                  <a:pt x="184" y="2"/>
                </a:lnTo>
                <a:lnTo>
                  <a:pt x="191" y="5"/>
                </a:lnTo>
                <a:lnTo>
                  <a:pt x="198" y="10"/>
                </a:lnTo>
                <a:lnTo>
                  <a:pt x="207" y="14"/>
                </a:lnTo>
                <a:lnTo>
                  <a:pt x="217" y="19"/>
                </a:lnTo>
                <a:lnTo>
                  <a:pt x="219" y="26"/>
                </a:lnTo>
                <a:lnTo>
                  <a:pt x="222" y="31"/>
                </a:lnTo>
                <a:lnTo>
                  <a:pt x="224" y="38"/>
                </a:lnTo>
                <a:lnTo>
                  <a:pt x="229" y="45"/>
                </a:lnTo>
                <a:lnTo>
                  <a:pt x="236" y="62"/>
                </a:lnTo>
                <a:lnTo>
                  <a:pt x="246" y="79"/>
                </a:lnTo>
                <a:lnTo>
                  <a:pt x="255" y="100"/>
                </a:lnTo>
                <a:lnTo>
                  <a:pt x="265" y="121"/>
                </a:lnTo>
                <a:lnTo>
                  <a:pt x="274" y="145"/>
                </a:lnTo>
                <a:lnTo>
                  <a:pt x="284" y="171"/>
                </a:lnTo>
                <a:lnTo>
                  <a:pt x="288" y="202"/>
                </a:lnTo>
                <a:lnTo>
                  <a:pt x="293" y="233"/>
                </a:lnTo>
                <a:lnTo>
                  <a:pt x="298" y="264"/>
                </a:lnTo>
                <a:lnTo>
                  <a:pt x="300" y="295"/>
                </a:lnTo>
                <a:lnTo>
                  <a:pt x="303" y="329"/>
                </a:lnTo>
                <a:lnTo>
                  <a:pt x="303" y="362"/>
                </a:lnTo>
                <a:lnTo>
                  <a:pt x="300" y="395"/>
                </a:lnTo>
                <a:lnTo>
                  <a:pt x="300" y="414"/>
                </a:lnTo>
                <a:lnTo>
                  <a:pt x="298" y="431"/>
                </a:lnTo>
                <a:lnTo>
                  <a:pt x="296" y="450"/>
                </a:lnTo>
                <a:lnTo>
                  <a:pt x="291" y="467"/>
                </a:lnTo>
                <a:lnTo>
                  <a:pt x="284" y="500"/>
                </a:lnTo>
                <a:lnTo>
                  <a:pt x="277" y="531"/>
                </a:lnTo>
                <a:lnTo>
                  <a:pt x="267" y="559"/>
                </a:lnTo>
                <a:lnTo>
                  <a:pt x="255" y="586"/>
                </a:lnTo>
                <a:lnTo>
                  <a:pt x="243" y="614"/>
                </a:lnTo>
                <a:lnTo>
                  <a:pt x="231" y="640"/>
                </a:lnTo>
                <a:lnTo>
                  <a:pt x="217" y="666"/>
                </a:lnTo>
                <a:lnTo>
                  <a:pt x="210" y="678"/>
                </a:lnTo>
                <a:lnTo>
                  <a:pt x="203" y="690"/>
                </a:lnTo>
                <a:lnTo>
                  <a:pt x="196" y="700"/>
                </a:lnTo>
                <a:lnTo>
                  <a:pt x="188" y="709"/>
                </a:lnTo>
                <a:lnTo>
                  <a:pt x="181" y="719"/>
                </a:lnTo>
                <a:lnTo>
                  <a:pt x="176" y="726"/>
                </a:lnTo>
                <a:lnTo>
                  <a:pt x="169" y="733"/>
                </a:lnTo>
                <a:lnTo>
                  <a:pt x="165" y="740"/>
                </a:lnTo>
                <a:lnTo>
                  <a:pt x="157" y="745"/>
                </a:lnTo>
                <a:lnTo>
                  <a:pt x="153" y="750"/>
                </a:lnTo>
                <a:lnTo>
                  <a:pt x="148" y="752"/>
                </a:lnTo>
                <a:lnTo>
                  <a:pt x="143" y="757"/>
                </a:lnTo>
                <a:lnTo>
                  <a:pt x="136" y="759"/>
                </a:lnTo>
                <a:lnTo>
                  <a:pt x="131" y="759"/>
                </a:lnTo>
                <a:lnTo>
                  <a:pt x="126" y="762"/>
                </a:lnTo>
                <a:lnTo>
                  <a:pt x="122" y="76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Freeform 32"/>
          <p:cNvSpPr/>
          <p:nvPr/>
        </p:nvSpPr>
        <p:spPr>
          <a:xfrm>
            <a:off x="5823000" y="2620800"/>
            <a:ext cx="276120" cy="182880"/>
          </a:xfrm>
          <a:custGeom>
            <a:avLst/>
            <a:gdLst/>
            <a:ahLst/>
            <a:rect l="l" t="t" r="r" b="b"/>
            <a:pathLst>
              <a:path w="434" h="288">
                <a:moveTo>
                  <a:pt x="0" y="0"/>
                </a:moveTo>
                <a:lnTo>
                  <a:pt x="38" y="4"/>
                </a:lnTo>
                <a:lnTo>
                  <a:pt x="76" y="9"/>
                </a:lnTo>
                <a:lnTo>
                  <a:pt x="112" y="14"/>
                </a:lnTo>
                <a:lnTo>
                  <a:pt x="145" y="21"/>
                </a:lnTo>
                <a:lnTo>
                  <a:pt x="176" y="26"/>
                </a:lnTo>
                <a:lnTo>
                  <a:pt x="205" y="31"/>
                </a:lnTo>
                <a:lnTo>
                  <a:pt x="231" y="38"/>
                </a:lnTo>
                <a:lnTo>
                  <a:pt x="255" y="42"/>
                </a:lnTo>
                <a:lnTo>
                  <a:pt x="279" y="47"/>
                </a:lnTo>
                <a:lnTo>
                  <a:pt x="298" y="54"/>
                </a:lnTo>
                <a:lnTo>
                  <a:pt x="317" y="62"/>
                </a:lnTo>
                <a:lnTo>
                  <a:pt x="333" y="66"/>
                </a:lnTo>
                <a:lnTo>
                  <a:pt x="348" y="73"/>
                </a:lnTo>
                <a:lnTo>
                  <a:pt x="360" y="81"/>
                </a:lnTo>
                <a:lnTo>
                  <a:pt x="369" y="88"/>
                </a:lnTo>
                <a:lnTo>
                  <a:pt x="379" y="95"/>
                </a:lnTo>
                <a:lnTo>
                  <a:pt x="386" y="104"/>
                </a:lnTo>
                <a:lnTo>
                  <a:pt x="393" y="112"/>
                </a:lnTo>
                <a:lnTo>
                  <a:pt x="405" y="126"/>
                </a:lnTo>
                <a:lnTo>
                  <a:pt x="412" y="142"/>
                </a:lnTo>
                <a:lnTo>
                  <a:pt x="422" y="157"/>
                </a:lnTo>
                <a:lnTo>
                  <a:pt x="426" y="173"/>
                </a:lnTo>
                <a:lnTo>
                  <a:pt x="429" y="188"/>
                </a:lnTo>
                <a:lnTo>
                  <a:pt x="431" y="204"/>
                </a:lnTo>
                <a:lnTo>
                  <a:pt x="434" y="219"/>
                </a:lnTo>
                <a:lnTo>
                  <a:pt x="431" y="233"/>
                </a:lnTo>
                <a:lnTo>
                  <a:pt x="429" y="247"/>
                </a:lnTo>
                <a:lnTo>
                  <a:pt x="426" y="259"/>
                </a:lnTo>
                <a:lnTo>
                  <a:pt x="422" y="269"/>
                </a:lnTo>
                <a:lnTo>
                  <a:pt x="414" y="278"/>
                </a:lnTo>
                <a:lnTo>
                  <a:pt x="405" y="283"/>
                </a:lnTo>
                <a:lnTo>
                  <a:pt x="398" y="285"/>
                </a:lnTo>
                <a:lnTo>
                  <a:pt x="393" y="288"/>
                </a:lnTo>
                <a:lnTo>
                  <a:pt x="386" y="288"/>
                </a:lnTo>
                <a:lnTo>
                  <a:pt x="379" y="288"/>
                </a:lnTo>
                <a:lnTo>
                  <a:pt x="369" y="288"/>
                </a:lnTo>
                <a:lnTo>
                  <a:pt x="360" y="283"/>
                </a:lnTo>
                <a:lnTo>
                  <a:pt x="348" y="278"/>
                </a:lnTo>
                <a:lnTo>
                  <a:pt x="333" y="271"/>
                </a:lnTo>
                <a:lnTo>
                  <a:pt x="317" y="259"/>
                </a:lnTo>
                <a:lnTo>
                  <a:pt x="298" y="247"/>
                </a:lnTo>
                <a:lnTo>
                  <a:pt x="276" y="233"/>
                </a:lnTo>
                <a:lnTo>
                  <a:pt x="255" y="216"/>
                </a:lnTo>
                <a:lnTo>
                  <a:pt x="229" y="197"/>
                </a:lnTo>
                <a:lnTo>
                  <a:pt x="202" y="176"/>
                </a:lnTo>
                <a:lnTo>
                  <a:pt x="174" y="152"/>
                </a:lnTo>
                <a:lnTo>
                  <a:pt x="143" y="126"/>
                </a:lnTo>
                <a:lnTo>
                  <a:pt x="109" y="97"/>
                </a:lnTo>
                <a:lnTo>
                  <a:pt x="76" y="69"/>
                </a:lnTo>
                <a:lnTo>
                  <a:pt x="38" y="35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Freeform 34"/>
          <p:cNvSpPr/>
          <p:nvPr/>
        </p:nvSpPr>
        <p:spPr>
          <a:xfrm>
            <a:off x="6175440" y="2646360"/>
            <a:ext cx="1181160" cy="236520"/>
          </a:xfrm>
          <a:custGeom>
            <a:avLst/>
            <a:gdLst/>
            <a:ahLst/>
            <a:rect l="l" t="t" r="r" b="b"/>
            <a:pathLst>
              <a:path w="1861" h="371">
                <a:moveTo>
                  <a:pt x="1830" y="138"/>
                </a:moveTo>
                <a:lnTo>
                  <a:pt x="1839" y="148"/>
                </a:lnTo>
                <a:lnTo>
                  <a:pt x="1846" y="157"/>
                </a:lnTo>
                <a:lnTo>
                  <a:pt x="1853" y="164"/>
                </a:lnTo>
                <a:lnTo>
                  <a:pt x="1858" y="171"/>
                </a:lnTo>
                <a:lnTo>
                  <a:pt x="1861" y="176"/>
                </a:lnTo>
                <a:lnTo>
                  <a:pt x="1861" y="183"/>
                </a:lnTo>
                <a:lnTo>
                  <a:pt x="1861" y="188"/>
                </a:lnTo>
                <a:lnTo>
                  <a:pt x="1858" y="191"/>
                </a:lnTo>
                <a:lnTo>
                  <a:pt x="1856" y="193"/>
                </a:lnTo>
                <a:lnTo>
                  <a:pt x="1853" y="195"/>
                </a:lnTo>
                <a:lnTo>
                  <a:pt x="1846" y="198"/>
                </a:lnTo>
                <a:lnTo>
                  <a:pt x="1839" y="200"/>
                </a:lnTo>
                <a:lnTo>
                  <a:pt x="1832" y="202"/>
                </a:lnTo>
                <a:lnTo>
                  <a:pt x="1820" y="205"/>
                </a:lnTo>
                <a:lnTo>
                  <a:pt x="1808" y="207"/>
                </a:lnTo>
                <a:lnTo>
                  <a:pt x="1794" y="210"/>
                </a:lnTo>
                <a:lnTo>
                  <a:pt x="1777" y="212"/>
                </a:lnTo>
                <a:lnTo>
                  <a:pt x="1761" y="214"/>
                </a:lnTo>
                <a:lnTo>
                  <a:pt x="1741" y="214"/>
                </a:lnTo>
                <a:lnTo>
                  <a:pt x="1722" y="217"/>
                </a:lnTo>
                <a:lnTo>
                  <a:pt x="1701" y="219"/>
                </a:lnTo>
                <a:lnTo>
                  <a:pt x="1677" y="219"/>
                </a:lnTo>
                <a:lnTo>
                  <a:pt x="1653" y="219"/>
                </a:lnTo>
                <a:lnTo>
                  <a:pt x="1627" y="219"/>
                </a:lnTo>
                <a:lnTo>
                  <a:pt x="1599" y="221"/>
                </a:lnTo>
                <a:lnTo>
                  <a:pt x="1477" y="221"/>
                </a:lnTo>
                <a:lnTo>
                  <a:pt x="1417" y="221"/>
                </a:lnTo>
                <a:lnTo>
                  <a:pt x="1358" y="221"/>
                </a:lnTo>
                <a:lnTo>
                  <a:pt x="1298" y="224"/>
                </a:lnTo>
                <a:lnTo>
                  <a:pt x="1239" y="226"/>
                </a:lnTo>
                <a:lnTo>
                  <a:pt x="1182" y="229"/>
                </a:lnTo>
                <a:lnTo>
                  <a:pt x="1124" y="233"/>
                </a:lnTo>
                <a:lnTo>
                  <a:pt x="1096" y="236"/>
                </a:lnTo>
                <a:lnTo>
                  <a:pt x="1067" y="240"/>
                </a:lnTo>
                <a:lnTo>
                  <a:pt x="1036" y="243"/>
                </a:lnTo>
                <a:lnTo>
                  <a:pt x="1005" y="248"/>
                </a:lnTo>
                <a:lnTo>
                  <a:pt x="974" y="250"/>
                </a:lnTo>
                <a:lnTo>
                  <a:pt x="941" y="255"/>
                </a:lnTo>
                <a:lnTo>
                  <a:pt x="908" y="260"/>
                </a:lnTo>
                <a:lnTo>
                  <a:pt x="872" y="264"/>
                </a:lnTo>
                <a:lnTo>
                  <a:pt x="838" y="269"/>
                </a:lnTo>
                <a:lnTo>
                  <a:pt x="803" y="276"/>
                </a:lnTo>
                <a:lnTo>
                  <a:pt x="765" y="281"/>
                </a:lnTo>
                <a:lnTo>
                  <a:pt x="726" y="288"/>
                </a:lnTo>
                <a:lnTo>
                  <a:pt x="688" y="295"/>
                </a:lnTo>
                <a:lnTo>
                  <a:pt x="650" y="302"/>
                </a:lnTo>
                <a:lnTo>
                  <a:pt x="610" y="310"/>
                </a:lnTo>
                <a:lnTo>
                  <a:pt x="569" y="317"/>
                </a:lnTo>
                <a:lnTo>
                  <a:pt x="531" y="324"/>
                </a:lnTo>
                <a:lnTo>
                  <a:pt x="493" y="331"/>
                </a:lnTo>
                <a:lnTo>
                  <a:pt x="457" y="338"/>
                </a:lnTo>
                <a:lnTo>
                  <a:pt x="424" y="343"/>
                </a:lnTo>
                <a:lnTo>
                  <a:pt x="390" y="348"/>
                </a:lnTo>
                <a:lnTo>
                  <a:pt x="362" y="352"/>
                </a:lnTo>
                <a:lnTo>
                  <a:pt x="333" y="357"/>
                </a:lnTo>
                <a:lnTo>
                  <a:pt x="307" y="359"/>
                </a:lnTo>
                <a:lnTo>
                  <a:pt x="283" y="362"/>
                </a:lnTo>
                <a:lnTo>
                  <a:pt x="262" y="364"/>
                </a:lnTo>
                <a:lnTo>
                  <a:pt x="243" y="367"/>
                </a:lnTo>
                <a:lnTo>
                  <a:pt x="226" y="369"/>
                </a:lnTo>
                <a:lnTo>
                  <a:pt x="209" y="369"/>
                </a:lnTo>
                <a:lnTo>
                  <a:pt x="197" y="371"/>
                </a:lnTo>
                <a:lnTo>
                  <a:pt x="186" y="371"/>
                </a:lnTo>
                <a:lnTo>
                  <a:pt x="178" y="371"/>
                </a:lnTo>
                <a:lnTo>
                  <a:pt x="157" y="371"/>
                </a:lnTo>
                <a:lnTo>
                  <a:pt x="140" y="369"/>
                </a:lnTo>
                <a:lnTo>
                  <a:pt x="121" y="367"/>
                </a:lnTo>
                <a:lnTo>
                  <a:pt x="107" y="362"/>
                </a:lnTo>
                <a:lnTo>
                  <a:pt x="93" y="355"/>
                </a:lnTo>
                <a:lnTo>
                  <a:pt x="78" y="348"/>
                </a:lnTo>
                <a:lnTo>
                  <a:pt x="66" y="340"/>
                </a:lnTo>
                <a:lnTo>
                  <a:pt x="54" y="331"/>
                </a:lnTo>
                <a:lnTo>
                  <a:pt x="47" y="329"/>
                </a:lnTo>
                <a:lnTo>
                  <a:pt x="43" y="324"/>
                </a:lnTo>
                <a:lnTo>
                  <a:pt x="31" y="317"/>
                </a:lnTo>
                <a:lnTo>
                  <a:pt x="21" y="310"/>
                </a:lnTo>
                <a:lnTo>
                  <a:pt x="14" y="302"/>
                </a:lnTo>
                <a:lnTo>
                  <a:pt x="7" y="295"/>
                </a:lnTo>
                <a:lnTo>
                  <a:pt x="4" y="288"/>
                </a:lnTo>
                <a:lnTo>
                  <a:pt x="2" y="281"/>
                </a:lnTo>
                <a:lnTo>
                  <a:pt x="2" y="276"/>
                </a:lnTo>
                <a:lnTo>
                  <a:pt x="0" y="274"/>
                </a:lnTo>
                <a:lnTo>
                  <a:pt x="0" y="269"/>
                </a:lnTo>
                <a:lnTo>
                  <a:pt x="0" y="267"/>
                </a:lnTo>
                <a:lnTo>
                  <a:pt x="2" y="264"/>
                </a:lnTo>
                <a:lnTo>
                  <a:pt x="4" y="262"/>
                </a:lnTo>
                <a:lnTo>
                  <a:pt x="7" y="260"/>
                </a:lnTo>
                <a:lnTo>
                  <a:pt x="12" y="257"/>
                </a:lnTo>
                <a:lnTo>
                  <a:pt x="19" y="255"/>
                </a:lnTo>
                <a:lnTo>
                  <a:pt x="26" y="252"/>
                </a:lnTo>
                <a:lnTo>
                  <a:pt x="33" y="250"/>
                </a:lnTo>
                <a:lnTo>
                  <a:pt x="43" y="248"/>
                </a:lnTo>
                <a:lnTo>
                  <a:pt x="52" y="245"/>
                </a:lnTo>
                <a:lnTo>
                  <a:pt x="62" y="243"/>
                </a:lnTo>
                <a:lnTo>
                  <a:pt x="71" y="238"/>
                </a:lnTo>
                <a:lnTo>
                  <a:pt x="83" y="236"/>
                </a:lnTo>
                <a:lnTo>
                  <a:pt x="97" y="233"/>
                </a:lnTo>
                <a:lnTo>
                  <a:pt x="102" y="233"/>
                </a:lnTo>
                <a:lnTo>
                  <a:pt x="112" y="231"/>
                </a:lnTo>
                <a:lnTo>
                  <a:pt x="121" y="229"/>
                </a:lnTo>
                <a:lnTo>
                  <a:pt x="131" y="229"/>
                </a:lnTo>
                <a:lnTo>
                  <a:pt x="143" y="226"/>
                </a:lnTo>
                <a:lnTo>
                  <a:pt x="155" y="224"/>
                </a:lnTo>
                <a:lnTo>
                  <a:pt x="169" y="221"/>
                </a:lnTo>
                <a:lnTo>
                  <a:pt x="183" y="219"/>
                </a:lnTo>
                <a:lnTo>
                  <a:pt x="197" y="217"/>
                </a:lnTo>
                <a:lnTo>
                  <a:pt x="214" y="214"/>
                </a:lnTo>
                <a:lnTo>
                  <a:pt x="233" y="210"/>
                </a:lnTo>
                <a:lnTo>
                  <a:pt x="252" y="207"/>
                </a:lnTo>
                <a:lnTo>
                  <a:pt x="271" y="205"/>
                </a:lnTo>
                <a:lnTo>
                  <a:pt x="293" y="200"/>
                </a:lnTo>
                <a:lnTo>
                  <a:pt x="314" y="198"/>
                </a:lnTo>
                <a:lnTo>
                  <a:pt x="338" y="193"/>
                </a:lnTo>
                <a:lnTo>
                  <a:pt x="362" y="188"/>
                </a:lnTo>
                <a:lnTo>
                  <a:pt x="388" y="186"/>
                </a:lnTo>
                <a:lnTo>
                  <a:pt x="414" y="181"/>
                </a:lnTo>
                <a:lnTo>
                  <a:pt x="443" y="176"/>
                </a:lnTo>
                <a:lnTo>
                  <a:pt x="471" y="171"/>
                </a:lnTo>
                <a:lnTo>
                  <a:pt x="500" y="167"/>
                </a:lnTo>
                <a:lnTo>
                  <a:pt x="531" y="162"/>
                </a:lnTo>
                <a:lnTo>
                  <a:pt x="562" y="157"/>
                </a:lnTo>
                <a:lnTo>
                  <a:pt x="595" y="152"/>
                </a:lnTo>
                <a:lnTo>
                  <a:pt x="629" y="148"/>
                </a:lnTo>
                <a:lnTo>
                  <a:pt x="664" y="141"/>
                </a:lnTo>
                <a:lnTo>
                  <a:pt x="700" y="136"/>
                </a:lnTo>
                <a:lnTo>
                  <a:pt x="738" y="129"/>
                </a:lnTo>
                <a:lnTo>
                  <a:pt x="776" y="124"/>
                </a:lnTo>
                <a:lnTo>
                  <a:pt x="815" y="117"/>
                </a:lnTo>
                <a:lnTo>
                  <a:pt x="855" y="110"/>
                </a:lnTo>
                <a:lnTo>
                  <a:pt x="896" y="105"/>
                </a:lnTo>
                <a:lnTo>
                  <a:pt x="934" y="98"/>
                </a:lnTo>
                <a:lnTo>
                  <a:pt x="972" y="91"/>
                </a:lnTo>
                <a:lnTo>
                  <a:pt x="1008" y="86"/>
                </a:lnTo>
                <a:lnTo>
                  <a:pt x="1043" y="79"/>
                </a:lnTo>
                <a:lnTo>
                  <a:pt x="1077" y="74"/>
                </a:lnTo>
                <a:lnTo>
                  <a:pt x="1110" y="69"/>
                </a:lnTo>
                <a:lnTo>
                  <a:pt x="1141" y="64"/>
                </a:lnTo>
                <a:lnTo>
                  <a:pt x="1172" y="60"/>
                </a:lnTo>
                <a:lnTo>
                  <a:pt x="1201" y="55"/>
                </a:lnTo>
                <a:lnTo>
                  <a:pt x="1229" y="50"/>
                </a:lnTo>
                <a:lnTo>
                  <a:pt x="1258" y="45"/>
                </a:lnTo>
                <a:lnTo>
                  <a:pt x="1282" y="41"/>
                </a:lnTo>
                <a:lnTo>
                  <a:pt x="1308" y="36"/>
                </a:lnTo>
                <a:lnTo>
                  <a:pt x="1332" y="33"/>
                </a:lnTo>
                <a:lnTo>
                  <a:pt x="1353" y="29"/>
                </a:lnTo>
                <a:lnTo>
                  <a:pt x="1375" y="26"/>
                </a:lnTo>
                <a:lnTo>
                  <a:pt x="1396" y="22"/>
                </a:lnTo>
                <a:lnTo>
                  <a:pt x="1415" y="19"/>
                </a:lnTo>
                <a:lnTo>
                  <a:pt x="1432" y="17"/>
                </a:lnTo>
                <a:lnTo>
                  <a:pt x="1448" y="14"/>
                </a:lnTo>
                <a:lnTo>
                  <a:pt x="1465" y="12"/>
                </a:lnTo>
                <a:lnTo>
                  <a:pt x="1479" y="10"/>
                </a:lnTo>
                <a:lnTo>
                  <a:pt x="1491" y="7"/>
                </a:lnTo>
                <a:lnTo>
                  <a:pt x="1503" y="7"/>
                </a:lnTo>
                <a:lnTo>
                  <a:pt x="1515" y="5"/>
                </a:lnTo>
                <a:lnTo>
                  <a:pt x="1525" y="2"/>
                </a:lnTo>
                <a:lnTo>
                  <a:pt x="1534" y="2"/>
                </a:lnTo>
                <a:lnTo>
                  <a:pt x="1541" y="2"/>
                </a:lnTo>
                <a:lnTo>
                  <a:pt x="1548" y="0"/>
                </a:lnTo>
                <a:lnTo>
                  <a:pt x="1553" y="0"/>
                </a:lnTo>
                <a:lnTo>
                  <a:pt x="1558" y="0"/>
                </a:lnTo>
                <a:lnTo>
                  <a:pt x="1575" y="0"/>
                </a:lnTo>
                <a:lnTo>
                  <a:pt x="1589" y="2"/>
                </a:lnTo>
                <a:lnTo>
                  <a:pt x="1606" y="7"/>
                </a:lnTo>
                <a:lnTo>
                  <a:pt x="1622" y="10"/>
                </a:lnTo>
                <a:lnTo>
                  <a:pt x="1641" y="17"/>
                </a:lnTo>
                <a:lnTo>
                  <a:pt x="1660" y="24"/>
                </a:lnTo>
                <a:lnTo>
                  <a:pt x="1684" y="31"/>
                </a:lnTo>
                <a:lnTo>
                  <a:pt x="1694" y="36"/>
                </a:lnTo>
                <a:lnTo>
                  <a:pt x="1708" y="43"/>
                </a:lnTo>
                <a:lnTo>
                  <a:pt x="1727" y="52"/>
                </a:lnTo>
                <a:lnTo>
                  <a:pt x="1746" y="62"/>
                </a:lnTo>
                <a:lnTo>
                  <a:pt x="1763" y="74"/>
                </a:lnTo>
                <a:lnTo>
                  <a:pt x="1780" y="86"/>
                </a:lnTo>
                <a:lnTo>
                  <a:pt x="1794" y="98"/>
                </a:lnTo>
                <a:lnTo>
                  <a:pt x="1806" y="110"/>
                </a:lnTo>
                <a:lnTo>
                  <a:pt x="1818" y="124"/>
                </a:lnTo>
                <a:lnTo>
                  <a:pt x="1830" y="138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Freeform 35"/>
          <p:cNvSpPr/>
          <p:nvPr/>
        </p:nvSpPr>
        <p:spPr>
          <a:xfrm>
            <a:off x="6060960" y="3559320"/>
            <a:ext cx="214560" cy="449280"/>
          </a:xfrm>
          <a:custGeom>
            <a:avLst/>
            <a:gdLst/>
            <a:ahLst/>
            <a:rect l="l" t="t" r="r" b="b"/>
            <a:pathLst>
              <a:path w="338" h="707">
                <a:moveTo>
                  <a:pt x="71" y="404"/>
                </a:moveTo>
                <a:lnTo>
                  <a:pt x="79" y="392"/>
                </a:lnTo>
                <a:lnTo>
                  <a:pt x="88" y="380"/>
                </a:lnTo>
                <a:lnTo>
                  <a:pt x="102" y="357"/>
                </a:lnTo>
                <a:lnTo>
                  <a:pt x="117" y="330"/>
                </a:lnTo>
                <a:lnTo>
                  <a:pt x="131" y="302"/>
                </a:lnTo>
                <a:lnTo>
                  <a:pt x="145" y="271"/>
                </a:lnTo>
                <a:lnTo>
                  <a:pt x="157" y="240"/>
                </a:lnTo>
                <a:lnTo>
                  <a:pt x="169" y="204"/>
                </a:lnTo>
                <a:lnTo>
                  <a:pt x="181" y="169"/>
                </a:lnTo>
                <a:lnTo>
                  <a:pt x="186" y="152"/>
                </a:lnTo>
                <a:lnTo>
                  <a:pt x="191" y="135"/>
                </a:lnTo>
                <a:lnTo>
                  <a:pt x="193" y="121"/>
                </a:lnTo>
                <a:lnTo>
                  <a:pt x="198" y="104"/>
                </a:lnTo>
                <a:lnTo>
                  <a:pt x="202" y="92"/>
                </a:lnTo>
                <a:lnTo>
                  <a:pt x="205" y="78"/>
                </a:lnTo>
                <a:lnTo>
                  <a:pt x="210" y="66"/>
                </a:lnTo>
                <a:lnTo>
                  <a:pt x="212" y="57"/>
                </a:lnTo>
                <a:lnTo>
                  <a:pt x="214" y="47"/>
                </a:lnTo>
                <a:lnTo>
                  <a:pt x="219" y="38"/>
                </a:lnTo>
                <a:lnTo>
                  <a:pt x="222" y="31"/>
                </a:lnTo>
                <a:lnTo>
                  <a:pt x="224" y="23"/>
                </a:lnTo>
                <a:lnTo>
                  <a:pt x="226" y="16"/>
                </a:lnTo>
                <a:lnTo>
                  <a:pt x="229" y="12"/>
                </a:lnTo>
                <a:lnTo>
                  <a:pt x="231" y="7"/>
                </a:lnTo>
                <a:lnTo>
                  <a:pt x="233" y="4"/>
                </a:lnTo>
                <a:lnTo>
                  <a:pt x="238" y="2"/>
                </a:lnTo>
                <a:lnTo>
                  <a:pt x="241" y="0"/>
                </a:lnTo>
                <a:lnTo>
                  <a:pt x="245" y="0"/>
                </a:lnTo>
                <a:lnTo>
                  <a:pt x="250" y="0"/>
                </a:lnTo>
                <a:lnTo>
                  <a:pt x="257" y="2"/>
                </a:lnTo>
                <a:lnTo>
                  <a:pt x="264" y="4"/>
                </a:lnTo>
                <a:lnTo>
                  <a:pt x="272" y="9"/>
                </a:lnTo>
                <a:lnTo>
                  <a:pt x="279" y="14"/>
                </a:lnTo>
                <a:lnTo>
                  <a:pt x="288" y="19"/>
                </a:lnTo>
                <a:lnTo>
                  <a:pt x="298" y="40"/>
                </a:lnTo>
                <a:lnTo>
                  <a:pt x="305" y="50"/>
                </a:lnTo>
                <a:lnTo>
                  <a:pt x="310" y="62"/>
                </a:lnTo>
                <a:lnTo>
                  <a:pt x="314" y="73"/>
                </a:lnTo>
                <a:lnTo>
                  <a:pt x="319" y="85"/>
                </a:lnTo>
                <a:lnTo>
                  <a:pt x="324" y="100"/>
                </a:lnTo>
                <a:lnTo>
                  <a:pt x="329" y="114"/>
                </a:lnTo>
                <a:lnTo>
                  <a:pt x="334" y="131"/>
                </a:lnTo>
                <a:lnTo>
                  <a:pt x="336" y="150"/>
                </a:lnTo>
                <a:lnTo>
                  <a:pt x="338" y="169"/>
                </a:lnTo>
                <a:lnTo>
                  <a:pt x="338" y="178"/>
                </a:lnTo>
                <a:lnTo>
                  <a:pt x="338" y="190"/>
                </a:lnTo>
                <a:lnTo>
                  <a:pt x="338" y="202"/>
                </a:lnTo>
                <a:lnTo>
                  <a:pt x="338" y="214"/>
                </a:lnTo>
                <a:lnTo>
                  <a:pt x="338" y="228"/>
                </a:lnTo>
                <a:lnTo>
                  <a:pt x="336" y="242"/>
                </a:lnTo>
                <a:lnTo>
                  <a:pt x="336" y="257"/>
                </a:lnTo>
                <a:lnTo>
                  <a:pt x="334" y="273"/>
                </a:lnTo>
                <a:lnTo>
                  <a:pt x="331" y="290"/>
                </a:lnTo>
                <a:lnTo>
                  <a:pt x="329" y="307"/>
                </a:lnTo>
                <a:lnTo>
                  <a:pt x="326" y="326"/>
                </a:lnTo>
                <a:lnTo>
                  <a:pt x="324" y="342"/>
                </a:lnTo>
                <a:lnTo>
                  <a:pt x="314" y="376"/>
                </a:lnTo>
                <a:lnTo>
                  <a:pt x="305" y="409"/>
                </a:lnTo>
                <a:lnTo>
                  <a:pt x="293" y="442"/>
                </a:lnTo>
                <a:lnTo>
                  <a:pt x="279" y="476"/>
                </a:lnTo>
                <a:lnTo>
                  <a:pt x="264" y="507"/>
                </a:lnTo>
                <a:lnTo>
                  <a:pt x="233" y="568"/>
                </a:lnTo>
                <a:lnTo>
                  <a:pt x="224" y="585"/>
                </a:lnTo>
                <a:lnTo>
                  <a:pt x="214" y="602"/>
                </a:lnTo>
                <a:lnTo>
                  <a:pt x="205" y="616"/>
                </a:lnTo>
                <a:lnTo>
                  <a:pt x="198" y="630"/>
                </a:lnTo>
                <a:lnTo>
                  <a:pt x="188" y="642"/>
                </a:lnTo>
                <a:lnTo>
                  <a:pt x="181" y="654"/>
                </a:lnTo>
                <a:lnTo>
                  <a:pt x="174" y="664"/>
                </a:lnTo>
                <a:lnTo>
                  <a:pt x="167" y="673"/>
                </a:lnTo>
                <a:lnTo>
                  <a:pt x="160" y="680"/>
                </a:lnTo>
                <a:lnTo>
                  <a:pt x="152" y="687"/>
                </a:lnTo>
                <a:lnTo>
                  <a:pt x="148" y="692"/>
                </a:lnTo>
                <a:lnTo>
                  <a:pt x="141" y="697"/>
                </a:lnTo>
                <a:lnTo>
                  <a:pt x="136" y="702"/>
                </a:lnTo>
                <a:lnTo>
                  <a:pt x="133" y="704"/>
                </a:lnTo>
                <a:lnTo>
                  <a:pt x="129" y="704"/>
                </a:lnTo>
                <a:lnTo>
                  <a:pt x="126" y="707"/>
                </a:lnTo>
                <a:lnTo>
                  <a:pt x="121" y="704"/>
                </a:lnTo>
                <a:lnTo>
                  <a:pt x="117" y="704"/>
                </a:lnTo>
                <a:lnTo>
                  <a:pt x="112" y="702"/>
                </a:lnTo>
                <a:lnTo>
                  <a:pt x="105" y="699"/>
                </a:lnTo>
                <a:lnTo>
                  <a:pt x="100" y="697"/>
                </a:lnTo>
                <a:lnTo>
                  <a:pt x="95" y="695"/>
                </a:lnTo>
                <a:lnTo>
                  <a:pt x="90" y="690"/>
                </a:lnTo>
                <a:lnTo>
                  <a:pt x="86" y="685"/>
                </a:lnTo>
                <a:lnTo>
                  <a:pt x="81" y="680"/>
                </a:lnTo>
                <a:lnTo>
                  <a:pt x="76" y="673"/>
                </a:lnTo>
                <a:lnTo>
                  <a:pt x="69" y="666"/>
                </a:lnTo>
                <a:lnTo>
                  <a:pt x="64" y="659"/>
                </a:lnTo>
                <a:lnTo>
                  <a:pt x="60" y="652"/>
                </a:lnTo>
                <a:lnTo>
                  <a:pt x="55" y="642"/>
                </a:lnTo>
                <a:lnTo>
                  <a:pt x="50" y="633"/>
                </a:lnTo>
                <a:lnTo>
                  <a:pt x="45" y="623"/>
                </a:lnTo>
                <a:lnTo>
                  <a:pt x="38" y="616"/>
                </a:lnTo>
                <a:lnTo>
                  <a:pt x="31" y="607"/>
                </a:lnTo>
                <a:lnTo>
                  <a:pt x="26" y="599"/>
                </a:lnTo>
                <a:lnTo>
                  <a:pt x="19" y="592"/>
                </a:lnTo>
                <a:lnTo>
                  <a:pt x="14" y="585"/>
                </a:lnTo>
                <a:lnTo>
                  <a:pt x="12" y="578"/>
                </a:lnTo>
                <a:lnTo>
                  <a:pt x="7" y="571"/>
                </a:lnTo>
                <a:lnTo>
                  <a:pt x="5" y="564"/>
                </a:lnTo>
                <a:lnTo>
                  <a:pt x="2" y="557"/>
                </a:lnTo>
                <a:lnTo>
                  <a:pt x="0" y="549"/>
                </a:lnTo>
                <a:lnTo>
                  <a:pt x="0" y="542"/>
                </a:lnTo>
                <a:lnTo>
                  <a:pt x="0" y="535"/>
                </a:lnTo>
                <a:lnTo>
                  <a:pt x="0" y="530"/>
                </a:lnTo>
                <a:lnTo>
                  <a:pt x="0" y="523"/>
                </a:lnTo>
                <a:lnTo>
                  <a:pt x="2" y="518"/>
                </a:lnTo>
                <a:lnTo>
                  <a:pt x="5" y="514"/>
                </a:lnTo>
                <a:lnTo>
                  <a:pt x="5" y="507"/>
                </a:lnTo>
                <a:lnTo>
                  <a:pt x="5" y="502"/>
                </a:lnTo>
                <a:lnTo>
                  <a:pt x="7" y="497"/>
                </a:lnTo>
                <a:lnTo>
                  <a:pt x="9" y="490"/>
                </a:lnTo>
                <a:lnTo>
                  <a:pt x="14" y="478"/>
                </a:lnTo>
                <a:lnTo>
                  <a:pt x="24" y="464"/>
                </a:lnTo>
                <a:lnTo>
                  <a:pt x="33" y="449"/>
                </a:lnTo>
                <a:lnTo>
                  <a:pt x="45" y="435"/>
                </a:lnTo>
                <a:lnTo>
                  <a:pt x="57" y="419"/>
                </a:lnTo>
                <a:lnTo>
                  <a:pt x="71" y="40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Freeform 36"/>
          <p:cNvSpPr/>
          <p:nvPr/>
        </p:nvSpPr>
        <p:spPr>
          <a:xfrm>
            <a:off x="6880320" y="3624120"/>
            <a:ext cx="322200" cy="347760"/>
          </a:xfrm>
          <a:custGeom>
            <a:avLst/>
            <a:gdLst/>
            <a:ahLst/>
            <a:rect l="l" t="t" r="r" b="b"/>
            <a:pathLst>
              <a:path w="506" h="547">
                <a:moveTo>
                  <a:pt x="487" y="521"/>
                </a:moveTo>
                <a:lnTo>
                  <a:pt x="482" y="526"/>
                </a:lnTo>
                <a:lnTo>
                  <a:pt x="479" y="531"/>
                </a:lnTo>
                <a:lnTo>
                  <a:pt x="477" y="535"/>
                </a:lnTo>
                <a:lnTo>
                  <a:pt x="475" y="540"/>
                </a:lnTo>
                <a:lnTo>
                  <a:pt x="470" y="543"/>
                </a:lnTo>
                <a:lnTo>
                  <a:pt x="467" y="545"/>
                </a:lnTo>
                <a:lnTo>
                  <a:pt x="465" y="547"/>
                </a:lnTo>
                <a:lnTo>
                  <a:pt x="460" y="547"/>
                </a:lnTo>
                <a:lnTo>
                  <a:pt x="453" y="547"/>
                </a:lnTo>
                <a:lnTo>
                  <a:pt x="448" y="545"/>
                </a:lnTo>
                <a:lnTo>
                  <a:pt x="441" y="543"/>
                </a:lnTo>
                <a:lnTo>
                  <a:pt x="432" y="538"/>
                </a:lnTo>
                <a:lnTo>
                  <a:pt x="425" y="533"/>
                </a:lnTo>
                <a:lnTo>
                  <a:pt x="417" y="526"/>
                </a:lnTo>
                <a:lnTo>
                  <a:pt x="410" y="516"/>
                </a:lnTo>
                <a:lnTo>
                  <a:pt x="405" y="507"/>
                </a:lnTo>
                <a:lnTo>
                  <a:pt x="401" y="505"/>
                </a:lnTo>
                <a:lnTo>
                  <a:pt x="394" y="500"/>
                </a:lnTo>
                <a:lnTo>
                  <a:pt x="386" y="493"/>
                </a:lnTo>
                <a:lnTo>
                  <a:pt x="377" y="483"/>
                </a:lnTo>
                <a:lnTo>
                  <a:pt x="367" y="474"/>
                </a:lnTo>
                <a:lnTo>
                  <a:pt x="358" y="464"/>
                </a:lnTo>
                <a:lnTo>
                  <a:pt x="346" y="450"/>
                </a:lnTo>
                <a:lnTo>
                  <a:pt x="332" y="436"/>
                </a:lnTo>
                <a:lnTo>
                  <a:pt x="320" y="419"/>
                </a:lnTo>
                <a:lnTo>
                  <a:pt x="303" y="402"/>
                </a:lnTo>
                <a:lnTo>
                  <a:pt x="286" y="383"/>
                </a:lnTo>
                <a:lnTo>
                  <a:pt x="270" y="362"/>
                </a:lnTo>
                <a:lnTo>
                  <a:pt x="251" y="338"/>
                </a:lnTo>
                <a:lnTo>
                  <a:pt x="232" y="314"/>
                </a:lnTo>
                <a:lnTo>
                  <a:pt x="210" y="288"/>
                </a:lnTo>
                <a:lnTo>
                  <a:pt x="189" y="259"/>
                </a:lnTo>
                <a:lnTo>
                  <a:pt x="167" y="236"/>
                </a:lnTo>
                <a:lnTo>
                  <a:pt x="146" y="212"/>
                </a:lnTo>
                <a:lnTo>
                  <a:pt x="127" y="188"/>
                </a:lnTo>
                <a:lnTo>
                  <a:pt x="108" y="167"/>
                </a:lnTo>
                <a:lnTo>
                  <a:pt x="91" y="148"/>
                </a:lnTo>
                <a:lnTo>
                  <a:pt x="77" y="129"/>
                </a:lnTo>
                <a:lnTo>
                  <a:pt x="62" y="112"/>
                </a:lnTo>
                <a:lnTo>
                  <a:pt x="48" y="98"/>
                </a:lnTo>
                <a:lnTo>
                  <a:pt x="39" y="83"/>
                </a:lnTo>
                <a:lnTo>
                  <a:pt x="27" y="69"/>
                </a:lnTo>
                <a:lnTo>
                  <a:pt x="19" y="59"/>
                </a:lnTo>
                <a:lnTo>
                  <a:pt x="12" y="50"/>
                </a:lnTo>
                <a:lnTo>
                  <a:pt x="8" y="40"/>
                </a:lnTo>
                <a:lnTo>
                  <a:pt x="3" y="36"/>
                </a:lnTo>
                <a:lnTo>
                  <a:pt x="0" y="31"/>
                </a:lnTo>
                <a:lnTo>
                  <a:pt x="0" y="26"/>
                </a:lnTo>
                <a:lnTo>
                  <a:pt x="0" y="24"/>
                </a:lnTo>
                <a:lnTo>
                  <a:pt x="0" y="21"/>
                </a:lnTo>
                <a:lnTo>
                  <a:pt x="3" y="19"/>
                </a:lnTo>
                <a:lnTo>
                  <a:pt x="5" y="17"/>
                </a:lnTo>
                <a:lnTo>
                  <a:pt x="8" y="14"/>
                </a:lnTo>
                <a:lnTo>
                  <a:pt x="12" y="12"/>
                </a:lnTo>
                <a:lnTo>
                  <a:pt x="17" y="10"/>
                </a:lnTo>
                <a:lnTo>
                  <a:pt x="22" y="7"/>
                </a:lnTo>
                <a:lnTo>
                  <a:pt x="27" y="5"/>
                </a:lnTo>
                <a:lnTo>
                  <a:pt x="34" y="5"/>
                </a:lnTo>
                <a:lnTo>
                  <a:pt x="43" y="2"/>
                </a:lnTo>
                <a:lnTo>
                  <a:pt x="50" y="2"/>
                </a:lnTo>
                <a:lnTo>
                  <a:pt x="60" y="0"/>
                </a:lnTo>
                <a:lnTo>
                  <a:pt x="72" y="0"/>
                </a:lnTo>
                <a:lnTo>
                  <a:pt x="81" y="0"/>
                </a:lnTo>
                <a:lnTo>
                  <a:pt x="93" y="0"/>
                </a:lnTo>
                <a:lnTo>
                  <a:pt x="105" y="0"/>
                </a:lnTo>
                <a:lnTo>
                  <a:pt x="115" y="0"/>
                </a:lnTo>
                <a:lnTo>
                  <a:pt x="127" y="2"/>
                </a:lnTo>
                <a:lnTo>
                  <a:pt x="141" y="5"/>
                </a:lnTo>
                <a:lnTo>
                  <a:pt x="153" y="7"/>
                </a:lnTo>
                <a:lnTo>
                  <a:pt x="167" y="10"/>
                </a:lnTo>
                <a:lnTo>
                  <a:pt x="179" y="14"/>
                </a:lnTo>
                <a:lnTo>
                  <a:pt x="193" y="19"/>
                </a:lnTo>
                <a:lnTo>
                  <a:pt x="210" y="24"/>
                </a:lnTo>
                <a:lnTo>
                  <a:pt x="224" y="31"/>
                </a:lnTo>
                <a:lnTo>
                  <a:pt x="241" y="38"/>
                </a:lnTo>
                <a:lnTo>
                  <a:pt x="255" y="45"/>
                </a:lnTo>
                <a:lnTo>
                  <a:pt x="272" y="52"/>
                </a:lnTo>
                <a:lnTo>
                  <a:pt x="289" y="62"/>
                </a:lnTo>
                <a:lnTo>
                  <a:pt x="308" y="71"/>
                </a:lnTo>
                <a:lnTo>
                  <a:pt x="324" y="81"/>
                </a:lnTo>
                <a:lnTo>
                  <a:pt x="341" y="95"/>
                </a:lnTo>
                <a:lnTo>
                  <a:pt x="358" y="107"/>
                </a:lnTo>
                <a:lnTo>
                  <a:pt x="375" y="121"/>
                </a:lnTo>
                <a:lnTo>
                  <a:pt x="389" y="136"/>
                </a:lnTo>
                <a:lnTo>
                  <a:pt x="405" y="150"/>
                </a:lnTo>
                <a:lnTo>
                  <a:pt x="417" y="164"/>
                </a:lnTo>
                <a:lnTo>
                  <a:pt x="432" y="181"/>
                </a:lnTo>
                <a:lnTo>
                  <a:pt x="444" y="195"/>
                </a:lnTo>
                <a:lnTo>
                  <a:pt x="453" y="212"/>
                </a:lnTo>
                <a:lnTo>
                  <a:pt x="463" y="226"/>
                </a:lnTo>
                <a:lnTo>
                  <a:pt x="472" y="243"/>
                </a:lnTo>
                <a:lnTo>
                  <a:pt x="482" y="259"/>
                </a:lnTo>
                <a:lnTo>
                  <a:pt x="487" y="276"/>
                </a:lnTo>
                <a:lnTo>
                  <a:pt x="494" y="293"/>
                </a:lnTo>
                <a:lnTo>
                  <a:pt x="498" y="312"/>
                </a:lnTo>
                <a:lnTo>
                  <a:pt x="501" y="328"/>
                </a:lnTo>
                <a:lnTo>
                  <a:pt x="503" y="350"/>
                </a:lnTo>
                <a:lnTo>
                  <a:pt x="503" y="369"/>
                </a:lnTo>
                <a:lnTo>
                  <a:pt x="506" y="386"/>
                </a:lnTo>
                <a:lnTo>
                  <a:pt x="506" y="402"/>
                </a:lnTo>
                <a:lnTo>
                  <a:pt x="506" y="419"/>
                </a:lnTo>
                <a:lnTo>
                  <a:pt x="506" y="433"/>
                </a:lnTo>
                <a:lnTo>
                  <a:pt x="506" y="447"/>
                </a:lnTo>
                <a:lnTo>
                  <a:pt x="503" y="462"/>
                </a:lnTo>
                <a:lnTo>
                  <a:pt x="503" y="474"/>
                </a:lnTo>
                <a:lnTo>
                  <a:pt x="501" y="483"/>
                </a:lnTo>
                <a:lnTo>
                  <a:pt x="498" y="493"/>
                </a:lnTo>
                <a:lnTo>
                  <a:pt x="496" y="500"/>
                </a:lnTo>
                <a:lnTo>
                  <a:pt x="494" y="507"/>
                </a:lnTo>
                <a:lnTo>
                  <a:pt x="491" y="514"/>
                </a:lnTo>
                <a:lnTo>
                  <a:pt x="489" y="519"/>
                </a:lnTo>
                <a:lnTo>
                  <a:pt x="487" y="52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Freeform 38"/>
          <p:cNvSpPr/>
          <p:nvPr/>
        </p:nvSpPr>
        <p:spPr>
          <a:xfrm>
            <a:off x="6232680" y="3065400"/>
            <a:ext cx="199800" cy="401760"/>
          </a:xfrm>
          <a:custGeom>
            <a:avLst/>
            <a:gdLst/>
            <a:ahLst/>
            <a:rect l="l" t="t" r="r" b="b"/>
            <a:pathLst>
              <a:path w="317" h="633">
                <a:moveTo>
                  <a:pt x="181" y="412"/>
                </a:moveTo>
                <a:lnTo>
                  <a:pt x="174" y="386"/>
                </a:lnTo>
                <a:lnTo>
                  <a:pt x="167" y="360"/>
                </a:lnTo>
                <a:lnTo>
                  <a:pt x="157" y="334"/>
                </a:lnTo>
                <a:lnTo>
                  <a:pt x="150" y="310"/>
                </a:lnTo>
                <a:lnTo>
                  <a:pt x="141" y="288"/>
                </a:lnTo>
                <a:lnTo>
                  <a:pt x="134" y="267"/>
                </a:lnTo>
                <a:lnTo>
                  <a:pt x="124" y="246"/>
                </a:lnTo>
                <a:lnTo>
                  <a:pt x="115" y="226"/>
                </a:lnTo>
                <a:lnTo>
                  <a:pt x="105" y="210"/>
                </a:lnTo>
                <a:lnTo>
                  <a:pt x="98" y="193"/>
                </a:lnTo>
                <a:lnTo>
                  <a:pt x="88" y="179"/>
                </a:lnTo>
                <a:lnTo>
                  <a:pt x="79" y="167"/>
                </a:lnTo>
                <a:lnTo>
                  <a:pt x="72" y="153"/>
                </a:lnTo>
                <a:lnTo>
                  <a:pt x="62" y="143"/>
                </a:lnTo>
                <a:lnTo>
                  <a:pt x="55" y="134"/>
                </a:lnTo>
                <a:lnTo>
                  <a:pt x="48" y="124"/>
                </a:lnTo>
                <a:lnTo>
                  <a:pt x="41" y="117"/>
                </a:lnTo>
                <a:lnTo>
                  <a:pt x="34" y="110"/>
                </a:lnTo>
                <a:lnTo>
                  <a:pt x="26" y="103"/>
                </a:lnTo>
                <a:lnTo>
                  <a:pt x="22" y="96"/>
                </a:lnTo>
                <a:lnTo>
                  <a:pt x="17" y="88"/>
                </a:lnTo>
                <a:lnTo>
                  <a:pt x="12" y="81"/>
                </a:lnTo>
                <a:lnTo>
                  <a:pt x="10" y="77"/>
                </a:lnTo>
                <a:lnTo>
                  <a:pt x="7" y="69"/>
                </a:lnTo>
                <a:lnTo>
                  <a:pt x="5" y="62"/>
                </a:lnTo>
                <a:lnTo>
                  <a:pt x="3" y="57"/>
                </a:lnTo>
                <a:lnTo>
                  <a:pt x="3" y="50"/>
                </a:lnTo>
                <a:lnTo>
                  <a:pt x="0" y="43"/>
                </a:lnTo>
                <a:lnTo>
                  <a:pt x="3" y="36"/>
                </a:lnTo>
                <a:lnTo>
                  <a:pt x="3" y="29"/>
                </a:lnTo>
                <a:lnTo>
                  <a:pt x="5" y="22"/>
                </a:lnTo>
                <a:lnTo>
                  <a:pt x="7" y="15"/>
                </a:lnTo>
                <a:lnTo>
                  <a:pt x="10" y="10"/>
                </a:lnTo>
                <a:lnTo>
                  <a:pt x="14" y="5"/>
                </a:lnTo>
                <a:lnTo>
                  <a:pt x="22" y="3"/>
                </a:lnTo>
                <a:lnTo>
                  <a:pt x="31" y="0"/>
                </a:lnTo>
                <a:lnTo>
                  <a:pt x="41" y="0"/>
                </a:lnTo>
                <a:lnTo>
                  <a:pt x="55" y="0"/>
                </a:lnTo>
                <a:lnTo>
                  <a:pt x="69" y="0"/>
                </a:lnTo>
                <a:lnTo>
                  <a:pt x="84" y="3"/>
                </a:lnTo>
                <a:lnTo>
                  <a:pt x="100" y="5"/>
                </a:lnTo>
                <a:lnTo>
                  <a:pt x="119" y="8"/>
                </a:lnTo>
                <a:lnTo>
                  <a:pt x="141" y="12"/>
                </a:lnTo>
                <a:lnTo>
                  <a:pt x="162" y="17"/>
                </a:lnTo>
                <a:lnTo>
                  <a:pt x="186" y="22"/>
                </a:lnTo>
                <a:lnTo>
                  <a:pt x="210" y="27"/>
                </a:lnTo>
                <a:lnTo>
                  <a:pt x="236" y="34"/>
                </a:lnTo>
                <a:lnTo>
                  <a:pt x="262" y="43"/>
                </a:lnTo>
                <a:lnTo>
                  <a:pt x="269" y="79"/>
                </a:lnTo>
                <a:lnTo>
                  <a:pt x="272" y="115"/>
                </a:lnTo>
                <a:lnTo>
                  <a:pt x="277" y="148"/>
                </a:lnTo>
                <a:lnTo>
                  <a:pt x="281" y="181"/>
                </a:lnTo>
                <a:lnTo>
                  <a:pt x="286" y="215"/>
                </a:lnTo>
                <a:lnTo>
                  <a:pt x="289" y="246"/>
                </a:lnTo>
                <a:lnTo>
                  <a:pt x="293" y="274"/>
                </a:lnTo>
                <a:lnTo>
                  <a:pt x="296" y="303"/>
                </a:lnTo>
                <a:lnTo>
                  <a:pt x="298" y="329"/>
                </a:lnTo>
                <a:lnTo>
                  <a:pt x="303" y="355"/>
                </a:lnTo>
                <a:lnTo>
                  <a:pt x="305" y="381"/>
                </a:lnTo>
                <a:lnTo>
                  <a:pt x="308" y="405"/>
                </a:lnTo>
                <a:lnTo>
                  <a:pt x="310" y="426"/>
                </a:lnTo>
                <a:lnTo>
                  <a:pt x="310" y="448"/>
                </a:lnTo>
                <a:lnTo>
                  <a:pt x="312" y="467"/>
                </a:lnTo>
                <a:lnTo>
                  <a:pt x="315" y="486"/>
                </a:lnTo>
                <a:lnTo>
                  <a:pt x="315" y="505"/>
                </a:lnTo>
                <a:lnTo>
                  <a:pt x="317" y="522"/>
                </a:lnTo>
                <a:lnTo>
                  <a:pt x="317" y="536"/>
                </a:lnTo>
                <a:lnTo>
                  <a:pt x="317" y="550"/>
                </a:lnTo>
                <a:lnTo>
                  <a:pt x="317" y="564"/>
                </a:lnTo>
                <a:lnTo>
                  <a:pt x="317" y="576"/>
                </a:lnTo>
                <a:lnTo>
                  <a:pt x="317" y="586"/>
                </a:lnTo>
                <a:lnTo>
                  <a:pt x="317" y="595"/>
                </a:lnTo>
                <a:lnTo>
                  <a:pt x="315" y="605"/>
                </a:lnTo>
                <a:lnTo>
                  <a:pt x="315" y="612"/>
                </a:lnTo>
                <a:lnTo>
                  <a:pt x="315" y="619"/>
                </a:lnTo>
                <a:lnTo>
                  <a:pt x="312" y="624"/>
                </a:lnTo>
                <a:lnTo>
                  <a:pt x="310" y="629"/>
                </a:lnTo>
                <a:lnTo>
                  <a:pt x="308" y="631"/>
                </a:lnTo>
                <a:lnTo>
                  <a:pt x="305" y="633"/>
                </a:lnTo>
                <a:lnTo>
                  <a:pt x="296" y="631"/>
                </a:lnTo>
                <a:lnTo>
                  <a:pt x="289" y="629"/>
                </a:lnTo>
                <a:lnTo>
                  <a:pt x="281" y="626"/>
                </a:lnTo>
                <a:lnTo>
                  <a:pt x="274" y="619"/>
                </a:lnTo>
                <a:lnTo>
                  <a:pt x="265" y="612"/>
                </a:lnTo>
                <a:lnTo>
                  <a:pt x="258" y="603"/>
                </a:lnTo>
                <a:lnTo>
                  <a:pt x="250" y="593"/>
                </a:lnTo>
                <a:lnTo>
                  <a:pt x="243" y="579"/>
                </a:lnTo>
                <a:lnTo>
                  <a:pt x="236" y="564"/>
                </a:lnTo>
                <a:lnTo>
                  <a:pt x="227" y="550"/>
                </a:lnTo>
                <a:lnTo>
                  <a:pt x="219" y="531"/>
                </a:lnTo>
                <a:lnTo>
                  <a:pt x="212" y="512"/>
                </a:lnTo>
                <a:lnTo>
                  <a:pt x="205" y="491"/>
                </a:lnTo>
                <a:lnTo>
                  <a:pt x="198" y="467"/>
                </a:lnTo>
                <a:lnTo>
                  <a:pt x="191" y="441"/>
                </a:lnTo>
                <a:lnTo>
                  <a:pt x="181" y="41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Freeform 40"/>
          <p:cNvSpPr/>
          <p:nvPr/>
        </p:nvSpPr>
        <p:spPr>
          <a:xfrm>
            <a:off x="6305400" y="2987640"/>
            <a:ext cx="781200" cy="357120"/>
          </a:xfrm>
          <a:custGeom>
            <a:avLst/>
            <a:gdLst/>
            <a:ahLst/>
            <a:rect l="l" t="t" r="r" b="b"/>
            <a:pathLst>
              <a:path w="1231" h="564">
                <a:moveTo>
                  <a:pt x="867" y="564"/>
                </a:moveTo>
                <a:lnTo>
                  <a:pt x="717" y="564"/>
                </a:lnTo>
                <a:lnTo>
                  <a:pt x="741" y="528"/>
                </a:lnTo>
                <a:lnTo>
                  <a:pt x="764" y="495"/>
                </a:lnTo>
                <a:lnTo>
                  <a:pt x="786" y="461"/>
                </a:lnTo>
                <a:lnTo>
                  <a:pt x="795" y="445"/>
                </a:lnTo>
                <a:lnTo>
                  <a:pt x="805" y="430"/>
                </a:lnTo>
                <a:lnTo>
                  <a:pt x="814" y="414"/>
                </a:lnTo>
                <a:lnTo>
                  <a:pt x="822" y="399"/>
                </a:lnTo>
                <a:lnTo>
                  <a:pt x="829" y="385"/>
                </a:lnTo>
                <a:lnTo>
                  <a:pt x="836" y="371"/>
                </a:lnTo>
                <a:lnTo>
                  <a:pt x="841" y="357"/>
                </a:lnTo>
                <a:lnTo>
                  <a:pt x="845" y="342"/>
                </a:lnTo>
                <a:lnTo>
                  <a:pt x="850" y="328"/>
                </a:lnTo>
                <a:lnTo>
                  <a:pt x="853" y="316"/>
                </a:lnTo>
                <a:lnTo>
                  <a:pt x="855" y="304"/>
                </a:lnTo>
                <a:lnTo>
                  <a:pt x="857" y="292"/>
                </a:lnTo>
                <a:lnTo>
                  <a:pt x="857" y="283"/>
                </a:lnTo>
                <a:lnTo>
                  <a:pt x="860" y="271"/>
                </a:lnTo>
                <a:lnTo>
                  <a:pt x="862" y="264"/>
                </a:lnTo>
                <a:lnTo>
                  <a:pt x="862" y="254"/>
                </a:lnTo>
                <a:lnTo>
                  <a:pt x="862" y="247"/>
                </a:lnTo>
                <a:lnTo>
                  <a:pt x="862" y="240"/>
                </a:lnTo>
                <a:lnTo>
                  <a:pt x="862" y="235"/>
                </a:lnTo>
                <a:lnTo>
                  <a:pt x="862" y="228"/>
                </a:lnTo>
                <a:lnTo>
                  <a:pt x="860" y="219"/>
                </a:lnTo>
                <a:lnTo>
                  <a:pt x="857" y="211"/>
                </a:lnTo>
                <a:lnTo>
                  <a:pt x="853" y="207"/>
                </a:lnTo>
                <a:lnTo>
                  <a:pt x="850" y="204"/>
                </a:lnTo>
                <a:lnTo>
                  <a:pt x="845" y="202"/>
                </a:lnTo>
                <a:lnTo>
                  <a:pt x="843" y="200"/>
                </a:lnTo>
                <a:lnTo>
                  <a:pt x="838" y="197"/>
                </a:lnTo>
                <a:lnTo>
                  <a:pt x="826" y="195"/>
                </a:lnTo>
                <a:lnTo>
                  <a:pt x="814" y="195"/>
                </a:lnTo>
                <a:lnTo>
                  <a:pt x="798" y="192"/>
                </a:lnTo>
                <a:lnTo>
                  <a:pt x="781" y="192"/>
                </a:lnTo>
                <a:lnTo>
                  <a:pt x="764" y="192"/>
                </a:lnTo>
                <a:lnTo>
                  <a:pt x="743" y="192"/>
                </a:lnTo>
                <a:lnTo>
                  <a:pt x="719" y="192"/>
                </a:lnTo>
                <a:lnTo>
                  <a:pt x="691" y="195"/>
                </a:lnTo>
                <a:lnTo>
                  <a:pt x="662" y="197"/>
                </a:lnTo>
                <a:lnTo>
                  <a:pt x="645" y="200"/>
                </a:lnTo>
                <a:lnTo>
                  <a:pt x="629" y="202"/>
                </a:lnTo>
                <a:lnTo>
                  <a:pt x="612" y="202"/>
                </a:lnTo>
                <a:lnTo>
                  <a:pt x="595" y="204"/>
                </a:lnTo>
                <a:lnTo>
                  <a:pt x="576" y="207"/>
                </a:lnTo>
                <a:lnTo>
                  <a:pt x="557" y="209"/>
                </a:lnTo>
                <a:lnTo>
                  <a:pt x="538" y="211"/>
                </a:lnTo>
                <a:lnTo>
                  <a:pt x="517" y="214"/>
                </a:lnTo>
                <a:lnTo>
                  <a:pt x="495" y="219"/>
                </a:lnTo>
                <a:lnTo>
                  <a:pt x="474" y="221"/>
                </a:lnTo>
                <a:lnTo>
                  <a:pt x="450" y="226"/>
                </a:lnTo>
                <a:lnTo>
                  <a:pt x="426" y="230"/>
                </a:lnTo>
                <a:lnTo>
                  <a:pt x="400" y="235"/>
                </a:lnTo>
                <a:lnTo>
                  <a:pt x="374" y="238"/>
                </a:lnTo>
                <a:lnTo>
                  <a:pt x="347" y="242"/>
                </a:lnTo>
                <a:lnTo>
                  <a:pt x="319" y="245"/>
                </a:lnTo>
                <a:lnTo>
                  <a:pt x="290" y="250"/>
                </a:lnTo>
                <a:lnTo>
                  <a:pt x="262" y="252"/>
                </a:lnTo>
                <a:lnTo>
                  <a:pt x="231" y="254"/>
                </a:lnTo>
                <a:lnTo>
                  <a:pt x="200" y="257"/>
                </a:lnTo>
                <a:lnTo>
                  <a:pt x="169" y="257"/>
                </a:lnTo>
                <a:lnTo>
                  <a:pt x="135" y="259"/>
                </a:lnTo>
                <a:lnTo>
                  <a:pt x="102" y="259"/>
                </a:lnTo>
                <a:lnTo>
                  <a:pt x="69" y="261"/>
                </a:lnTo>
                <a:lnTo>
                  <a:pt x="35" y="261"/>
                </a:lnTo>
                <a:lnTo>
                  <a:pt x="0" y="261"/>
                </a:lnTo>
                <a:lnTo>
                  <a:pt x="0" y="166"/>
                </a:lnTo>
                <a:lnTo>
                  <a:pt x="54" y="164"/>
                </a:lnTo>
                <a:lnTo>
                  <a:pt x="112" y="161"/>
                </a:lnTo>
                <a:lnTo>
                  <a:pt x="169" y="159"/>
                </a:lnTo>
                <a:lnTo>
                  <a:pt x="226" y="154"/>
                </a:lnTo>
                <a:lnTo>
                  <a:pt x="286" y="145"/>
                </a:lnTo>
                <a:lnTo>
                  <a:pt x="345" y="135"/>
                </a:lnTo>
                <a:lnTo>
                  <a:pt x="376" y="131"/>
                </a:lnTo>
                <a:lnTo>
                  <a:pt x="409" y="123"/>
                </a:lnTo>
                <a:lnTo>
                  <a:pt x="440" y="119"/>
                </a:lnTo>
                <a:lnTo>
                  <a:pt x="474" y="109"/>
                </a:lnTo>
                <a:lnTo>
                  <a:pt x="502" y="104"/>
                </a:lnTo>
                <a:lnTo>
                  <a:pt x="531" y="100"/>
                </a:lnTo>
                <a:lnTo>
                  <a:pt x="560" y="95"/>
                </a:lnTo>
                <a:lnTo>
                  <a:pt x="586" y="90"/>
                </a:lnTo>
                <a:lnTo>
                  <a:pt x="610" y="85"/>
                </a:lnTo>
                <a:lnTo>
                  <a:pt x="633" y="78"/>
                </a:lnTo>
                <a:lnTo>
                  <a:pt x="655" y="73"/>
                </a:lnTo>
                <a:lnTo>
                  <a:pt x="674" y="69"/>
                </a:lnTo>
                <a:lnTo>
                  <a:pt x="693" y="64"/>
                </a:lnTo>
                <a:lnTo>
                  <a:pt x="712" y="59"/>
                </a:lnTo>
                <a:lnTo>
                  <a:pt x="726" y="54"/>
                </a:lnTo>
                <a:lnTo>
                  <a:pt x="743" y="50"/>
                </a:lnTo>
                <a:lnTo>
                  <a:pt x="755" y="42"/>
                </a:lnTo>
                <a:lnTo>
                  <a:pt x="767" y="38"/>
                </a:lnTo>
                <a:lnTo>
                  <a:pt x="776" y="33"/>
                </a:lnTo>
                <a:lnTo>
                  <a:pt x="786" y="28"/>
                </a:lnTo>
                <a:lnTo>
                  <a:pt x="800" y="23"/>
                </a:lnTo>
                <a:lnTo>
                  <a:pt x="812" y="19"/>
                </a:lnTo>
                <a:lnTo>
                  <a:pt x="826" y="14"/>
                </a:lnTo>
                <a:lnTo>
                  <a:pt x="838" y="9"/>
                </a:lnTo>
                <a:lnTo>
                  <a:pt x="853" y="4"/>
                </a:lnTo>
                <a:lnTo>
                  <a:pt x="865" y="2"/>
                </a:lnTo>
                <a:lnTo>
                  <a:pt x="879" y="2"/>
                </a:lnTo>
                <a:lnTo>
                  <a:pt x="893" y="0"/>
                </a:lnTo>
                <a:lnTo>
                  <a:pt x="898" y="2"/>
                </a:lnTo>
                <a:lnTo>
                  <a:pt x="905" y="7"/>
                </a:lnTo>
                <a:lnTo>
                  <a:pt x="912" y="9"/>
                </a:lnTo>
                <a:lnTo>
                  <a:pt x="922" y="14"/>
                </a:lnTo>
                <a:lnTo>
                  <a:pt x="929" y="16"/>
                </a:lnTo>
                <a:lnTo>
                  <a:pt x="941" y="21"/>
                </a:lnTo>
                <a:lnTo>
                  <a:pt x="950" y="26"/>
                </a:lnTo>
                <a:lnTo>
                  <a:pt x="962" y="31"/>
                </a:lnTo>
                <a:lnTo>
                  <a:pt x="974" y="35"/>
                </a:lnTo>
                <a:lnTo>
                  <a:pt x="988" y="42"/>
                </a:lnTo>
                <a:lnTo>
                  <a:pt x="1003" y="47"/>
                </a:lnTo>
                <a:lnTo>
                  <a:pt x="1017" y="54"/>
                </a:lnTo>
                <a:lnTo>
                  <a:pt x="1031" y="61"/>
                </a:lnTo>
                <a:lnTo>
                  <a:pt x="1048" y="69"/>
                </a:lnTo>
                <a:lnTo>
                  <a:pt x="1065" y="76"/>
                </a:lnTo>
                <a:lnTo>
                  <a:pt x="1084" y="83"/>
                </a:lnTo>
                <a:lnTo>
                  <a:pt x="1100" y="92"/>
                </a:lnTo>
                <a:lnTo>
                  <a:pt x="1117" y="102"/>
                </a:lnTo>
                <a:lnTo>
                  <a:pt x="1131" y="111"/>
                </a:lnTo>
                <a:lnTo>
                  <a:pt x="1146" y="121"/>
                </a:lnTo>
                <a:lnTo>
                  <a:pt x="1160" y="131"/>
                </a:lnTo>
                <a:lnTo>
                  <a:pt x="1172" y="138"/>
                </a:lnTo>
                <a:lnTo>
                  <a:pt x="1181" y="147"/>
                </a:lnTo>
                <a:lnTo>
                  <a:pt x="1193" y="154"/>
                </a:lnTo>
                <a:lnTo>
                  <a:pt x="1201" y="159"/>
                </a:lnTo>
                <a:lnTo>
                  <a:pt x="1210" y="166"/>
                </a:lnTo>
                <a:lnTo>
                  <a:pt x="1215" y="173"/>
                </a:lnTo>
                <a:lnTo>
                  <a:pt x="1222" y="178"/>
                </a:lnTo>
                <a:lnTo>
                  <a:pt x="1227" y="183"/>
                </a:lnTo>
                <a:lnTo>
                  <a:pt x="1229" y="185"/>
                </a:lnTo>
                <a:lnTo>
                  <a:pt x="1231" y="190"/>
                </a:lnTo>
                <a:lnTo>
                  <a:pt x="1231" y="192"/>
                </a:lnTo>
                <a:lnTo>
                  <a:pt x="1227" y="200"/>
                </a:lnTo>
                <a:lnTo>
                  <a:pt x="1220" y="204"/>
                </a:lnTo>
                <a:lnTo>
                  <a:pt x="1210" y="211"/>
                </a:lnTo>
                <a:lnTo>
                  <a:pt x="1201" y="221"/>
                </a:lnTo>
                <a:lnTo>
                  <a:pt x="1191" y="228"/>
                </a:lnTo>
                <a:lnTo>
                  <a:pt x="1179" y="235"/>
                </a:lnTo>
                <a:lnTo>
                  <a:pt x="1165" y="242"/>
                </a:lnTo>
                <a:lnTo>
                  <a:pt x="1150" y="247"/>
                </a:lnTo>
                <a:lnTo>
                  <a:pt x="1139" y="252"/>
                </a:lnTo>
                <a:lnTo>
                  <a:pt x="1129" y="257"/>
                </a:lnTo>
                <a:lnTo>
                  <a:pt x="1115" y="266"/>
                </a:lnTo>
                <a:lnTo>
                  <a:pt x="1103" y="276"/>
                </a:lnTo>
                <a:lnTo>
                  <a:pt x="1086" y="288"/>
                </a:lnTo>
                <a:lnTo>
                  <a:pt x="1072" y="302"/>
                </a:lnTo>
                <a:lnTo>
                  <a:pt x="1055" y="319"/>
                </a:lnTo>
                <a:lnTo>
                  <a:pt x="1038" y="338"/>
                </a:lnTo>
                <a:lnTo>
                  <a:pt x="1019" y="359"/>
                </a:lnTo>
                <a:lnTo>
                  <a:pt x="1000" y="383"/>
                </a:lnTo>
                <a:lnTo>
                  <a:pt x="981" y="407"/>
                </a:lnTo>
                <a:lnTo>
                  <a:pt x="960" y="435"/>
                </a:lnTo>
                <a:lnTo>
                  <a:pt x="936" y="464"/>
                </a:lnTo>
                <a:lnTo>
                  <a:pt x="915" y="495"/>
                </a:lnTo>
                <a:lnTo>
                  <a:pt x="891" y="528"/>
                </a:lnTo>
                <a:lnTo>
                  <a:pt x="867" y="56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Freeform 39"/>
          <p:cNvSpPr/>
          <p:nvPr/>
        </p:nvSpPr>
        <p:spPr>
          <a:xfrm>
            <a:off x="6407280" y="3298680"/>
            <a:ext cx="515880" cy="133560"/>
          </a:xfrm>
          <a:custGeom>
            <a:avLst/>
            <a:gdLst/>
            <a:ahLst/>
            <a:rect l="l" t="t" r="r" b="b"/>
            <a:pathLst>
              <a:path w="812" h="212">
                <a:moveTo>
                  <a:pt x="0" y="212"/>
                </a:moveTo>
                <a:lnTo>
                  <a:pt x="0" y="100"/>
                </a:lnTo>
                <a:lnTo>
                  <a:pt x="19" y="97"/>
                </a:lnTo>
                <a:lnTo>
                  <a:pt x="38" y="95"/>
                </a:lnTo>
                <a:lnTo>
                  <a:pt x="62" y="93"/>
                </a:lnTo>
                <a:lnTo>
                  <a:pt x="83" y="88"/>
                </a:lnTo>
                <a:lnTo>
                  <a:pt x="109" y="83"/>
                </a:lnTo>
                <a:lnTo>
                  <a:pt x="135" y="81"/>
                </a:lnTo>
                <a:lnTo>
                  <a:pt x="164" y="76"/>
                </a:lnTo>
                <a:lnTo>
                  <a:pt x="193" y="71"/>
                </a:lnTo>
                <a:lnTo>
                  <a:pt x="224" y="64"/>
                </a:lnTo>
                <a:lnTo>
                  <a:pt x="257" y="59"/>
                </a:lnTo>
                <a:lnTo>
                  <a:pt x="290" y="55"/>
                </a:lnTo>
                <a:lnTo>
                  <a:pt x="328" y="48"/>
                </a:lnTo>
                <a:lnTo>
                  <a:pt x="364" y="40"/>
                </a:lnTo>
                <a:lnTo>
                  <a:pt x="405" y="33"/>
                </a:lnTo>
                <a:lnTo>
                  <a:pt x="445" y="26"/>
                </a:lnTo>
                <a:lnTo>
                  <a:pt x="488" y="19"/>
                </a:lnTo>
                <a:lnTo>
                  <a:pt x="507" y="17"/>
                </a:lnTo>
                <a:lnTo>
                  <a:pt x="526" y="14"/>
                </a:lnTo>
                <a:lnTo>
                  <a:pt x="545" y="12"/>
                </a:lnTo>
                <a:lnTo>
                  <a:pt x="564" y="9"/>
                </a:lnTo>
                <a:lnTo>
                  <a:pt x="581" y="7"/>
                </a:lnTo>
                <a:lnTo>
                  <a:pt x="598" y="7"/>
                </a:lnTo>
                <a:lnTo>
                  <a:pt x="614" y="5"/>
                </a:lnTo>
                <a:lnTo>
                  <a:pt x="629" y="2"/>
                </a:lnTo>
                <a:lnTo>
                  <a:pt x="645" y="2"/>
                </a:lnTo>
                <a:lnTo>
                  <a:pt x="660" y="0"/>
                </a:lnTo>
                <a:lnTo>
                  <a:pt x="672" y="0"/>
                </a:lnTo>
                <a:lnTo>
                  <a:pt x="686" y="0"/>
                </a:lnTo>
                <a:lnTo>
                  <a:pt x="698" y="0"/>
                </a:lnTo>
                <a:lnTo>
                  <a:pt x="710" y="0"/>
                </a:lnTo>
                <a:lnTo>
                  <a:pt x="722" y="0"/>
                </a:lnTo>
                <a:lnTo>
                  <a:pt x="731" y="0"/>
                </a:lnTo>
                <a:lnTo>
                  <a:pt x="741" y="0"/>
                </a:lnTo>
                <a:lnTo>
                  <a:pt x="750" y="0"/>
                </a:lnTo>
                <a:lnTo>
                  <a:pt x="760" y="2"/>
                </a:lnTo>
                <a:lnTo>
                  <a:pt x="767" y="2"/>
                </a:lnTo>
                <a:lnTo>
                  <a:pt x="774" y="5"/>
                </a:lnTo>
                <a:lnTo>
                  <a:pt x="781" y="5"/>
                </a:lnTo>
                <a:lnTo>
                  <a:pt x="786" y="7"/>
                </a:lnTo>
                <a:lnTo>
                  <a:pt x="791" y="9"/>
                </a:lnTo>
                <a:lnTo>
                  <a:pt x="795" y="12"/>
                </a:lnTo>
                <a:lnTo>
                  <a:pt x="800" y="14"/>
                </a:lnTo>
                <a:lnTo>
                  <a:pt x="805" y="17"/>
                </a:lnTo>
                <a:lnTo>
                  <a:pt x="807" y="19"/>
                </a:lnTo>
                <a:lnTo>
                  <a:pt x="810" y="21"/>
                </a:lnTo>
                <a:lnTo>
                  <a:pt x="810" y="26"/>
                </a:lnTo>
                <a:lnTo>
                  <a:pt x="812" y="28"/>
                </a:lnTo>
                <a:lnTo>
                  <a:pt x="812" y="33"/>
                </a:lnTo>
                <a:lnTo>
                  <a:pt x="812" y="48"/>
                </a:lnTo>
                <a:lnTo>
                  <a:pt x="812" y="59"/>
                </a:lnTo>
                <a:lnTo>
                  <a:pt x="812" y="74"/>
                </a:lnTo>
                <a:lnTo>
                  <a:pt x="810" y="83"/>
                </a:lnTo>
                <a:lnTo>
                  <a:pt x="810" y="93"/>
                </a:lnTo>
                <a:lnTo>
                  <a:pt x="807" y="102"/>
                </a:lnTo>
                <a:lnTo>
                  <a:pt x="803" y="109"/>
                </a:lnTo>
                <a:lnTo>
                  <a:pt x="798" y="114"/>
                </a:lnTo>
                <a:lnTo>
                  <a:pt x="795" y="117"/>
                </a:lnTo>
                <a:lnTo>
                  <a:pt x="788" y="119"/>
                </a:lnTo>
                <a:lnTo>
                  <a:pt x="781" y="121"/>
                </a:lnTo>
                <a:lnTo>
                  <a:pt x="772" y="124"/>
                </a:lnTo>
                <a:lnTo>
                  <a:pt x="757" y="124"/>
                </a:lnTo>
                <a:lnTo>
                  <a:pt x="743" y="126"/>
                </a:lnTo>
                <a:lnTo>
                  <a:pt x="726" y="126"/>
                </a:lnTo>
                <a:lnTo>
                  <a:pt x="707" y="128"/>
                </a:lnTo>
                <a:lnTo>
                  <a:pt x="686" y="131"/>
                </a:lnTo>
                <a:lnTo>
                  <a:pt x="662" y="131"/>
                </a:lnTo>
                <a:lnTo>
                  <a:pt x="636" y="133"/>
                </a:lnTo>
                <a:lnTo>
                  <a:pt x="607" y="133"/>
                </a:lnTo>
                <a:lnTo>
                  <a:pt x="579" y="136"/>
                </a:lnTo>
                <a:lnTo>
                  <a:pt x="545" y="138"/>
                </a:lnTo>
                <a:lnTo>
                  <a:pt x="512" y="140"/>
                </a:lnTo>
                <a:lnTo>
                  <a:pt x="474" y="143"/>
                </a:lnTo>
                <a:lnTo>
                  <a:pt x="436" y="145"/>
                </a:lnTo>
                <a:lnTo>
                  <a:pt x="400" y="147"/>
                </a:lnTo>
                <a:lnTo>
                  <a:pt x="364" y="152"/>
                </a:lnTo>
                <a:lnTo>
                  <a:pt x="331" y="155"/>
                </a:lnTo>
                <a:lnTo>
                  <a:pt x="297" y="159"/>
                </a:lnTo>
                <a:lnTo>
                  <a:pt x="266" y="162"/>
                </a:lnTo>
                <a:lnTo>
                  <a:pt x="236" y="167"/>
                </a:lnTo>
                <a:lnTo>
                  <a:pt x="207" y="171"/>
                </a:lnTo>
                <a:lnTo>
                  <a:pt x="178" y="176"/>
                </a:lnTo>
                <a:lnTo>
                  <a:pt x="150" y="181"/>
                </a:lnTo>
                <a:lnTo>
                  <a:pt x="124" y="186"/>
                </a:lnTo>
                <a:lnTo>
                  <a:pt x="97" y="190"/>
                </a:lnTo>
                <a:lnTo>
                  <a:pt x="71" y="195"/>
                </a:lnTo>
                <a:lnTo>
                  <a:pt x="47" y="200"/>
                </a:lnTo>
                <a:lnTo>
                  <a:pt x="23" y="205"/>
                </a:lnTo>
                <a:lnTo>
                  <a:pt x="0" y="21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Freeform 37"/>
          <p:cNvSpPr/>
          <p:nvPr/>
        </p:nvSpPr>
        <p:spPr>
          <a:xfrm>
            <a:off x="6372360" y="3370320"/>
            <a:ext cx="345960" cy="838080"/>
          </a:xfrm>
          <a:custGeom>
            <a:avLst/>
            <a:gdLst/>
            <a:ahLst/>
            <a:rect l="l" t="t" r="r" b="b"/>
            <a:pathLst>
              <a:path w="543" h="1319">
                <a:moveTo>
                  <a:pt x="0" y="935"/>
                </a:moveTo>
                <a:lnTo>
                  <a:pt x="5" y="931"/>
                </a:lnTo>
                <a:lnTo>
                  <a:pt x="7" y="926"/>
                </a:lnTo>
                <a:lnTo>
                  <a:pt x="12" y="921"/>
                </a:lnTo>
                <a:lnTo>
                  <a:pt x="16" y="919"/>
                </a:lnTo>
                <a:lnTo>
                  <a:pt x="21" y="916"/>
                </a:lnTo>
                <a:lnTo>
                  <a:pt x="28" y="914"/>
                </a:lnTo>
                <a:lnTo>
                  <a:pt x="36" y="914"/>
                </a:lnTo>
                <a:lnTo>
                  <a:pt x="45" y="914"/>
                </a:lnTo>
                <a:lnTo>
                  <a:pt x="55" y="914"/>
                </a:lnTo>
                <a:lnTo>
                  <a:pt x="64" y="914"/>
                </a:lnTo>
                <a:lnTo>
                  <a:pt x="76" y="916"/>
                </a:lnTo>
                <a:lnTo>
                  <a:pt x="88" y="919"/>
                </a:lnTo>
                <a:lnTo>
                  <a:pt x="102" y="921"/>
                </a:lnTo>
                <a:lnTo>
                  <a:pt x="117" y="926"/>
                </a:lnTo>
                <a:lnTo>
                  <a:pt x="133" y="931"/>
                </a:lnTo>
                <a:lnTo>
                  <a:pt x="150" y="935"/>
                </a:lnTo>
                <a:lnTo>
                  <a:pt x="167" y="940"/>
                </a:lnTo>
                <a:lnTo>
                  <a:pt x="183" y="945"/>
                </a:lnTo>
                <a:lnTo>
                  <a:pt x="200" y="947"/>
                </a:lnTo>
                <a:lnTo>
                  <a:pt x="214" y="950"/>
                </a:lnTo>
                <a:lnTo>
                  <a:pt x="226" y="952"/>
                </a:lnTo>
                <a:lnTo>
                  <a:pt x="240" y="955"/>
                </a:lnTo>
                <a:lnTo>
                  <a:pt x="252" y="955"/>
                </a:lnTo>
                <a:lnTo>
                  <a:pt x="264" y="955"/>
                </a:lnTo>
                <a:lnTo>
                  <a:pt x="274" y="952"/>
                </a:lnTo>
                <a:lnTo>
                  <a:pt x="283" y="952"/>
                </a:lnTo>
                <a:lnTo>
                  <a:pt x="293" y="947"/>
                </a:lnTo>
                <a:lnTo>
                  <a:pt x="300" y="945"/>
                </a:lnTo>
                <a:lnTo>
                  <a:pt x="307" y="940"/>
                </a:lnTo>
                <a:lnTo>
                  <a:pt x="314" y="935"/>
                </a:lnTo>
                <a:lnTo>
                  <a:pt x="321" y="928"/>
                </a:lnTo>
                <a:lnTo>
                  <a:pt x="326" y="921"/>
                </a:lnTo>
                <a:lnTo>
                  <a:pt x="331" y="914"/>
                </a:lnTo>
                <a:lnTo>
                  <a:pt x="336" y="907"/>
                </a:lnTo>
                <a:lnTo>
                  <a:pt x="341" y="897"/>
                </a:lnTo>
                <a:lnTo>
                  <a:pt x="343" y="888"/>
                </a:lnTo>
                <a:lnTo>
                  <a:pt x="348" y="876"/>
                </a:lnTo>
                <a:lnTo>
                  <a:pt x="350" y="862"/>
                </a:lnTo>
                <a:lnTo>
                  <a:pt x="352" y="845"/>
                </a:lnTo>
                <a:lnTo>
                  <a:pt x="357" y="828"/>
                </a:lnTo>
                <a:lnTo>
                  <a:pt x="360" y="809"/>
                </a:lnTo>
                <a:lnTo>
                  <a:pt x="360" y="788"/>
                </a:lnTo>
                <a:lnTo>
                  <a:pt x="362" y="767"/>
                </a:lnTo>
                <a:lnTo>
                  <a:pt x="364" y="743"/>
                </a:lnTo>
                <a:lnTo>
                  <a:pt x="364" y="719"/>
                </a:lnTo>
                <a:lnTo>
                  <a:pt x="367" y="690"/>
                </a:lnTo>
                <a:lnTo>
                  <a:pt x="367" y="662"/>
                </a:lnTo>
                <a:lnTo>
                  <a:pt x="367" y="633"/>
                </a:lnTo>
                <a:lnTo>
                  <a:pt x="367" y="602"/>
                </a:lnTo>
                <a:lnTo>
                  <a:pt x="367" y="574"/>
                </a:lnTo>
                <a:lnTo>
                  <a:pt x="364" y="540"/>
                </a:lnTo>
                <a:lnTo>
                  <a:pt x="364" y="507"/>
                </a:lnTo>
                <a:lnTo>
                  <a:pt x="362" y="471"/>
                </a:lnTo>
                <a:lnTo>
                  <a:pt x="360" y="436"/>
                </a:lnTo>
                <a:lnTo>
                  <a:pt x="360" y="398"/>
                </a:lnTo>
                <a:lnTo>
                  <a:pt x="357" y="357"/>
                </a:lnTo>
                <a:lnTo>
                  <a:pt x="352" y="317"/>
                </a:lnTo>
                <a:lnTo>
                  <a:pt x="350" y="276"/>
                </a:lnTo>
                <a:lnTo>
                  <a:pt x="348" y="233"/>
                </a:lnTo>
                <a:lnTo>
                  <a:pt x="343" y="188"/>
                </a:lnTo>
                <a:lnTo>
                  <a:pt x="341" y="143"/>
                </a:lnTo>
                <a:lnTo>
                  <a:pt x="336" y="98"/>
                </a:lnTo>
                <a:lnTo>
                  <a:pt x="331" y="50"/>
                </a:lnTo>
                <a:lnTo>
                  <a:pt x="326" y="0"/>
                </a:lnTo>
                <a:lnTo>
                  <a:pt x="352" y="19"/>
                </a:lnTo>
                <a:lnTo>
                  <a:pt x="379" y="36"/>
                </a:lnTo>
                <a:lnTo>
                  <a:pt x="400" y="53"/>
                </a:lnTo>
                <a:lnTo>
                  <a:pt x="422" y="67"/>
                </a:lnTo>
                <a:lnTo>
                  <a:pt x="441" y="83"/>
                </a:lnTo>
                <a:lnTo>
                  <a:pt x="460" y="95"/>
                </a:lnTo>
                <a:lnTo>
                  <a:pt x="476" y="110"/>
                </a:lnTo>
                <a:lnTo>
                  <a:pt x="491" y="122"/>
                </a:lnTo>
                <a:lnTo>
                  <a:pt x="503" y="133"/>
                </a:lnTo>
                <a:lnTo>
                  <a:pt x="512" y="143"/>
                </a:lnTo>
                <a:lnTo>
                  <a:pt x="522" y="152"/>
                </a:lnTo>
                <a:lnTo>
                  <a:pt x="529" y="160"/>
                </a:lnTo>
                <a:lnTo>
                  <a:pt x="536" y="167"/>
                </a:lnTo>
                <a:lnTo>
                  <a:pt x="538" y="172"/>
                </a:lnTo>
                <a:lnTo>
                  <a:pt x="541" y="176"/>
                </a:lnTo>
                <a:lnTo>
                  <a:pt x="543" y="179"/>
                </a:lnTo>
                <a:lnTo>
                  <a:pt x="543" y="181"/>
                </a:lnTo>
                <a:lnTo>
                  <a:pt x="543" y="186"/>
                </a:lnTo>
                <a:lnTo>
                  <a:pt x="543" y="195"/>
                </a:lnTo>
                <a:lnTo>
                  <a:pt x="541" y="205"/>
                </a:lnTo>
                <a:lnTo>
                  <a:pt x="541" y="217"/>
                </a:lnTo>
                <a:lnTo>
                  <a:pt x="538" y="231"/>
                </a:lnTo>
                <a:lnTo>
                  <a:pt x="536" y="245"/>
                </a:lnTo>
                <a:lnTo>
                  <a:pt x="534" y="260"/>
                </a:lnTo>
                <a:lnTo>
                  <a:pt x="529" y="276"/>
                </a:lnTo>
                <a:lnTo>
                  <a:pt x="526" y="283"/>
                </a:lnTo>
                <a:lnTo>
                  <a:pt x="524" y="295"/>
                </a:lnTo>
                <a:lnTo>
                  <a:pt x="522" y="305"/>
                </a:lnTo>
                <a:lnTo>
                  <a:pt x="522" y="319"/>
                </a:lnTo>
                <a:lnTo>
                  <a:pt x="519" y="333"/>
                </a:lnTo>
                <a:lnTo>
                  <a:pt x="519" y="350"/>
                </a:lnTo>
                <a:lnTo>
                  <a:pt x="519" y="369"/>
                </a:lnTo>
                <a:lnTo>
                  <a:pt x="519" y="388"/>
                </a:lnTo>
                <a:lnTo>
                  <a:pt x="519" y="410"/>
                </a:lnTo>
                <a:lnTo>
                  <a:pt x="519" y="433"/>
                </a:lnTo>
                <a:lnTo>
                  <a:pt x="519" y="457"/>
                </a:lnTo>
                <a:lnTo>
                  <a:pt x="522" y="483"/>
                </a:lnTo>
                <a:lnTo>
                  <a:pt x="522" y="512"/>
                </a:lnTo>
                <a:lnTo>
                  <a:pt x="524" y="540"/>
                </a:lnTo>
                <a:lnTo>
                  <a:pt x="526" y="571"/>
                </a:lnTo>
                <a:lnTo>
                  <a:pt x="529" y="605"/>
                </a:lnTo>
                <a:lnTo>
                  <a:pt x="531" y="638"/>
                </a:lnTo>
                <a:lnTo>
                  <a:pt x="534" y="669"/>
                </a:lnTo>
                <a:lnTo>
                  <a:pt x="536" y="702"/>
                </a:lnTo>
                <a:lnTo>
                  <a:pt x="536" y="731"/>
                </a:lnTo>
                <a:lnTo>
                  <a:pt x="538" y="759"/>
                </a:lnTo>
                <a:lnTo>
                  <a:pt x="538" y="788"/>
                </a:lnTo>
                <a:lnTo>
                  <a:pt x="538" y="816"/>
                </a:lnTo>
                <a:lnTo>
                  <a:pt x="538" y="843"/>
                </a:lnTo>
                <a:lnTo>
                  <a:pt x="538" y="866"/>
                </a:lnTo>
                <a:lnTo>
                  <a:pt x="538" y="893"/>
                </a:lnTo>
                <a:lnTo>
                  <a:pt x="538" y="914"/>
                </a:lnTo>
                <a:lnTo>
                  <a:pt x="536" y="938"/>
                </a:lnTo>
                <a:lnTo>
                  <a:pt x="536" y="959"/>
                </a:lnTo>
                <a:lnTo>
                  <a:pt x="534" y="978"/>
                </a:lnTo>
                <a:lnTo>
                  <a:pt x="531" y="1000"/>
                </a:lnTo>
                <a:lnTo>
                  <a:pt x="529" y="1016"/>
                </a:lnTo>
                <a:lnTo>
                  <a:pt x="526" y="1038"/>
                </a:lnTo>
                <a:lnTo>
                  <a:pt x="524" y="1057"/>
                </a:lnTo>
                <a:lnTo>
                  <a:pt x="519" y="1076"/>
                </a:lnTo>
                <a:lnTo>
                  <a:pt x="517" y="1095"/>
                </a:lnTo>
                <a:lnTo>
                  <a:pt x="512" y="1112"/>
                </a:lnTo>
                <a:lnTo>
                  <a:pt x="507" y="1128"/>
                </a:lnTo>
                <a:lnTo>
                  <a:pt x="503" y="1145"/>
                </a:lnTo>
                <a:lnTo>
                  <a:pt x="498" y="1159"/>
                </a:lnTo>
                <a:lnTo>
                  <a:pt x="493" y="1173"/>
                </a:lnTo>
                <a:lnTo>
                  <a:pt x="488" y="1188"/>
                </a:lnTo>
                <a:lnTo>
                  <a:pt x="481" y="1200"/>
                </a:lnTo>
                <a:lnTo>
                  <a:pt x="476" y="1212"/>
                </a:lnTo>
                <a:lnTo>
                  <a:pt x="469" y="1223"/>
                </a:lnTo>
                <a:lnTo>
                  <a:pt x="462" y="1233"/>
                </a:lnTo>
                <a:lnTo>
                  <a:pt x="455" y="1243"/>
                </a:lnTo>
                <a:lnTo>
                  <a:pt x="448" y="1250"/>
                </a:lnTo>
                <a:lnTo>
                  <a:pt x="433" y="1266"/>
                </a:lnTo>
                <a:lnTo>
                  <a:pt x="417" y="1278"/>
                </a:lnTo>
                <a:lnTo>
                  <a:pt x="402" y="1290"/>
                </a:lnTo>
                <a:lnTo>
                  <a:pt x="388" y="1300"/>
                </a:lnTo>
                <a:lnTo>
                  <a:pt x="374" y="1309"/>
                </a:lnTo>
                <a:lnTo>
                  <a:pt x="362" y="1314"/>
                </a:lnTo>
                <a:lnTo>
                  <a:pt x="355" y="1316"/>
                </a:lnTo>
                <a:lnTo>
                  <a:pt x="350" y="1319"/>
                </a:lnTo>
                <a:lnTo>
                  <a:pt x="345" y="1319"/>
                </a:lnTo>
                <a:lnTo>
                  <a:pt x="338" y="1319"/>
                </a:lnTo>
                <a:lnTo>
                  <a:pt x="333" y="1319"/>
                </a:lnTo>
                <a:lnTo>
                  <a:pt x="329" y="1319"/>
                </a:lnTo>
                <a:lnTo>
                  <a:pt x="326" y="1316"/>
                </a:lnTo>
                <a:lnTo>
                  <a:pt x="321" y="1314"/>
                </a:lnTo>
                <a:lnTo>
                  <a:pt x="317" y="1312"/>
                </a:lnTo>
                <a:lnTo>
                  <a:pt x="314" y="1307"/>
                </a:lnTo>
                <a:lnTo>
                  <a:pt x="310" y="1304"/>
                </a:lnTo>
                <a:lnTo>
                  <a:pt x="307" y="1300"/>
                </a:lnTo>
                <a:lnTo>
                  <a:pt x="305" y="1292"/>
                </a:lnTo>
                <a:lnTo>
                  <a:pt x="300" y="1288"/>
                </a:lnTo>
                <a:lnTo>
                  <a:pt x="298" y="1281"/>
                </a:lnTo>
                <a:lnTo>
                  <a:pt x="295" y="1273"/>
                </a:lnTo>
                <a:lnTo>
                  <a:pt x="293" y="1264"/>
                </a:lnTo>
                <a:lnTo>
                  <a:pt x="291" y="1257"/>
                </a:lnTo>
                <a:lnTo>
                  <a:pt x="288" y="1247"/>
                </a:lnTo>
                <a:lnTo>
                  <a:pt x="286" y="1238"/>
                </a:lnTo>
                <a:lnTo>
                  <a:pt x="283" y="1223"/>
                </a:lnTo>
                <a:lnTo>
                  <a:pt x="279" y="1212"/>
                </a:lnTo>
                <a:lnTo>
                  <a:pt x="274" y="1200"/>
                </a:lnTo>
                <a:lnTo>
                  <a:pt x="269" y="1188"/>
                </a:lnTo>
                <a:lnTo>
                  <a:pt x="264" y="1176"/>
                </a:lnTo>
                <a:lnTo>
                  <a:pt x="257" y="1164"/>
                </a:lnTo>
                <a:lnTo>
                  <a:pt x="250" y="1152"/>
                </a:lnTo>
                <a:lnTo>
                  <a:pt x="240" y="1140"/>
                </a:lnTo>
                <a:lnTo>
                  <a:pt x="231" y="1131"/>
                </a:lnTo>
                <a:lnTo>
                  <a:pt x="221" y="1119"/>
                </a:lnTo>
                <a:lnTo>
                  <a:pt x="209" y="1107"/>
                </a:lnTo>
                <a:lnTo>
                  <a:pt x="198" y="1095"/>
                </a:lnTo>
                <a:lnTo>
                  <a:pt x="183" y="1083"/>
                </a:lnTo>
                <a:lnTo>
                  <a:pt x="169" y="1071"/>
                </a:lnTo>
                <a:lnTo>
                  <a:pt x="152" y="1057"/>
                </a:lnTo>
                <a:lnTo>
                  <a:pt x="136" y="1045"/>
                </a:lnTo>
                <a:lnTo>
                  <a:pt x="119" y="1035"/>
                </a:lnTo>
                <a:lnTo>
                  <a:pt x="102" y="1024"/>
                </a:lnTo>
                <a:lnTo>
                  <a:pt x="88" y="1014"/>
                </a:lnTo>
                <a:lnTo>
                  <a:pt x="76" y="1007"/>
                </a:lnTo>
                <a:lnTo>
                  <a:pt x="64" y="997"/>
                </a:lnTo>
                <a:lnTo>
                  <a:pt x="52" y="988"/>
                </a:lnTo>
                <a:lnTo>
                  <a:pt x="43" y="981"/>
                </a:lnTo>
                <a:lnTo>
                  <a:pt x="33" y="974"/>
                </a:lnTo>
                <a:lnTo>
                  <a:pt x="26" y="966"/>
                </a:lnTo>
                <a:lnTo>
                  <a:pt x="19" y="962"/>
                </a:lnTo>
                <a:lnTo>
                  <a:pt x="14" y="955"/>
                </a:lnTo>
                <a:lnTo>
                  <a:pt x="9" y="950"/>
                </a:lnTo>
                <a:lnTo>
                  <a:pt x="5" y="945"/>
                </a:lnTo>
                <a:lnTo>
                  <a:pt x="2" y="940"/>
                </a:lnTo>
                <a:lnTo>
                  <a:pt x="2" y="938"/>
                </a:lnTo>
                <a:lnTo>
                  <a:pt x="0" y="93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Freeform 31"/>
          <p:cNvSpPr/>
          <p:nvPr/>
        </p:nvSpPr>
        <p:spPr>
          <a:xfrm>
            <a:off x="5715000" y="2282760"/>
            <a:ext cx="196920" cy="1846440"/>
          </a:xfrm>
          <a:custGeom>
            <a:avLst/>
            <a:gdLst/>
            <a:ahLst/>
            <a:rect l="l" t="t" r="r" b="b"/>
            <a:pathLst>
              <a:path w="312" h="2908">
                <a:moveTo>
                  <a:pt x="267" y="409"/>
                </a:moveTo>
                <a:lnTo>
                  <a:pt x="265" y="418"/>
                </a:lnTo>
                <a:lnTo>
                  <a:pt x="265" y="430"/>
                </a:lnTo>
                <a:lnTo>
                  <a:pt x="262" y="442"/>
                </a:lnTo>
                <a:lnTo>
                  <a:pt x="262" y="456"/>
                </a:lnTo>
                <a:lnTo>
                  <a:pt x="260" y="471"/>
                </a:lnTo>
                <a:lnTo>
                  <a:pt x="260" y="485"/>
                </a:lnTo>
                <a:lnTo>
                  <a:pt x="260" y="499"/>
                </a:lnTo>
                <a:lnTo>
                  <a:pt x="258" y="516"/>
                </a:lnTo>
                <a:lnTo>
                  <a:pt x="258" y="533"/>
                </a:lnTo>
                <a:lnTo>
                  <a:pt x="258" y="552"/>
                </a:lnTo>
                <a:lnTo>
                  <a:pt x="258" y="571"/>
                </a:lnTo>
                <a:lnTo>
                  <a:pt x="255" y="590"/>
                </a:lnTo>
                <a:lnTo>
                  <a:pt x="255" y="609"/>
                </a:lnTo>
                <a:lnTo>
                  <a:pt x="255" y="630"/>
                </a:lnTo>
                <a:lnTo>
                  <a:pt x="255" y="652"/>
                </a:lnTo>
                <a:lnTo>
                  <a:pt x="255" y="675"/>
                </a:lnTo>
                <a:lnTo>
                  <a:pt x="255" y="699"/>
                </a:lnTo>
                <a:lnTo>
                  <a:pt x="253" y="723"/>
                </a:lnTo>
                <a:lnTo>
                  <a:pt x="253" y="747"/>
                </a:lnTo>
                <a:lnTo>
                  <a:pt x="253" y="773"/>
                </a:lnTo>
                <a:lnTo>
                  <a:pt x="253" y="799"/>
                </a:lnTo>
                <a:lnTo>
                  <a:pt x="253" y="825"/>
                </a:lnTo>
                <a:lnTo>
                  <a:pt x="253" y="854"/>
                </a:lnTo>
                <a:lnTo>
                  <a:pt x="253" y="883"/>
                </a:lnTo>
                <a:lnTo>
                  <a:pt x="253" y="911"/>
                </a:lnTo>
                <a:lnTo>
                  <a:pt x="253" y="942"/>
                </a:lnTo>
                <a:lnTo>
                  <a:pt x="253" y="973"/>
                </a:lnTo>
                <a:lnTo>
                  <a:pt x="253" y="1004"/>
                </a:lnTo>
                <a:lnTo>
                  <a:pt x="253" y="1035"/>
                </a:lnTo>
                <a:lnTo>
                  <a:pt x="253" y="1068"/>
                </a:lnTo>
                <a:lnTo>
                  <a:pt x="253" y="1101"/>
                </a:lnTo>
                <a:lnTo>
                  <a:pt x="253" y="1137"/>
                </a:lnTo>
                <a:lnTo>
                  <a:pt x="253" y="1278"/>
                </a:lnTo>
                <a:lnTo>
                  <a:pt x="250" y="1418"/>
                </a:lnTo>
                <a:lnTo>
                  <a:pt x="248" y="1561"/>
                </a:lnTo>
                <a:lnTo>
                  <a:pt x="243" y="1704"/>
                </a:lnTo>
                <a:lnTo>
                  <a:pt x="241" y="1849"/>
                </a:lnTo>
                <a:lnTo>
                  <a:pt x="236" y="1994"/>
                </a:lnTo>
                <a:lnTo>
                  <a:pt x="231" y="2142"/>
                </a:lnTo>
                <a:lnTo>
                  <a:pt x="227" y="2291"/>
                </a:lnTo>
                <a:lnTo>
                  <a:pt x="224" y="2327"/>
                </a:lnTo>
                <a:lnTo>
                  <a:pt x="222" y="2363"/>
                </a:lnTo>
                <a:lnTo>
                  <a:pt x="222" y="2399"/>
                </a:lnTo>
                <a:lnTo>
                  <a:pt x="220" y="2432"/>
                </a:lnTo>
                <a:lnTo>
                  <a:pt x="220" y="2463"/>
                </a:lnTo>
                <a:lnTo>
                  <a:pt x="217" y="2494"/>
                </a:lnTo>
                <a:lnTo>
                  <a:pt x="215" y="2525"/>
                </a:lnTo>
                <a:lnTo>
                  <a:pt x="212" y="2553"/>
                </a:lnTo>
                <a:lnTo>
                  <a:pt x="212" y="2582"/>
                </a:lnTo>
                <a:lnTo>
                  <a:pt x="210" y="2608"/>
                </a:lnTo>
                <a:lnTo>
                  <a:pt x="208" y="2634"/>
                </a:lnTo>
                <a:lnTo>
                  <a:pt x="205" y="2658"/>
                </a:lnTo>
                <a:lnTo>
                  <a:pt x="205" y="2682"/>
                </a:lnTo>
                <a:lnTo>
                  <a:pt x="203" y="2703"/>
                </a:lnTo>
                <a:lnTo>
                  <a:pt x="200" y="2725"/>
                </a:lnTo>
                <a:lnTo>
                  <a:pt x="198" y="2744"/>
                </a:lnTo>
                <a:lnTo>
                  <a:pt x="196" y="2763"/>
                </a:lnTo>
                <a:lnTo>
                  <a:pt x="196" y="2779"/>
                </a:lnTo>
                <a:lnTo>
                  <a:pt x="193" y="2796"/>
                </a:lnTo>
                <a:lnTo>
                  <a:pt x="191" y="2813"/>
                </a:lnTo>
                <a:lnTo>
                  <a:pt x="189" y="2827"/>
                </a:lnTo>
                <a:lnTo>
                  <a:pt x="186" y="2839"/>
                </a:lnTo>
                <a:lnTo>
                  <a:pt x="186" y="2851"/>
                </a:lnTo>
                <a:lnTo>
                  <a:pt x="184" y="2863"/>
                </a:lnTo>
                <a:lnTo>
                  <a:pt x="181" y="2872"/>
                </a:lnTo>
                <a:lnTo>
                  <a:pt x="179" y="2879"/>
                </a:lnTo>
                <a:lnTo>
                  <a:pt x="179" y="2889"/>
                </a:lnTo>
                <a:lnTo>
                  <a:pt x="177" y="2894"/>
                </a:lnTo>
                <a:lnTo>
                  <a:pt x="177" y="2901"/>
                </a:lnTo>
                <a:lnTo>
                  <a:pt x="174" y="2903"/>
                </a:lnTo>
                <a:lnTo>
                  <a:pt x="172" y="2906"/>
                </a:lnTo>
                <a:lnTo>
                  <a:pt x="172" y="2908"/>
                </a:lnTo>
                <a:lnTo>
                  <a:pt x="167" y="2908"/>
                </a:lnTo>
                <a:lnTo>
                  <a:pt x="162" y="2906"/>
                </a:lnTo>
                <a:lnTo>
                  <a:pt x="155" y="2903"/>
                </a:lnTo>
                <a:lnTo>
                  <a:pt x="150" y="2901"/>
                </a:lnTo>
                <a:lnTo>
                  <a:pt x="146" y="2896"/>
                </a:lnTo>
                <a:lnTo>
                  <a:pt x="141" y="2889"/>
                </a:lnTo>
                <a:lnTo>
                  <a:pt x="134" y="2882"/>
                </a:lnTo>
                <a:lnTo>
                  <a:pt x="129" y="2875"/>
                </a:lnTo>
                <a:lnTo>
                  <a:pt x="122" y="2865"/>
                </a:lnTo>
                <a:lnTo>
                  <a:pt x="117" y="2853"/>
                </a:lnTo>
                <a:lnTo>
                  <a:pt x="110" y="2841"/>
                </a:lnTo>
                <a:lnTo>
                  <a:pt x="105" y="2827"/>
                </a:lnTo>
                <a:lnTo>
                  <a:pt x="98" y="2813"/>
                </a:lnTo>
                <a:lnTo>
                  <a:pt x="91" y="2796"/>
                </a:lnTo>
                <a:lnTo>
                  <a:pt x="84" y="2777"/>
                </a:lnTo>
                <a:lnTo>
                  <a:pt x="77" y="2758"/>
                </a:lnTo>
                <a:lnTo>
                  <a:pt x="69" y="2739"/>
                </a:lnTo>
                <a:lnTo>
                  <a:pt x="62" y="2722"/>
                </a:lnTo>
                <a:lnTo>
                  <a:pt x="55" y="2708"/>
                </a:lnTo>
                <a:lnTo>
                  <a:pt x="50" y="2694"/>
                </a:lnTo>
                <a:lnTo>
                  <a:pt x="43" y="2679"/>
                </a:lnTo>
                <a:lnTo>
                  <a:pt x="38" y="2665"/>
                </a:lnTo>
                <a:lnTo>
                  <a:pt x="34" y="2653"/>
                </a:lnTo>
                <a:lnTo>
                  <a:pt x="29" y="2641"/>
                </a:lnTo>
                <a:lnTo>
                  <a:pt x="24" y="2632"/>
                </a:lnTo>
                <a:lnTo>
                  <a:pt x="19" y="2622"/>
                </a:lnTo>
                <a:lnTo>
                  <a:pt x="17" y="2613"/>
                </a:lnTo>
                <a:lnTo>
                  <a:pt x="15" y="2606"/>
                </a:lnTo>
                <a:lnTo>
                  <a:pt x="12" y="2599"/>
                </a:lnTo>
                <a:lnTo>
                  <a:pt x="10" y="2591"/>
                </a:lnTo>
                <a:lnTo>
                  <a:pt x="10" y="2584"/>
                </a:lnTo>
                <a:lnTo>
                  <a:pt x="10" y="2579"/>
                </a:lnTo>
                <a:lnTo>
                  <a:pt x="10" y="2575"/>
                </a:lnTo>
                <a:lnTo>
                  <a:pt x="10" y="2572"/>
                </a:lnTo>
                <a:lnTo>
                  <a:pt x="10" y="2565"/>
                </a:lnTo>
                <a:lnTo>
                  <a:pt x="12" y="2558"/>
                </a:lnTo>
                <a:lnTo>
                  <a:pt x="12" y="2551"/>
                </a:lnTo>
                <a:lnTo>
                  <a:pt x="15" y="2541"/>
                </a:lnTo>
                <a:lnTo>
                  <a:pt x="17" y="2529"/>
                </a:lnTo>
                <a:lnTo>
                  <a:pt x="19" y="2520"/>
                </a:lnTo>
                <a:lnTo>
                  <a:pt x="22" y="2506"/>
                </a:lnTo>
                <a:lnTo>
                  <a:pt x="24" y="2491"/>
                </a:lnTo>
                <a:lnTo>
                  <a:pt x="29" y="2477"/>
                </a:lnTo>
                <a:lnTo>
                  <a:pt x="31" y="2460"/>
                </a:lnTo>
                <a:lnTo>
                  <a:pt x="36" y="2444"/>
                </a:lnTo>
                <a:lnTo>
                  <a:pt x="41" y="2427"/>
                </a:lnTo>
                <a:lnTo>
                  <a:pt x="46" y="2406"/>
                </a:lnTo>
                <a:lnTo>
                  <a:pt x="50" y="2387"/>
                </a:lnTo>
                <a:lnTo>
                  <a:pt x="55" y="2344"/>
                </a:lnTo>
                <a:lnTo>
                  <a:pt x="60" y="2301"/>
                </a:lnTo>
                <a:lnTo>
                  <a:pt x="65" y="2258"/>
                </a:lnTo>
                <a:lnTo>
                  <a:pt x="69" y="2211"/>
                </a:lnTo>
                <a:lnTo>
                  <a:pt x="74" y="2165"/>
                </a:lnTo>
                <a:lnTo>
                  <a:pt x="79" y="2115"/>
                </a:lnTo>
                <a:lnTo>
                  <a:pt x="86" y="2068"/>
                </a:lnTo>
                <a:lnTo>
                  <a:pt x="91" y="2015"/>
                </a:lnTo>
                <a:lnTo>
                  <a:pt x="93" y="1989"/>
                </a:lnTo>
                <a:lnTo>
                  <a:pt x="96" y="1961"/>
                </a:lnTo>
                <a:lnTo>
                  <a:pt x="96" y="1930"/>
                </a:lnTo>
                <a:lnTo>
                  <a:pt x="98" y="1896"/>
                </a:lnTo>
                <a:lnTo>
                  <a:pt x="100" y="1863"/>
                </a:lnTo>
                <a:lnTo>
                  <a:pt x="100" y="1827"/>
                </a:lnTo>
                <a:lnTo>
                  <a:pt x="103" y="1789"/>
                </a:lnTo>
                <a:lnTo>
                  <a:pt x="103" y="1749"/>
                </a:lnTo>
                <a:lnTo>
                  <a:pt x="105" y="1708"/>
                </a:lnTo>
                <a:lnTo>
                  <a:pt x="108" y="1666"/>
                </a:lnTo>
                <a:lnTo>
                  <a:pt x="108" y="1620"/>
                </a:lnTo>
                <a:lnTo>
                  <a:pt x="110" y="1573"/>
                </a:lnTo>
                <a:lnTo>
                  <a:pt x="110" y="1525"/>
                </a:lnTo>
                <a:lnTo>
                  <a:pt x="112" y="1475"/>
                </a:lnTo>
                <a:lnTo>
                  <a:pt x="115" y="1423"/>
                </a:lnTo>
                <a:lnTo>
                  <a:pt x="117" y="1370"/>
                </a:lnTo>
                <a:lnTo>
                  <a:pt x="117" y="1316"/>
                </a:lnTo>
                <a:lnTo>
                  <a:pt x="117" y="1263"/>
                </a:lnTo>
                <a:lnTo>
                  <a:pt x="117" y="1213"/>
                </a:lnTo>
                <a:lnTo>
                  <a:pt x="117" y="1161"/>
                </a:lnTo>
                <a:lnTo>
                  <a:pt x="117" y="1113"/>
                </a:lnTo>
                <a:lnTo>
                  <a:pt x="117" y="1063"/>
                </a:lnTo>
                <a:lnTo>
                  <a:pt x="117" y="1018"/>
                </a:lnTo>
                <a:lnTo>
                  <a:pt x="117" y="973"/>
                </a:lnTo>
                <a:lnTo>
                  <a:pt x="117" y="928"/>
                </a:lnTo>
                <a:lnTo>
                  <a:pt x="117" y="885"/>
                </a:lnTo>
                <a:lnTo>
                  <a:pt x="117" y="842"/>
                </a:lnTo>
                <a:lnTo>
                  <a:pt x="117" y="802"/>
                </a:lnTo>
                <a:lnTo>
                  <a:pt x="117" y="764"/>
                </a:lnTo>
                <a:lnTo>
                  <a:pt x="117" y="725"/>
                </a:lnTo>
                <a:lnTo>
                  <a:pt x="117" y="690"/>
                </a:lnTo>
                <a:lnTo>
                  <a:pt x="117" y="656"/>
                </a:lnTo>
                <a:lnTo>
                  <a:pt x="115" y="623"/>
                </a:lnTo>
                <a:lnTo>
                  <a:pt x="112" y="592"/>
                </a:lnTo>
                <a:lnTo>
                  <a:pt x="110" y="561"/>
                </a:lnTo>
                <a:lnTo>
                  <a:pt x="110" y="533"/>
                </a:lnTo>
                <a:lnTo>
                  <a:pt x="108" y="504"/>
                </a:lnTo>
                <a:lnTo>
                  <a:pt x="108" y="478"/>
                </a:lnTo>
                <a:lnTo>
                  <a:pt x="105" y="452"/>
                </a:lnTo>
                <a:lnTo>
                  <a:pt x="103" y="426"/>
                </a:lnTo>
                <a:lnTo>
                  <a:pt x="103" y="402"/>
                </a:lnTo>
                <a:lnTo>
                  <a:pt x="100" y="378"/>
                </a:lnTo>
                <a:lnTo>
                  <a:pt x="100" y="357"/>
                </a:lnTo>
                <a:lnTo>
                  <a:pt x="98" y="335"/>
                </a:lnTo>
                <a:lnTo>
                  <a:pt x="96" y="314"/>
                </a:lnTo>
                <a:lnTo>
                  <a:pt x="96" y="295"/>
                </a:lnTo>
                <a:lnTo>
                  <a:pt x="93" y="276"/>
                </a:lnTo>
                <a:lnTo>
                  <a:pt x="91" y="257"/>
                </a:lnTo>
                <a:lnTo>
                  <a:pt x="88" y="240"/>
                </a:lnTo>
                <a:lnTo>
                  <a:pt x="86" y="223"/>
                </a:lnTo>
                <a:lnTo>
                  <a:pt x="81" y="209"/>
                </a:lnTo>
                <a:lnTo>
                  <a:pt x="79" y="192"/>
                </a:lnTo>
                <a:lnTo>
                  <a:pt x="77" y="178"/>
                </a:lnTo>
                <a:lnTo>
                  <a:pt x="74" y="166"/>
                </a:lnTo>
                <a:lnTo>
                  <a:pt x="72" y="154"/>
                </a:lnTo>
                <a:lnTo>
                  <a:pt x="67" y="142"/>
                </a:lnTo>
                <a:lnTo>
                  <a:pt x="65" y="133"/>
                </a:lnTo>
                <a:lnTo>
                  <a:pt x="62" y="123"/>
                </a:lnTo>
                <a:lnTo>
                  <a:pt x="57" y="114"/>
                </a:lnTo>
                <a:lnTo>
                  <a:pt x="53" y="104"/>
                </a:lnTo>
                <a:lnTo>
                  <a:pt x="50" y="97"/>
                </a:lnTo>
                <a:lnTo>
                  <a:pt x="46" y="90"/>
                </a:lnTo>
                <a:lnTo>
                  <a:pt x="41" y="85"/>
                </a:lnTo>
                <a:lnTo>
                  <a:pt x="36" y="78"/>
                </a:lnTo>
                <a:lnTo>
                  <a:pt x="29" y="76"/>
                </a:lnTo>
                <a:lnTo>
                  <a:pt x="22" y="73"/>
                </a:lnTo>
                <a:lnTo>
                  <a:pt x="17" y="71"/>
                </a:lnTo>
                <a:lnTo>
                  <a:pt x="12" y="66"/>
                </a:lnTo>
                <a:lnTo>
                  <a:pt x="10" y="61"/>
                </a:lnTo>
                <a:lnTo>
                  <a:pt x="5" y="59"/>
                </a:lnTo>
                <a:lnTo>
                  <a:pt x="3" y="54"/>
                </a:lnTo>
                <a:lnTo>
                  <a:pt x="3" y="50"/>
                </a:lnTo>
                <a:lnTo>
                  <a:pt x="0" y="45"/>
                </a:lnTo>
                <a:lnTo>
                  <a:pt x="0" y="40"/>
                </a:lnTo>
                <a:lnTo>
                  <a:pt x="3" y="30"/>
                </a:lnTo>
                <a:lnTo>
                  <a:pt x="5" y="21"/>
                </a:lnTo>
                <a:lnTo>
                  <a:pt x="10" y="11"/>
                </a:lnTo>
                <a:lnTo>
                  <a:pt x="12" y="9"/>
                </a:lnTo>
                <a:lnTo>
                  <a:pt x="17" y="7"/>
                </a:lnTo>
                <a:lnTo>
                  <a:pt x="22" y="4"/>
                </a:lnTo>
                <a:lnTo>
                  <a:pt x="26" y="2"/>
                </a:lnTo>
                <a:lnTo>
                  <a:pt x="34" y="2"/>
                </a:lnTo>
                <a:lnTo>
                  <a:pt x="41" y="0"/>
                </a:lnTo>
                <a:lnTo>
                  <a:pt x="48" y="0"/>
                </a:lnTo>
                <a:lnTo>
                  <a:pt x="55" y="0"/>
                </a:lnTo>
                <a:lnTo>
                  <a:pt x="65" y="0"/>
                </a:lnTo>
                <a:lnTo>
                  <a:pt x="74" y="0"/>
                </a:lnTo>
                <a:lnTo>
                  <a:pt x="96" y="2"/>
                </a:lnTo>
                <a:lnTo>
                  <a:pt x="119" y="7"/>
                </a:lnTo>
                <a:lnTo>
                  <a:pt x="143" y="11"/>
                </a:lnTo>
                <a:lnTo>
                  <a:pt x="169" y="21"/>
                </a:lnTo>
                <a:lnTo>
                  <a:pt x="193" y="30"/>
                </a:lnTo>
                <a:lnTo>
                  <a:pt x="215" y="42"/>
                </a:lnTo>
                <a:lnTo>
                  <a:pt x="234" y="52"/>
                </a:lnTo>
                <a:lnTo>
                  <a:pt x="253" y="61"/>
                </a:lnTo>
                <a:lnTo>
                  <a:pt x="267" y="73"/>
                </a:lnTo>
                <a:lnTo>
                  <a:pt x="274" y="78"/>
                </a:lnTo>
                <a:lnTo>
                  <a:pt x="281" y="83"/>
                </a:lnTo>
                <a:lnTo>
                  <a:pt x="289" y="88"/>
                </a:lnTo>
                <a:lnTo>
                  <a:pt x="293" y="92"/>
                </a:lnTo>
                <a:lnTo>
                  <a:pt x="298" y="104"/>
                </a:lnTo>
                <a:lnTo>
                  <a:pt x="303" y="114"/>
                </a:lnTo>
                <a:lnTo>
                  <a:pt x="308" y="123"/>
                </a:lnTo>
                <a:lnTo>
                  <a:pt x="310" y="135"/>
                </a:lnTo>
                <a:lnTo>
                  <a:pt x="312" y="145"/>
                </a:lnTo>
                <a:lnTo>
                  <a:pt x="312" y="154"/>
                </a:lnTo>
                <a:lnTo>
                  <a:pt x="310" y="164"/>
                </a:lnTo>
                <a:lnTo>
                  <a:pt x="310" y="171"/>
                </a:lnTo>
                <a:lnTo>
                  <a:pt x="308" y="176"/>
                </a:lnTo>
                <a:lnTo>
                  <a:pt x="305" y="183"/>
                </a:lnTo>
                <a:lnTo>
                  <a:pt x="301" y="192"/>
                </a:lnTo>
                <a:lnTo>
                  <a:pt x="298" y="202"/>
                </a:lnTo>
                <a:lnTo>
                  <a:pt x="296" y="211"/>
                </a:lnTo>
                <a:lnTo>
                  <a:pt x="293" y="223"/>
                </a:lnTo>
                <a:lnTo>
                  <a:pt x="291" y="235"/>
                </a:lnTo>
                <a:lnTo>
                  <a:pt x="289" y="247"/>
                </a:lnTo>
                <a:lnTo>
                  <a:pt x="286" y="261"/>
                </a:lnTo>
                <a:lnTo>
                  <a:pt x="284" y="276"/>
                </a:lnTo>
                <a:lnTo>
                  <a:pt x="281" y="292"/>
                </a:lnTo>
                <a:lnTo>
                  <a:pt x="279" y="309"/>
                </a:lnTo>
                <a:lnTo>
                  <a:pt x="277" y="326"/>
                </a:lnTo>
                <a:lnTo>
                  <a:pt x="274" y="345"/>
                </a:lnTo>
                <a:lnTo>
                  <a:pt x="272" y="366"/>
                </a:lnTo>
                <a:lnTo>
                  <a:pt x="270" y="385"/>
                </a:lnTo>
                <a:lnTo>
                  <a:pt x="267" y="40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7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86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6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1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6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1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2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37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1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792" name="圆角矩形 2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fcee4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93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4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写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95" name="Freeform 37"/>
          <p:cNvSpPr/>
          <p:nvPr/>
        </p:nvSpPr>
        <p:spPr>
          <a:xfrm>
            <a:off x="5891040" y="2214720"/>
            <a:ext cx="489240" cy="595080"/>
          </a:xfrm>
          <a:custGeom>
            <a:avLst/>
            <a:gdLst/>
            <a:ahLst/>
            <a:rect l="l" t="t" r="r" b="b"/>
            <a:pathLst>
              <a:path w="772" h="938">
                <a:moveTo>
                  <a:pt x="450" y="600"/>
                </a:moveTo>
                <a:lnTo>
                  <a:pt x="431" y="621"/>
                </a:lnTo>
                <a:lnTo>
                  <a:pt x="410" y="643"/>
                </a:lnTo>
                <a:lnTo>
                  <a:pt x="391" y="662"/>
                </a:lnTo>
                <a:lnTo>
                  <a:pt x="372" y="681"/>
                </a:lnTo>
                <a:lnTo>
                  <a:pt x="353" y="698"/>
                </a:lnTo>
                <a:lnTo>
                  <a:pt x="334" y="717"/>
                </a:lnTo>
                <a:lnTo>
                  <a:pt x="315" y="733"/>
                </a:lnTo>
                <a:lnTo>
                  <a:pt x="296" y="748"/>
                </a:lnTo>
                <a:lnTo>
                  <a:pt x="279" y="764"/>
                </a:lnTo>
                <a:lnTo>
                  <a:pt x="260" y="779"/>
                </a:lnTo>
                <a:lnTo>
                  <a:pt x="226" y="807"/>
                </a:lnTo>
                <a:lnTo>
                  <a:pt x="193" y="833"/>
                </a:lnTo>
                <a:lnTo>
                  <a:pt x="160" y="859"/>
                </a:lnTo>
                <a:lnTo>
                  <a:pt x="145" y="869"/>
                </a:lnTo>
                <a:lnTo>
                  <a:pt x="131" y="881"/>
                </a:lnTo>
                <a:lnTo>
                  <a:pt x="117" y="890"/>
                </a:lnTo>
                <a:lnTo>
                  <a:pt x="103" y="900"/>
                </a:lnTo>
                <a:lnTo>
                  <a:pt x="88" y="907"/>
                </a:lnTo>
                <a:lnTo>
                  <a:pt x="76" y="914"/>
                </a:lnTo>
                <a:lnTo>
                  <a:pt x="64" y="921"/>
                </a:lnTo>
                <a:lnTo>
                  <a:pt x="55" y="926"/>
                </a:lnTo>
                <a:lnTo>
                  <a:pt x="45" y="931"/>
                </a:lnTo>
                <a:lnTo>
                  <a:pt x="36" y="933"/>
                </a:lnTo>
                <a:lnTo>
                  <a:pt x="29" y="938"/>
                </a:lnTo>
                <a:lnTo>
                  <a:pt x="21" y="938"/>
                </a:lnTo>
                <a:lnTo>
                  <a:pt x="14" y="938"/>
                </a:lnTo>
                <a:lnTo>
                  <a:pt x="10" y="938"/>
                </a:lnTo>
                <a:lnTo>
                  <a:pt x="7" y="938"/>
                </a:lnTo>
                <a:lnTo>
                  <a:pt x="2" y="936"/>
                </a:lnTo>
                <a:lnTo>
                  <a:pt x="2" y="933"/>
                </a:lnTo>
                <a:lnTo>
                  <a:pt x="0" y="931"/>
                </a:lnTo>
                <a:lnTo>
                  <a:pt x="0" y="926"/>
                </a:lnTo>
                <a:lnTo>
                  <a:pt x="2" y="921"/>
                </a:lnTo>
                <a:lnTo>
                  <a:pt x="2" y="917"/>
                </a:lnTo>
                <a:lnTo>
                  <a:pt x="7" y="909"/>
                </a:lnTo>
                <a:lnTo>
                  <a:pt x="10" y="902"/>
                </a:lnTo>
                <a:lnTo>
                  <a:pt x="17" y="895"/>
                </a:lnTo>
                <a:lnTo>
                  <a:pt x="21" y="886"/>
                </a:lnTo>
                <a:lnTo>
                  <a:pt x="29" y="876"/>
                </a:lnTo>
                <a:lnTo>
                  <a:pt x="38" y="864"/>
                </a:lnTo>
                <a:lnTo>
                  <a:pt x="48" y="852"/>
                </a:lnTo>
                <a:lnTo>
                  <a:pt x="60" y="840"/>
                </a:lnTo>
                <a:lnTo>
                  <a:pt x="72" y="826"/>
                </a:lnTo>
                <a:lnTo>
                  <a:pt x="86" y="809"/>
                </a:lnTo>
                <a:lnTo>
                  <a:pt x="100" y="793"/>
                </a:lnTo>
                <a:lnTo>
                  <a:pt x="131" y="760"/>
                </a:lnTo>
                <a:lnTo>
                  <a:pt x="162" y="724"/>
                </a:lnTo>
                <a:lnTo>
                  <a:pt x="195" y="686"/>
                </a:lnTo>
                <a:lnTo>
                  <a:pt x="226" y="648"/>
                </a:lnTo>
                <a:lnTo>
                  <a:pt x="260" y="605"/>
                </a:lnTo>
                <a:lnTo>
                  <a:pt x="291" y="564"/>
                </a:lnTo>
                <a:lnTo>
                  <a:pt x="307" y="541"/>
                </a:lnTo>
                <a:lnTo>
                  <a:pt x="322" y="519"/>
                </a:lnTo>
                <a:lnTo>
                  <a:pt x="338" y="495"/>
                </a:lnTo>
                <a:lnTo>
                  <a:pt x="353" y="472"/>
                </a:lnTo>
                <a:lnTo>
                  <a:pt x="369" y="448"/>
                </a:lnTo>
                <a:lnTo>
                  <a:pt x="384" y="424"/>
                </a:lnTo>
                <a:lnTo>
                  <a:pt x="398" y="403"/>
                </a:lnTo>
                <a:lnTo>
                  <a:pt x="412" y="381"/>
                </a:lnTo>
                <a:lnTo>
                  <a:pt x="424" y="360"/>
                </a:lnTo>
                <a:lnTo>
                  <a:pt x="438" y="341"/>
                </a:lnTo>
                <a:lnTo>
                  <a:pt x="450" y="322"/>
                </a:lnTo>
                <a:lnTo>
                  <a:pt x="460" y="305"/>
                </a:lnTo>
                <a:lnTo>
                  <a:pt x="472" y="286"/>
                </a:lnTo>
                <a:lnTo>
                  <a:pt x="481" y="272"/>
                </a:lnTo>
                <a:lnTo>
                  <a:pt x="491" y="255"/>
                </a:lnTo>
                <a:lnTo>
                  <a:pt x="498" y="241"/>
                </a:lnTo>
                <a:lnTo>
                  <a:pt x="505" y="226"/>
                </a:lnTo>
                <a:lnTo>
                  <a:pt x="512" y="212"/>
                </a:lnTo>
                <a:lnTo>
                  <a:pt x="517" y="198"/>
                </a:lnTo>
                <a:lnTo>
                  <a:pt x="524" y="186"/>
                </a:lnTo>
                <a:lnTo>
                  <a:pt x="531" y="167"/>
                </a:lnTo>
                <a:lnTo>
                  <a:pt x="536" y="150"/>
                </a:lnTo>
                <a:lnTo>
                  <a:pt x="541" y="134"/>
                </a:lnTo>
                <a:lnTo>
                  <a:pt x="543" y="119"/>
                </a:lnTo>
                <a:lnTo>
                  <a:pt x="543" y="107"/>
                </a:lnTo>
                <a:lnTo>
                  <a:pt x="541" y="98"/>
                </a:lnTo>
                <a:lnTo>
                  <a:pt x="539" y="88"/>
                </a:lnTo>
                <a:lnTo>
                  <a:pt x="536" y="86"/>
                </a:lnTo>
                <a:lnTo>
                  <a:pt x="536" y="84"/>
                </a:lnTo>
                <a:lnTo>
                  <a:pt x="527" y="79"/>
                </a:lnTo>
                <a:lnTo>
                  <a:pt x="519" y="74"/>
                </a:lnTo>
                <a:lnTo>
                  <a:pt x="515" y="67"/>
                </a:lnTo>
                <a:lnTo>
                  <a:pt x="510" y="62"/>
                </a:lnTo>
                <a:lnTo>
                  <a:pt x="508" y="55"/>
                </a:lnTo>
                <a:lnTo>
                  <a:pt x="505" y="48"/>
                </a:lnTo>
                <a:lnTo>
                  <a:pt x="508" y="41"/>
                </a:lnTo>
                <a:lnTo>
                  <a:pt x="510" y="31"/>
                </a:lnTo>
                <a:lnTo>
                  <a:pt x="517" y="22"/>
                </a:lnTo>
                <a:lnTo>
                  <a:pt x="522" y="15"/>
                </a:lnTo>
                <a:lnTo>
                  <a:pt x="531" y="7"/>
                </a:lnTo>
                <a:lnTo>
                  <a:pt x="541" y="3"/>
                </a:lnTo>
                <a:lnTo>
                  <a:pt x="548" y="3"/>
                </a:lnTo>
                <a:lnTo>
                  <a:pt x="553" y="0"/>
                </a:lnTo>
                <a:lnTo>
                  <a:pt x="560" y="0"/>
                </a:lnTo>
                <a:lnTo>
                  <a:pt x="570" y="0"/>
                </a:lnTo>
                <a:lnTo>
                  <a:pt x="577" y="0"/>
                </a:lnTo>
                <a:lnTo>
                  <a:pt x="586" y="3"/>
                </a:lnTo>
                <a:lnTo>
                  <a:pt x="596" y="3"/>
                </a:lnTo>
                <a:lnTo>
                  <a:pt x="608" y="5"/>
                </a:lnTo>
                <a:lnTo>
                  <a:pt x="629" y="12"/>
                </a:lnTo>
                <a:lnTo>
                  <a:pt x="651" y="17"/>
                </a:lnTo>
                <a:lnTo>
                  <a:pt x="670" y="24"/>
                </a:lnTo>
                <a:lnTo>
                  <a:pt x="689" y="34"/>
                </a:lnTo>
                <a:lnTo>
                  <a:pt x="708" y="41"/>
                </a:lnTo>
                <a:lnTo>
                  <a:pt x="724" y="50"/>
                </a:lnTo>
                <a:lnTo>
                  <a:pt x="739" y="60"/>
                </a:lnTo>
                <a:lnTo>
                  <a:pt x="753" y="69"/>
                </a:lnTo>
                <a:lnTo>
                  <a:pt x="758" y="79"/>
                </a:lnTo>
                <a:lnTo>
                  <a:pt x="765" y="86"/>
                </a:lnTo>
                <a:lnTo>
                  <a:pt x="767" y="95"/>
                </a:lnTo>
                <a:lnTo>
                  <a:pt x="770" y="105"/>
                </a:lnTo>
                <a:lnTo>
                  <a:pt x="772" y="115"/>
                </a:lnTo>
                <a:lnTo>
                  <a:pt x="772" y="124"/>
                </a:lnTo>
                <a:lnTo>
                  <a:pt x="772" y="136"/>
                </a:lnTo>
                <a:lnTo>
                  <a:pt x="770" y="148"/>
                </a:lnTo>
                <a:lnTo>
                  <a:pt x="767" y="160"/>
                </a:lnTo>
                <a:lnTo>
                  <a:pt x="763" y="174"/>
                </a:lnTo>
                <a:lnTo>
                  <a:pt x="758" y="186"/>
                </a:lnTo>
                <a:lnTo>
                  <a:pt x="753" y="200"/>
                </a:lnTo>
                <a:lnTo>
                  <a:pt x="746" y="214"/>
                </a:lnTo>
                <a:lnTo>
                  <a:pt x="736" y="231"/>
                </a:lnTo>
                <a:lnTo>
                  <a:pt x="727" y="248"/>
                </a:lnTo>
                <a:lnTo>
                  <a:pt x="717" y="264"/>
                </a:lnTo>
                <a:lnTo>
                  <a:pt x="705" y="284"/>
                </a:lnTo>
                <a:lnTo>
                  <a:pt x="693" y="303"/>
                </a:lnTo>
                <a:lnTo>
                  <a:pt x="679" y="324"/>
                </a:lnTo>
                <a:lnTo>
                  <a:pt x="665" y="343"/>
                </a:lnTo>
                <a:lnTo>
                  <a:pt x="651" y="364"/>
                </a:lnTo>
                <a:lnTo>
                  <a:pt x="634" y="386"/>
                </a:lnTo>
                <a:lnTo>
                  <a:pt x="620" y="405"/>
                </a:lnTo>
                <a:lnTo>
                  <a:pt x="601" y="426"/>
                </a:lnTo>
                <a:lnTo>
                  <a:pt x="567" y="469"/>
                </a:lnTo>
                <a:lnTo>
                  <a:pt x="529" y="512"/>
                </a:lnTo>
                <a:lnTo>
                  <a:pt x="491" y="557"/>
                </a:lnTo>
                <a:lnTo>
                  <a:pt x="450" y="60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危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TextBox 7"/>
          <p:cNvSpPr/>
          <p:nvPr/>
        </p:nvSpPr>
        <p:spPr>
          <a:xfrm>
            <a:off x="1384200" y="2027160"/>
            <a:ext cx="95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wēi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8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799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0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1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2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3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4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5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6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7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8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09" name="TextBox 19"/>
          <p:cNvSpPr/>
          <p:nvPr/>
        </p:nvSpPr>
        <p:spPr>
          <a:xfrm>
            <a:off x="4619520" y="4857840"/>
            <a:ext cx="42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右下角的横折钩要小，竖弯钩的弯要大些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TextBox 20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TextBox 21"/>
          <p:cNvSpPr/>
          <p:nvPr/>
        </p:nvSpPr>
        <p:spPr>
          <a:xfrm>
            <a:off x="8985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危险  危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TextBox 22"/>
          <p:cNvSpPr/>
          <p:nvPr/>
        </p:nvSpPr>
        <p:spPr>
          <a:xfrm>
            <a:off x="857160" y="4943520"/>
            <a:ext cx="364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这座危楼已经不能住人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  <a:ea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半包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Rectangle 34"/>
          <p:cNvSpPr/>
          <p:nvPr/>
        </p:nvSpPr>
        <p:spPr>
          <a:xfrm>
            <a:off x="5414760" y="222552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Freeform 38"/>
          <p:cNvSpPr/>
          <p:nvPr/>
        </p:nvSpPr>
        <p:spPr>
          <a:xfrm>
            <a:off x="6183360" y="2394000"/>
            <a:ext cx="592200" cy="495360"/>
          </a:xfrm>
          <a:custGeom>
            <a:avLst/>
            <a:gdLst/>
            <a:ahLst/>
            <a:rect l="l" t="t" r="r" b="b"/>
            <a:pathLst>
              <a:path w="932" h="780">
                <a:moveTo>
                  <a:pt x="267" y="780"/>
                </a:moveTo>
                <a:lnTo>
                  <a:pt x="134" y="780"/>
                </a:lnTo>
                <a:lnTo>
                  <a:pt x="160" y="747"/>
                </a:lnTo>
                <a:lnTo>
                  <a:pt x="184" y="716"/>
                </a:lnTo>
                <a:lnTo>
                  <a:pt x="208" y="683"/>
                </a:lnTo>
                <a:lnTo>
                  <a:pt x="229" y="652"/>
                </a:lnTo>
                <a:lnTo>
                  <a:pt x="253" y="623"/>
                </a:lnTo>
                <a:lnTo>
                  <a:pt x="274" y="595"/>
                </a:lnTo>
                <a:lnTo>
                  <a:pt x="293" y="566"/>
                </a:lnTo>
                <a:lnTo>
                  <a:pt x="312" y="540"/>
                </a:lnTo>
                <a:lnTo>
                  <a:pt x="332" y="516"/>
                </a:lnTo>
                <a:lnTo>
                  <a:pt x="351" y="490"/>
                </a:lnTo>
                <a:lnTo>
                  <a:pt x="367" y="466"/>
                </a:lnTo>
                <a:lnTo>
                  <a:pt x="384" y="445"/>
                </a:lnTo>
                <a:lnTo>
                  <a:pt x="398" y="423"/>
                </a:lnTo>
                <a:lnTo>
                  <a:pt x="415" y="402"/>
                </a:lnTo>
                <a:lnTo>
                  <a:pt x="427" y="383"/>
                </a:lnTo>
                <a:lnTo>
                  <a:pt x="441" y="366"/>
                </a:lnTo>
                <a:lnTo>
                  <a:pt x="453" y="347"/>
                </a:lnTo>
                <a:lnTo>
                  <a:pt x="465" y="330"/>
                </a:lnTo>
                <a:lnTo>
                  <a:pt x="474" y="316"/>
                </a:lnTo>
                <a:lnTo>
                  <a:pt x="484" y="302"/>
                </a:lnTo>
                <a:lnTo>
                  <a:pt x="494" y="290"/>
                </a:lnTo>
                <a:lnTo>
                  <a:pt x="501" y="278"/>
                </a:lnTo>
                <a:lnTo>
                  <a:pt x="508" y="266"/>
                </a:lnTo>
                <a:lnTo>
                  <a:pt x="515" y="257"/>
                </a:lnTo>
                <a:lnTo>
                  <a:pt x="520" y="247"/>
                </a:lnTo>
                <a:lnTo>
                  <a:pt x="525" y="238"/>
                </a:lnTo>
                <a:lnTo>
                  <a:pt x="527" y="233"/>
                </a:lnTo>
                <a:lnTo>
                  <a:pt x="529" y="226"/>
                </a:lnTo>
                <a:lnTo>
                  <a:pt x="532" y="221"/>
                </a:lnTo>
                <a:lnTo>
                  <a:pt x="534" y="216"/>
                </a:lnTo>
                <a:lnTo>
                  <a:pt x="534" y="214"/>
                </a:lnTo>
                <a:lnTo>
                  <a:pt x="532" y="214"/>
                </a:lnTo>
                <a:lnTo>
                  <a:pt x="529" y="211"/>
                </a:lnTo>
                <a:lnTo>
                  <a:pt x="527" y="209"/>
                </a:lnTo>
                <a:lnTo>
                  <a:pt x="522" y="209"/>
                </a:lnTo>
                <a:lnTo>
                  <a:pt x="517" y="207"/>
                </a:lnTo>
                <a:lnTo>
                  <a:pt x="510" y="207"/>
                </a:lnTo>
                <a:lnTo>
                  <a:pt x="503" y="207"/>
                </a:lnTo>
                <a:lnTo>
                  <a:pt x="496" y="209"/>
                </a:lnTo>
                <a:lnTo>
                  <a:pt x="486" y="209"/>
                </a:lnTo>
                <a:lnTo>
                  <a:pt x="477" y="211"/>
                </a:lnTo>
                <a:lnTo>
                  <a:pt x="465" y="211"/>
                </a:lnTo>
                <a:lnTo>
                  <a:pt x="453" y="214"/>
                </a:lnTo>
                <a:lnTo>
                  <a:pt x="439" y="216"/>
                </a:lnTo>
                <a:lnTo>
                  <a:pt x="424" y="218"/>
                </a:lnTo>
                <a:lnTo>
                  <a:pt x="410" y="221"/>
                </a:lnTo>
                <a:lnTo>
                  <a:pt x="393" y="223"/>
                </a:lnTo>
                <a:lnTo>
                  <a:pt x="374" y="226"/>
                </a:lnTo>
                <a:lnTo>
                  <a:pt x="358" y="228"/>
                </a:lnTo>
                <a:lnTo>
                  <a:pt x="339" y="230"/>
                </a:lnTo>
                <a:lnTo>
                  <a:pt x="320" y="233"/>
                </a:lnTo>
                <a:lnTo>
                  <a:pt x="298" y="235"/>
                </a:lnTo>
                <a:lnTo>
                  <a:pt x="277" y="238"/>
                </a:lnTo>
                <a:lnTo>
                  <a:pt x="255" y="240"/>
                </a:lnTo>
                <a:lnTo>
                  <a:pt x="234" y="240"/>
                </a:lnTo>
                <a:lnTo>
                  <a:pt x="210" y="242"/>
                </a:lnTo>
                <a:lnTo>
                  <a:pt x="186" y="242"/>
                </a:lnTo>
                <a:lnTo>
                  <a:pt x="162" y="245"/>
                </a:lnTo>
                <a:lnTo>
                  <a:pt x="139" y="245"/>
                </a:lnTo>
                <a:lnTo>
                  <a:pt x="112" y="245"/>
                </a:lnTo>
                <a:lnTo>
                  <a:pt x="86" y="242"/>
                </a:lnTo>
                <a:lnTo>
                  <a:pt x="57" y="242"/>
                </a:lnTo>
                <a:lnTo>
                  <a:pt x="29" y="240"/>
                </a:lnTo>
                <a:lnTo>
                  <a:pt x="0" y="238"/>
                </a:lnTo>
                <a:lnTo>
                  <a:pt x="0" y="161"/>
                </a:lnTo>
                <a:lnTo>
                  <a:pt x="43" y="161"/>
                </a:lnTo>
                <a:lnTo>
                  <a:pt x="84" y="159"/>
                </a:lnTo>
                <a:lnTo>
                  <a:pt x="129" y="154"/>
                </a:lnTo>
                <a:lnTo>
                  <a:pt x="174" y="149"/>
                </a:lnTo>
                <a:lnTo>
                  <a:pt x="222" y="142"/>
                </a:lnTo>
                <a:lnTo>
                  <a:pt x="272" y="133"/>
                </a:lnTo>
                <a:lnTo>
                  <a:pt x="322" y="123"/>
                </a:lnTo>
                <a:lnTo>
                  <a:pt x="348" y="116"/>
                </a:lnTo>
                <a:lnTo>
                  <a:pt x="374" y="109"/>
                </a:lnTo>
                <a:lnTo>
                  <a:pt x="401" y="104"/>
                </a:lnTo>
                <a:lnTo>
                  <a:pt x="422" y="99"/>
                </a:lnTo>
                <a:lnTo>
                  <a:pt x="446" y="95"/>
                </a:lnTo>
                <a:lnTo>
                  <a:pt x="467" y="90"/>
                </a:lnTo>
                <a:lnTo>
                  <a:pt x="486" y="85"/>
                </a:lnTo>
                <a:lnTo>
                  <a:pt x="505" y="80"/>
                </a:lnTo>
                <a:lnTo>
                  <a:pt x="522" y="76"/>
                </a:lnTo>
                <a:lnTo>
                  <a:pt x="539" y="71"/>
                </a:lnTo>
                <a:lnTo>
                  <a:pt x="553" y="66"/>
                </a:lnTo>
                <a:lnTo>
                  <a:pt x="567" y="61"/>
                </a:lnTo>
                <a:lnTo>
                  <a:pt x="582" y="57"/>
                </a:lnTo>
                <a:lnTo>
                  <a:pt x="594" y="52"/>
                </a:lnTo>
                <a:lnTo>
                  <a:pt x="603" y="47"/>
                </a:lnTo>
                <a:lnTo>
                  <a:pt x="613" y="42"/>
                </a:lnTo>
                <a:lnTo>
                  <a:pt x="622" y="38"/>
                </a:lnTo>
                <a:lnTo>
                  <a:pt x="629" y="33"/>
                </a:lnTo>
                <a:lnTo>
                  <a:pt x="641" y="23"/>
                </a:lnTo>
                <a:lnTo>
                  <a:pt x="656" y="14"/>
                </a:lnTo>
                <a:lnTo>
                  <a:pt x="665" y="9"/>
                </a:lnTo>
                <a:lnTo>
                  <a:pt x="677" y="4"/>
                </a:lnTo>
                <a:lnTo>
                  <a:pt x="689" y="2"/>
                </a:lnTo>
                <a:lnTo>
                  <a:pt x="701" y="0"/>
                </a:lnTo>
                <a:lnTo>
                  <a:pt x="713" y="2"/>
                </a:lnTo>
                <a:lnTo>
                  <a:pt x="720" y="4"/>
                </a:lnTo>
                <a:lnTo>
                  <a:pt x="727" y="7"/>
                </a:lnTo>
                <a:lnTo>
                  <a:pt x="739" y="11"/>
                </a:lnTo>
                <a:lnTo>
                  <a:pt x="753" y="19"/>
                </a:lnTo>
                <a:lnTo>
                  <a:pt x="768" y="26"/>
                </a:lnTo>
                <a:lnTo>
                  <a:pt x="784" y="35"/>
                </a:lnTo>
                <a:lnTo>
                  <a:pt x="801" y="45"/>
                </a:lnTo>
                <a:lnTo>
                  <a:pt x="818" y="57"/>
                </a:lnTo>
                <a:lnTo>
                  <a:pt x="837" y="69"/>
                </a:lnTo>
                <a:lnTo>
                  <a:pt x="858" y="83"/>
                </a:lnTo>
                <a:lnTo>
                  <a:pt x="875" y="97"/>
                </a:lnTo>
                <a:lnTo>
                  <a:pt x="891" y="111"/>
                </a:lnTo>
                <a:lnTo>
                  <a:pt x="903" y="121"/>
                </a:lnTo>
                <a:lnTo>
                  <a:pt x="913" y="133"/>
                </a:lnTo>
                <a:lnTo>
                  <a:pt x="922" y="140"/>
                </a:lnTo>
                <a:lnTo>
                  <a:pt x="927" y="149"/>
                </a:lnTo>
                <a:lnTo>
                  <a:pt x="930" y="154"/>
                </a:lnTo>
                <a:lnTo>
                  <a:pt x="932" y="161"/>
                </a:lnTo>
                <a:lnTo>
                  <a:pt x="932" y="164"/>
                </a:lnTo>
                <a:lnTo>
                  <a:pt x="930" y="166"/>
                </a:lnTo>
                <a:lnTo>
                  <a:pt x="927" y="168"/>
                </a:lnTo>
                <a:lnTo>
                  <a:pt x="925" y="173"/>
                </a:lnTo>
                <a:lnTo>
                  <a:pt x="920" y="176"/>
                </a:lnTo>
                <a:lnTo>
                  <a:pt x="915" y="180"/>
                </a:lnTo>
                <a:lnTo>
                  <a:pt x="911" y="185"/>
                </a:lnTo>
                <a:lnTo>
                  <a:pt x="903" y="190"/>
                </a:lnTo>
                <a:lnTo>
                  <a:pt x="894" y="195"/>
                </a:lnTo>
                <a:lnTo>
                  <a:pt x="887" y="199"/>
                </a:lnTo>
                <a:lnTo>
                  <a:pt x="877" y="207"/>
                </a:lnTo>
                <a:lnTo>
                  <a:pt x="865" y="211"/>
                </a:lnTo>
                <a:lnTo>
                  <a:pt x="853" y="218"/>
                </a:lnTo>
                <a:lnTo>
                  <a:pt x="839" y="223"/>
                </a:lnTo>
                <a:lnTo>
                  <a:pt x="827" y="230"/>
                </a:lnTo>
                <a:lnTo>
                  <a:pt x="810" y="238"/>
                </a:lnTo>
                <a:lnTo>
                  <a:pt x="803" y="242"/>
                </a:lnTo>
                <a:lnTo>
                  <a:pt x="794" y="247"/>
                </a:lnTo>
                <a:lnTo>
                  <a:pt x="784" y="254"/>
                </a:lnTo>
                <a:lnTo>
                  <a:pt x="775" y="259"/>
                </a:lnTo>
                <a:lnTo>
                  <a:pt x="763" y="266"/>
                </a:lnTo>
                <a:lnTo>
                  <a:pt x="753" y="276"/>
                </a:lnTo>
                <a:lnTo>
                  <a:pt x="741" y="285"/>
                </a:lnTo>
                <a:lnTo>
                  <a:pt x="729" y="295"/>
                </a:lnTo>
                <a:lnTo>
                  <a:pt x="715" y="304"/>
                </a:lnTo>
                <a:lnTo>
                  <a:pt x="703" y="316"/>
                </a:lnTo>
                <a:lnTo>
                  <a:pt x="689" y="328"/>
                </a:lnTo>
                <a:lnTo>
                  <a:pt x="675" y="342"/>
                </a:lnTo>
                <a:lnTo>
                  <a:pt x="658" y="357"/>
                </a:lnTo>
                <a:lnTo>
                  <a:pt x="644" y="371"/>
                </a:lnTo>
                <a:lnTo>
                  <a:pt x="627" y="385"/>
                </a:lnTo>
                <a:lnTo>
                  <a:pt x="610" y="402"/>
                </a:lnTo>
                <a:lnTo>
                  <a:pt x="594" y="421"/>
                </a:lnTo>
                <a:lnTo>
                  <a:pt x="575" y="437"/>
                </a:lnTo>
                <a:lnTo>
                  <a:pt x="556" y="456"/>
                </a:lnTo>
                <a:lnTo>
                  <a:pt x="536" y="476"/>
                </a:lnTo>
                <a:lnTo>
                  <a:pt x="517" y="497"/>
                </a:lnTo>
                <a:lnTo>
                  <a:pt x="498" y="518"/>
                </a:lnTo>
                <a:lnTo>
                  <a:pt x="477" y="542"/>
                </a:lnTo>
                <a:lnTo>
                  <a:pt x="455" y="564"/>
                </a:lnTo>
                <a:lnTo>
                  <a:pt x="434" y="587"/>
                </a:lnTo>
                <a:lnTo>
                  <a:pt x="413" y="614"/>
                </a:lnTo>
                <a:lnTo>
                  <a:pt x="389" y="640"/>
                </a:lnTo>
                <a:lnTo>
                  <a:pt x="365" y="666"/>
                </a:lnTo>
                <a:lnTo>
                  <a:pt x="341" y="694"/>
                </a:lnTo>
                <a:lnTo>
                  <a:pt x="317" y="721"/>
                </a:lnTo>
                <a:lnTo>
                  <a:pt x="291" y="752"/>
                </a:lnTo>
                <a:lnTo>
                  <a:pt x="267" y="78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Freeform 40"/>
          <p:cNvSpPr/>
          <p:nvPr/>
        </p:nvSpPr>
        <p:spPr>
          <a:xfrm>
            <a:off x="5938920" y="2751120"/>
            <a:ext cx="974520" cy="228600"/>
          </a:xfrm>
          <a:custGeom>
            <a:avLst/>
            <a:gdLst/>
            <a:ahLst/>
            <a:rect l="l" t="t" r="r" b="b"/>
            <a:pathLst>
              <a:path w="1535" h="362">
                <a:moveTo>
                  <a:pt x="1535" y="105"/>
                </a:moveTo>
                <a:lnTo>
                  <a:pt x="1535" y="107"/>
                </a:lnTo>
                <a:lnTo>
                  <a:pt x="1535" y="112"/>
                </a:lnTo>
                <a:lnTo>
                  <a:pt x="1532" y="117"/>
                </a:lnTo>
                <a:lnTo>
                  <a:pt x="1528" y="122"/>
                </a:lnTo>
                <a:lnTo>
                  <a:pt x="1525" y="124"/>
                </a:lnTo>
                <a:lnTo>
                  <a:pt x="1521" y="129"/>
                </a:lnTo>
                <a:lnTo>
                  <a:pt x="1513" y="131"/>
                </a:lnTo>
                <a:lnTo>
                  <a:pt x="1509" y="133"/>
                </a:lnTo>
                <a:lnTo>
                  <a:pt x="1501" y="138"/>
                </a:lnTo>
                <a:lnTo>
                  <a:pt x="1492" y="141"/>
                </a:lnTo>
                <a:lnTo>
                  <a:pt x="1485" y="143"/>
                </a:lnTo>
                <a:lnTo>
                  <a:pt x="1475" y="145"/>
                </a:lnTo>
                <a:lnTo>
                  <a:pt x="1463" y="148"/>
                </a:lnTo>
                <a:lnTo>
                  <a:pt x="1451" y="150"/>
                </a:lnTo>
                <a:lnTo>
                  <a:pt x="1440" y="153"/>
                </a:lnTo>
                <a:lnTo>
                  <a:pt x="1428" y="155"/>
                </a:lnTo>
                <a:lnTo>
                  <a:pt x="1401" y="160"/>
                </a:lnTo>
                <a:lnTo>
                  <a:pt x="1378" y="164"/>
                </a:lnTo>
                <a:lnTo>
                  <a:pt x="1354" y="169"/>
                </a:lnTo>
                <a:lnTo>
                  <a:pt x="1335" y="174"/>
                </a:lnTo>
                <a:lnTo>
                  <a:pt x="1316" y="176"/>
                </a:lnTo>
                <a:lnTo>
                  <a:pt x="1299" y="179"/>
                </a:lnTo>
                <a:lnTo>
                  <a:pt x="1285" y="181"/>
                </a:lnTo>
                <a:lnTo>
                  <a:pt x="1270" y="181"/>
                </a:lnTo>
                <a:lnTo>
                  <a:pt x="1256" y="186"/>
                </a:lnTo>
                <a:lnTo>
                  <a:pt x="1239" y="188"/>
                </a:lnTo>
                <a:lnTo>
                  <a:pt x="1223" y="193"/>
                </a:lnTo>
                <a:lnTo>
                  <a:pt x="1204" y="195"/>
                </a:lnTo>
                <a:lnTo>
                  <a:pt x="1192" y="195"/>
                </a:lnTo>
                <a:lnTo>
                  <a:pt x="1182" y="198"/>
                </a:lnTo>
                <a:lnTo>
                  <a:pt x="1170" y="198"/>
                </a:lnTo>
                <a:lnTo>
                  <a:pt x="1156" y="200"/>
                </a:lnTo>
                <a:lnTo>
                  <a:pt x="1144" y="200"/>
                </a:lnTo>
                <a:lnTo>
                  <a:pt x="1130" y="202"/>
                </a:lnTo>
                <a:lnTo>
                  <a:pt x="1115" y="205"/>
                </a:lnTo>
                <a:lnTo>
                  <a:pt x="1101" y="207"/>
                </a:lnTo>
                <a:lnTo>
                  <a:pt x="1092" y="210"/>
                </a:lnTo>
                <a:lnTo>
                  <a:pt x="1080" y="210"/>
                </a:lnTo>
                <a:lnTo>
                  <a:pt x="1068" y="212"/>
                </a:lnTo>
                <a:lnTo>
                  <a:pt x="1056" y="214"/>
                </a:lnTo>
                <a:lnTo>
                  <a:pt x="1039" y="217"/>
                </a:lnTo>
                <a:lnTo>
                  <a:pt x="1023" y="219"/>
                </a:lnTo>
                <a:lnTo>
                  <a:pt x="1003" y="222"/>
                </a:lnTo>
                <a:lnTo>
                  <a:pt x="982" y="224"/>
                </a:lnTo>
                <a:lnTo>
                  <a:pt x="961" y="226"/>
                </a:lnTo>
                <a:lnTo>
                  <a:pt x="937" y="231"/>
                </a:lnTo>
                <a:lnTo>
                  <a:pt x="911" y="233"/>
                </a:lnTo>
                <a:lnTo>
                  <a:pt x="884" y="238"/>
                </a:lnTo>
                <a:lnTo>
                  <a:pt x="856" y="241"/>
                </a:lnTo>
                <a:lnTo>
                  <a:pt x="825" y="245"/>
                </a:lnTo>
                <a:lnTo>
                  <a:pt x="791" y="250"/>
                </a:lnTo>
                <a:lnTo>
                  <a:pt x="758" y="255"/>
                </a:lnTo>
                <a:lnTo>
                  <a:pt x="722" y="260"/>
                </a:lnTo>
                <a:lnTo>
                  <a:pt x="687" y="264"/>
                </a:lnTo>
                <a:lnTo>
                  <a:pt x="648" y="272"/>
                </a:lnTo>
                <a:lnTo>
                  <a:pt x="608" y="276"/>
                </a:lnTo>
                <a:lnTo>
                  <a:pt x="565" y="281"/>
                </a:lnTo>
                <a:lnTo>
                  <a:pt x="522" y="288"/>
                </a:lnTo>
                <a:lnTo>
                  <a:pt x="477" y="295"/>
                </a:lnTo>
                <a:lnTo>
                  <a:pt x="429" y="300"/>
                </a:lnTo>
                <a:lnTo>
                  <a:pt x="382" y="307"/>
                </a:lnTo>
                <a:lnTo>
                  <a:pt x="332" y="314"/>
                </a:lnTo>
                <a:lnTo>
                  <a:pt x="281" y="321"/>
                </a:lnTo>
                <a:lnTo>
                  <a:pt x="227" y="329"/>
                </a:lnTo>
                <a:lnTo>
                  <a:pt x="172" y="338"/>
                </a:lnTo>
                <a:lnTo>
                  <a:pt x="117" y="345"/>
                </a:lnTo>
                <a:lnTo>
                  <a:pt x="60" y="355"/>
                </a:lnTo>
                <a:lnTo>
                  <a:pt x="0" y="362"/>
                </a:lnTo>
                <a:lnTo>
                  <a:pt x="0" y="245"/>
                </a:lnTo>
                <a:lnTo>
                  <a:pt x="19" y="245"/>
                </a:lnTo>
                <a:lnTo>
                  <a:pt x="41" y="245"/>
                </a:lnTo>
                <a:lnTo>
                  <a:pt x="65" y="245"/>
                </a:lnTo>
                <a:lnTo>
                  <a:pt x="86" y="243"/>
                </a:lnTo>
                <a:lnTo>
                  <a:pt x="110" y="243"/>
                </a:lnTo>
                <a:lnTo>
                  <a:pt x="134" y="241"/>
                </a:lnTo>
                <a:lnTo>
                  <a:pt x="158" y="238"/>
                </a:lnTo>
                <a:lnTo>
                  <a:pt x="184" y="236"/>
                </a:lnTo>
                <a:lnTo>
                  <a:pt x="210" y="231"/>
                </a:lnTo>
                <a:lnTo>
                  <a:pt x="239" y="229"/>
                </a:lnTo>
                <a:lnTo>
                  <a:pt x="267" y="224"/>
                </a:lnTo>
                <a:lnTo>
                  <a:pt x="296" y="219"/>
                </a:lnTo>
                <a:lnTo>
                  <a:pt x="327" y="214"/>
                </a:lnTo>
                <a:lnTo>
                  <a:pt x="358" y="207"/>
                </a:lnTo>
                <a:lnTo>
                  <a:pt x="389" y="202"/>
                </a:lnTo>
                <a:lnTo>
                  <a:pt x="422" y="195"/>
                </a:lnTo>
                <a:lnTo>
                  <a:pt x="486" y="179"/>
                </a:lnTo>
                <a:lnTo>
                  <a:pt x="555" y="164"/>
                </a:lnTo>
                <a:lnTo>
                  <a:pt x="625" y="150"/>
                </a:lnTo>
                <a:lnTo>
                  <a:pt x="696" y="133"/>
                </a:lnTo>
                <a:lnTo>
                  <a:pt x="770" y="117"/>
                </a:lnTo>
                <a:lnTo>
                  <a:pt x="844" y="98"/>
                </a:lnTo>
                <a:lnTo>
                  <a:pt x="922" y="76"/>
                </a:lnTo>
                <a:lnTo>
                  <a:pt x="963" y="64"/>
                </a:lnTo>
                <a:lnTo>
                  <a:pt x="1003" y="53"/>
                </a:lnTo>
                <a:lnTo>
                  <a:pt x="1042" y="43"/>
                </a:lnTo>
                <a:lnTo>
                  <a:pt x="1077" y="34"/>
                </a:lnTo>
                <a:lnTo>
                  <a:pt x="1113" y="26"/>
                </a:lnTo>
                <a:lnTo>
                  <a:pt x="1146" y="19"/>
                </a:lnTo>
                <a:lnTo>
                  <a:pt x="1177" y="14"/>
                </a:lnTo>
                <a:lnTo>
                  <a:pt x="1208" y="10"/>
                </a:lnTo>
                <a:lnTo>
                  <a:pt x="1237" y="5"/>
                </a:lnTo>
                <a:lnTo>
                  <a:pt x="1266" y="3"/>
                </a:lnTo>
                <a:lnTo>
                  <a:pt x="1292" y="0"/>
                </a:lnTo>
                <a:lnTo>
                  <a:pt x="1316" y="0"/>
                </a:lnTo>
                <a:lnTo>
                  <a:pt x="1337" y="0"/>
                </a:lnTo>
                <a:lnTo>
                  <a:pt x="1358" y="0"/>
                </a:lnTo>
                <a:lnTo>
                  <a:pt x="1378" y="3"/>
                </a:lnTo>
                <a:lnTo>
                  <a:pt x="1397" y="5"/>
                </a:lnTo>
                <a:lnTo>
                  <a:pt x="1411" y="10"/>
                </a:lnTo>
                <a:lnTo>
                  <a:pt x="1428" y="14"/>
                </a:lnTo>
                <a:lnTo>
                  <a:pt x="1440" y="22"/>
                </a:lnTo>
                <a:lnTo>
                  <a:pt x="1451" y="26"/>
                </a:lnTo>
                <a:lnTo>
                  <a:pt x="1463" y="34"/>
                </a:lnTo>
                <a:lnTo>
                  <a:pt x="1473" y="41"/>
                </a:lnTo>
                <a:lnTo>
                  <a:pt x="1485" y="48"/>
                </a:lnTo>
                <a:lnTo>
                  <a:pt x="1492" y="53"/>
                </a:lnTo>
                <a:lnTo>
                  <a:pt x="1501" y="57"/>
                </a:lnTo>
                <a:lnTo>
                  <a:pt x="1509" y="64"/>
                </a:lnTo>
                <a:lnTo>
                  <a:pt x="1513" y="69"/>
                </a:lnTo>
                <a:lnTo>
                  <a:pt x="1521" y="74"/>
                </a:lnTo>
                <a:lnTo>
                  <a:pt x="1525" y="79"/>
                </a:lnTo>
                <a:lnTo>
                  <a:pt x="1528" y="83"/>
                </a:lnTo>
                <a:lnTo>
                  <a:pt x="1532" y="88"/>
                </a:lnTo>
                <a:lnTo>
                  <a:pt x="1535" y="93"/>
                </a:lnTo>
                <a:lnTo>
                  <a:pt x="1535" y="98"/>
                </a:lnTo>
                <a:lnTo>
                  <a:pt x="1535" y="10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Freeform 42"/>
          <p:cNvSpPr/>
          <p:nvPr/>
        </p:nvSpPr>
        <p:spPr>
          <a:xfrm>
            <a:off x="6161040" y="3087720"/>
            <a:ext cx="574560" cy="565200"/>
          </a:xfrm>
          <a:custGeom>
            <a:avLst/>
            <a:gdLst/>
            <a:ahLst/>
            <a:rect l="l" t="t" r="r" b="b"/>
            <a:pathLst>
              <a:path w="905" h="890">
                <a:moveTo>
                  <a:pt x="617" y="840"/>
                </a:moveTo>
                <a:lnTo>
                  <a:pt x="607" y="847"/>
                </a:lnTo>
                <a:lnTo>
                  <a:pt x="598" y="852"/>
                </a:lnTo>
                <a:lnTo>
                  <a:pt x="581" y="864"/>
                </a:lnTo>
                <a:lnTo>
                  <a:pt x="567" y="873"/>
                </a:lnTo>
                <a:lnTo>
                  <a:pt x="552" y="881"/>
                </a:lnTo>
                <a:lnTo>
                  <a:pt x="540" y="885"/>
                </a:lnTo>
                <a:lnTo>
                  <a:pt x="529" y="888"/>
                </a:lnTo>
                <a:lnTo>
                  <a:pt x="517" y="890"/>
                </a:lnTo>
                <a:lnTo>
                  <a:pt x="507" y="890"/>
                </a:lnTo>
                <a:lnTo>
                  <a:pt x="500" y="890"/>
                </a:lnTo>
                <a:lnTo>
                  <a:pt x="495" y="890"/>
                </a:lnTo>
                <a:lnTo>
                  <a:pt x="490" y="888"/>
                </a:lnTo>
                <a:lnTo>
                  <a:pt x="486" y="885"/>
                </a:lnTo>
                <a:lnTo>
                  <a:pt x="481" y="883"/>
                </a:lnTo>
                <a:lnTo>
                  <a:pt x="476" y="881"/>
                </a:lnTo>
                <a:lnTo>
                  <a:pt x="474" y="876"/>
                </a:lnTo>
                <a:lnTo>
                  <a:pt x="471" y="871"/>
                </a:lnTo>
                <a:lnTo>
                  <a:pt x="469" y="866"/>
                </a:lnTo>
                <a:lnTo>
                  <a:pt x="467" y="862"/>
                </a:lnTo>
                <a:lnTo>
                  <a:pt x="467" y="854"/>
                </a:lnTo>
                <a:lnTo>
                  <a:pt x="467" y="847"/>
                </a:lnTo>
                <a:lnTo>
                  <a:pt x="467" y="840"/>
                </a:lnTo>
                <a:lnTo>
                  <a:pt x="467" y="831"/>
                </a:lnTo>
                <a:lnTo>
                  <a:pt x="469" y="823"/>
                </a:lnTo>
                <a:lnTo>
                  <a:pt x="471" y="814"/>
                </a:lnTo>
                <a:lnTo>
                  <a:pt x="474" y="804"/>
                </a:lnTo>
                <a:lnTo>
                  <a:pt x="474" y="795"/>
                </a:lnTo>
                <a:lnTo>
                  <a:pt x="474" y="785"/>
                </a:lnTo>
                <a:lnTo>
                  <a:pt x="471" y="773"/>
                </a:lnTo>
                <a:lnTo>
                  <a:pt x="469" y="764"/>
                </a:lnTo>
                <a:lnTo>
                  <a:pt x="464" y="754"/>
                </a:lnTo>
                <a:lnTo>
                  <a:pt x="462" y="745"/>
                </a:lnTo>
                <a:lnTo>
                  <a:pt x="455" y="735"/>
                </a:lnTo>
                <a:lnTo>
                  <a:pt x="450" y="723"/>
                </a:lnTo>
                <a:lnTo>
                  <a:pt x="443" y="714"/>
                </a:lnTo>
                <a:lnTo>
                  <a:pt x="436" y="702"/>
                </a:lnTo>
                <a:lnTo>
                  <a:pt x="426" y="693"/>
                </a:lnTo>
                <a:lnTo>
                  <a:pt x="417" y="681"/>
                </a:lnTo>
                <a:lnTo>
                  <a:pt x="407" y="669"/>
                </a:lnTo>
                <a:lnTo>
                  <a:pt x="397" y="657"/>
                </a:lnTo>
                <a:lnTo>
                  <a:pt x="386" y="645"/>
                </a:lnTo>
                <a:lnTo>
                  <a:pt x="376" y="633"/>
                </a:lnTo>
                <a:lnTo>
                  <a:pt x="367" y="624"/>
                </a:lnTo>
                <a:lnTo>
                  <a:pt x="357" y="612"/>
                </a:lnTo>
                <a:lnTo>
                  <a:pt x="347" y="604"/>
                </a:lnTo>
                <a:lnTo>
                  <a:pt x="340" y="595"/>
                </a:lnTo>
                <a:lnTo>
                  <a:pt x="333" y="588"/>
                </a:lnTo>
                <a:lnTo>
                  <a:pt x="328" y="581"/>
                </a:lnTo>
                <a:lnTo>
                  <a:pt x="324" y="574"/>
                </a:lnTo>
                <a:lnTo>
                  <a:pt x="319" y="569"/>
                </a:lnTo>
                <a:lnTo>
                  <a:pt x="316" y="564"/>
                </a:lnTo>
                <a:lnTo>
                  <a:pt x="314" y="559"/>
                </a:lnTo>
                <a:lnTo>
                  <a:pt x="312" y="554"/>
                </a:lnTo>
                <a:lnTo>
                  <a:pt x="312" y="550"/>
                </a:lnTo>
                <a:lnTo>
                  <a:pt x="312" y="547"/>
                </a:lnTo>
                <a:lnTo>
                  <a:pt x="312" y="545"/>
                </a:lnTo>
                <a:lnTo>
                  <a:pt x="314" y="543"/>
                </a:lnTo>
                <a:lnTo>
                  <a:pt x="316" y="540"/>
                </a:lnTo>
                <a:lnTo>
                  <a:pt x="319" y="538"/>
                </a:lnTo>
                <a:lnTo>
                  <a:pt x="328" y="535"/>
                </a:lnTo>
                <a:lnTo>
                  <a:pt x="338" y="538"/>
                </a:lnTo>
                <a:lnTo>
                  <a:pt x="350" y="538"/>
                </a:lnTo>
                <a:lnTo>
                  <a:pt x="364" y="543"/>
                </a:lnTo>
                <a:lnTo>
                  <a:pt x="381" y="545"/>
                </a:lnTo>
                <a:lnTo>
                  <a:pt x="400" y="550"/>
                </a:lnTo>
                <a:lnTo>
                  <a:pt x="424" y="554"/>
                </a:lnTo>
                <a:lnTo>
                  <a:pt x="445" y="559"/>
                </a:lnTo>
                <a:lnTo>
                  <a:pt x="467" y="562"/>
                </a:lnTo>
                <a:lnTo>
                  <a:pt x="486" y="564"/>
                </a:lnTo>
                <a:lnTo>
                  <a:pt x="502" y="564"/>
                </a:lnTo>
                <a:lnTo>
                  <a:pt x="519" y="562"/>
                </a:lnTo>
                <a:lnTo>
                  <a:pt x="533" y="557"/>
                </a:lnTo>
                <a:lnTo>
                  <a:pt x="545" y="550"/>
                </a:lnTo>
                <a:lnTo>
                  <a:pt x="550" y="547"/>
                </a:lnTo>
                <a:lnTo>
                  <a:pt x="555" y="543"/>
                </a:lnTo>
                <a:lnTo>
                  <a:pt x="557" y="538"/>
                </a:lnTo>
                <a:lnTo>
                  <a:pt x="560" y="535"/>
                </a:lnTo>
                <a:lnTo>
                  <a:pt x="564" y="528"/>
                </a:lnTo>
                <a:lnTo>
                  <a:pt x="567" y="524"/>
                </a:lnTo>
                <a:lnTo>
                  <a:pt x="569" y="514"/>
                </a:lnTo>
                <a:lnTo>
                  <a:pt x="574" y="507"/>
                </a:lnTo>
                <a:lnTo>
                  <a:pt x="576" y="497"/>
                </a:lnTo>
                <a:lnTo>
                  <a:pt x="579" y="485"/>
                </a:lnTo>
                <a:lnTo>
                  <a:pt x="583" y="474"/>
                </a:lnTo>
                <a:lnTo>
                  <a:pt x="586" y="459"/>
                </a:lnTo>
                <a:lnTo>
                  <a:pt x="591" y="445"/>
                </a:lnTo>
                <a:lnTo>
                  <a:pt x="593" y="431"/>
                </a:lnTo>
                <a:lnTo>
                  <a:pt x="595" y="414"/>
                </a:lnTo>
                <a:lnTo>
                  <a:pt x="600" y="397"/>
                </a:lnTo>
                <a:lnTo>
                  <a:pt x="602" y="381"/>
                </a:lnTo>
                <a:lnTo>
                  <a:pt x="605" y="362"/>
                </a:lnTo>
                <a:lnTo>
                  <a:pt x="607" y="343"/>
                </a:lnTo>
                <a:lnTo>
                  <a:pt x="607" y="324"/>
                </a:lnTo>
                <a:lnTo>
                  <a:pt x="610" y="307"/>
                </a:lnTo>
                <a:lnTo>
                  <a:pt x="610" y="290"/>
                </a:lnTo>
                <a:lnTo>
                  <a:pt x="612" y="276"/>
                </a:lnTo>
                <a:lnTo>
                  <a:pt x="612" y="262"/>
                </a:lnTo>
                <a:lnTo>
                  <a:pt x="612" y="250"/>
                </a:lnTo>
                <a:lnTo>
                  <a:pt x="612" y="236"/>
                </a:lnTo>
                <a:lnTo>
                  <a:pt x="612" y="226"/>
                </a:lnTo>
                <a:lnTo>
                  <a:pt x="612" y="217"/>
                </a:lnTo>
                <a:lnTo>
                  <a:pt x="612" y="207"/>
                </a:lnTo>
                <a:lnTo>
                  <a:pt x="610" y="200"/>
                </a:lnTo>
                <a:lnTo>
                  <a:pt x="610" y="193"/>
                </a:lnTo>
                <a:lnTo>
                  <a:pt x="607" y="188"/>
                </a:lnTo>
                <a:lnTo>
                  <a:pt x="607" y="183"/>
                </a:lnTo>
                <a:lnTo>
                  <a:pt x="605" y="181"/>
                </a:lnTo>
                <a:lnTo>
                  <a:pt x="600" y="178"/>
                </a:lnTo>
                <a:lnTo>
                  <a:pt x="598" y="176"/>
                </a:lnTo>
                <a:lnTo>
                  <a:pt x="591" y="176"/>
                </a:lnTo>
                <a:lnTo>
                  <a:pt x="583" y="176"/>
                </a:lnTo>
                <a:lnTo>
                  <a:pt x="574" y="176"/>
                </a:lnTo>
                <a:lnTo>
                  <a:pt x="564" y="176"/>
                </a:lnTo>
                <a:lnTo>
                  <a:pt x="552" y="176"/>
                </a:lnTo>
                <a:lnTo>
                  <a:pt x="540" y="178"/>
                </a:lnTo>
                <a:lnTo>
                  <a:pt x="526" y="181"/>
                </a:lnTo>
                <a:lnTo>
                  <a:pt x="509" y="183"/>
                </a:lnTo>
                <a:lnTo>
                  <a:pt x="493" y="186"/>
                </a:lnTo>
                <a:lnTo>
                  <a:pt x="474" y="188"/>
                </a:lnTo>
                <a:lnTo>
                  <a:pt x="455" y="193"/>
                </a:lnTo>
                <a:lnTo>
                  <a:pt x="433" y="197"/>
                </a:lnTo>
                <a:lnTo>
                  <a:pt x="409" y="202"/>
                </a:lnTo>
                <a:lnTo>
                  <a:pt x="386" y="207"/>
                </a:lnTo>
                <a:lnTo>
                  <a:pt x="338" y="214"/>
                </a:lnTo>
                <a:lnTo>
                  <a:pt x="288" y="224"/>
                </a:lnTo>
                <a:lnTo>
                  <a:pt x="240" y="231"/>
                </a:lnTo>
                <a:lnTo>
                  <a:pt x="193" y="236"/>
                </a:lnTo>
                <a:lnTo>
                  <a:pt x="145" y="240"/>
                </a:lnTo>
                <a:lnTo>
                  <a:pt x="97" y="243"/>
                </a:lnTo>
                <a:lnTo>
                  <a:pt x="50" y="245"/>
                </a:lnTo>
                <a:lnTo>
                  <a:pt x="0" y="245"/>
                </a:lnTo>
                <a:lnTo>
                  <a:pt x="0" y="167"/>
                </a:lnTo>
                <a:lnTo>
                  <a:pt x="16" y="167"/>
                </a:lnTo>
                <a:lnTo>
                  <a:pt x="33" y="167"/>
                </a:lnTo>
                <a:lnTo>
                  <a:pt x="50" y="167"/>
                </a:lnTo>
                <a:lnTo>
                  <a:pt x="69" y="164"/>
                </a:lnTo>
                <a:lnTo>
                  <a:pt x="90" y="164"/>
                </a:lnTo>
                <a:lnTo>
                  <a:pt x="109" y="162"/>
                </a:lnTo>
                <a:lnTo>
                  <a:pt x="131" y="159"/>
                </a:lnTo>
                <a:lnTo>
                  <a:pt x="154" y="157"/>
                </a:lnTo>
                <a:lnTo>
                  <a:pt x="176" y="152"/>
                </a:lnTo>
                <a:lnTo>
                  <a:pt x="200" y="150"/>
                </a:lnTo>
                <a:lnTo>
                  <a:pt x="226" y="145"/>
                </a:lnTo>
                <a:lnTo>
                  <a:pt x="252" y="140"/>
                </a:lnTo>
                <a:lnTo>
                  <a:pt x="278" y="136"/>
                </a:lnTo>
                <a:lnTo>
                  <a:pt x="305" y="128"/>
                </a:lnTo>
                <a:lnTo>
                  <a:pt x="333" y="124"/>
                </a:lnTo>
                <a:lnTo>
                  <a:pt x="362" y="117"/>
                </a:lnTo>
                <a:lnTo>
                  <a:pt x="390" y="109"/>
                </a:lnTo>
                <a:lnTo>
                  <a:pt x="417" y="102"/>
                </a:lnTo>
                <a:lnTo>
                  <a:pt x="443" y="95"/>
                </a:lnTo>
                <a:lnTo>
                  <a:pt x="467" y="88"/>
                </a:lnTo>
                <a:lnTo>
                  <a:pt x="488" y="83"/>
                </a:lnTo>
                <a:lnTo>
                  <a:pt x="509" y="76"/>
                </a:lnTo>
                <a:lnTo>
                  <a:pt x="526" y="71"/>
                </a:lnTo>
                <a:lnTo>
                  <a:pt x="543" y="64"/>
                </a:lnTo>
                <a:lnTo>
                  <a:pt x="560" y="59"/>
                </a:lnTo>
                <a:lnTo>
                  <a:pt x="571" y="55"/>
                </a:lnTo>
                <a:lnTo>
                  <a:pt x="583" y="50"/>
                </a:lnTo>
                <a:lnTo>
                  <a:pt x="593" y="45"/>
                </a:lnTo>
                <a:lnTo>
                  <a:pt x="602" y="40"/>
                </a:lnTo>
                <a:lnTo>
                  <a:pt x="607" y="36"/>
                </a:lnTo>
                <a:lnTo>
                  <a:pt x="612" y="31"/>
                </a:lnTo>
                <a:lnTo>
                  <a:pt x="617" y="26"/>
                </a:lnTo>
                <a:lnTo>
                  <a:pt x="621" y="21"/>
                </a:lnTo>
                <a:lnTo>
                  <a:pt x="626" y="17"/>
                </a:lnTo>
                <a:lnTo>
                  <a:pt x="636" y="12"/>
                </a:lnTo>
                <a:lnTo>
                  <a:pt x="643" y="7"/>
                </a:lnTo>
                <a:lnTo>
                  <a:pt x="652" y="5"/>
                </a:lnTo>
                <a:lnTo>
                  <a:pt x="664" y="2"/>
                </a:lnTo>
                <a:lnTo>
                  <a:pt x="676" y="0"/>
                </a:lnTo>
                <a:lnTo>
                  <a:pt x="688" y="0"/>
                </a:lnTo>
                <a:lnTo>
                  <a:pt x="702" y="0"/>
                </a:lnTo>
                <a:lnTo>
                  <a:pt x="717" y="5"/>
                </a:lnTo>
                <a:lnTo>
                  <a:pt x="731" y="9"/>
                </a:lnTo>
                <a:lnTo>
                  <a:pt x="745" y="17"/>
                </a:lnTo>
                <a:lnTo>
                  <a:pt x="762" y="26"/>
                </a:lnTo>
                <a:lnTo>
                  <a:pt x="781" y="38"/>
                </a:lnTo>
                <a:lnTo>
                  <a:pt x="800" y="50"/>
                </a:lnTo>
                <a:lnTo>
                  <a:pt x="822" y="64"/>
                </a:lnTo>
                <a:lnTo>
                  <a:pt x="834" y="74"/>
                </a:lnTo>
                <a:lnTo>
                  <a:pt x="843" y="83"/>
                </a:lnTo>
                <a:lnTo>
                  <a:pt x="853" y="93"/>
                </a:lnTo>
                <a:lnTo>
                  <a:pt x="860" y="100"/>
                </a:lnTo>
                <a:lnTo>
                  <a:pt x="867" y="109"/>
                </a:lnTo>
                <a:lnTo>
                  <a:pt x="874" y="117"/>
                </a:lnTo>
                <a:lnTo>
                  <a:pt x="881" y="124"/>
                </a:lnTo>
                <a:lnTo>
                  <a:pt x="886" y="131"/>
                </a:lnTo>
                <a:lnTo>
                  <a:pt x="891" y="136"/>
                </a:lnTo>
                <a:lnTo>
                  <a:pt x="896" y="143"/>
                </a:lnTo>
                <a:lnTo>
                  <a:pt x="898" y="148"/>
                </a:lnTo>
                <a:lnTo>
                  <a:pt x="900" y="152"/>
                </a:lnTo>
                <a:lnTo>
                  <a:pt x="903" y="157"/>
                </a:lnTo>
                <a:lnTo>
                  <a:pt x="905" y="162"/>
                </a:lnTo>
                <a:lnTo>
                  <a:pt x="905" y="164"/>
                </a:lnTo>
                <a:lnTo>
                  <a:pt x="905" y="167"/>
                </a:lnTo>
                <a:lnTo>
                  <a:pt x="905" y="176"/>
                </a:lnTo>
                <a:lnTo>
                  <a:pt x="905" y="183"/>
                </a:lnTo>
                <a:lnTo>
                  <a:pt x="900" y="190"/>
                </a:lnTo>
                <a:lnTo>
                  <a:pt x="898" y="197"/>
                </a:lnTo>
                <a:lnTo>
                  <a:pt x="893" y="205"/>
                </a:lnTo>
                <a:lnTo>
                  <a:pt x="886" y="209"/>
                </a:lnTo>
                <a:lnTo>
                  <a:pt x="879" y="214"/>
                </a:lnTo>
                <a:lnTo>
                  <a:pt x="869" y="219"/>
                </a:lnTo>
                <a:lnTo>
                  <a:pt x="865" y="221"/>
                </a:lnTo>
                <a:lnTo>
                  <a:pt x="860" y="226"/>
                </a:lnTo>
                <a:lnTo>
                  <a:pt x="857" y="231"/>
                </a:lnTo>
                <a:lnTo>
                  <a:pt x="853" y="238"/>
                </a:lnTo>
                <a:lnTo>
                  <a:pt x="848" y="245"/>
                </a:lnTo>
                <a:lnTo>
                  <a:pt x="843" y="255"/>
                </a:lnTo>
                <a:lnTo>
                  <a:pt x="838" y="264"/>
                </a:lnTo>
                <a:lnTo>
                  <a:pt x="836" y="274"/>
                </a:lnTo>
                <a:lnTo>
                  <a:pt x="831" y="286"/>
                </a:lnTo>
                <a:lnTo>
                  <a:pt x="826" y="297"/>
                </a:lnTo>
                <a:lnTo>
                  <a:pt x="824" y="309"/>
                </a:lnTo>
                <a:lnTo>
                  <a:pt x="822" y="324"/>
                </a:lnTo>
                <a:lnTo>
                  <a:pt x="817" y="338"/>
                </a:lnTo>
                <a:lnTo>
                  <a:pt x="814" y="355"/>
                </a:lnTo>
                <a:lnTo>
                  <a:pt x="812" y="371"/>
                </a:lnTo>
                <a:lnTo>
                  <a:pt x="810" y="388"/>
                </a:lnTo>
                <a:lnTo>
                  <a:pt x="805" y="426"/>
                </a:lnTo>
                <a:lnTo>
                  <a:pt x="798" y="462"/>
                </a:lnTo>
                <a:lnTo>
                  <a:pt x="791" y="497"/>
                </a:lnTo>
                <a:lnTo>
                  <a:pt x="781" y="533"/>
                </a:lnTo>
                <a:lnTo>
                  <a:pt x="772" y="566"/>
                </a:lnTo>
                <a:lnTo>
                  <a:pt x="762" y="597"/>
                </a:lnTo>
                <a:lnTo>
                  <a:pt x="750" y="628"/>
                </a:lnTo>
                <a:lnTo>
                  <a:pt x="736" y="659"/>
                </a:lnTo>
                <a:lnTo>
                  <a:pt x="731" y="673"/>
                </a:lnTo>
                <a:lnTo>
                  <a:pt x="724" y="690"/>
                </a:lnTo>
                <a:lnTo>
                  <a:pt x="717" y="704"/>
                </a:lnTo>
                <a:lnTo>
                  <a:pt x="710" y="719"/>
                </a:lnTo>
                <a:lnTo>
                  <a:pt x="702" y="733"/>
                </a:lnTo>
                <a:lnTo>
                  <a:pt x="695" y="745"/>
                </a:lnTo>
                <a:lnTo>
                  <a:pt x="688" y="757"/>
                </a:lnTo>
                <a:lnTo>
                  <a:pt x="681" y="769"/>
                </a:lnTo>
                <a:lnTo>
                  <a:pt x="674" y="778"/>
                </a:lnTo>
                <a:lnTo>
                  <a:pt x="667" y="788"/>
                </a:lnTo>
                <a:lnTo>
                  <a:pt x="650" y="807"/>
                </a:lnTo>
                <a:lnTo>
                  <a:pt x="633" y="823"/>
                </a:lnTo>
                <a:lnTo>
                  <a:pt x="617" y="84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Freeform 39"/>
          <p:cNvSpPr/>
          <p:nvPr/>
        </p:nvSpPr>
        <p:spPr>
          <a:xfrm>
            <a:off x="5430960" y="2881440"/>
            <a:ext cx="546120" cy="1207800"/>
          </a:xfrm>
          <a:custGeom>
            <a:avLst/>
            <a:gdLst/>
            <a:ahLst/>
            <a:rect l="l" t="t" r="r" b="b"/>
            <a:pathLst>
              <a:path w="860" h="1904">
                <a:moveTo>
                  <a:pt x="171" y="1811"/>
                </a:moveTo>
                <a:lnTo>
                  <a:pt x="152" y="1825"/>
                </a:lnTo>
                <a:lnTo>
                  <a:pt x="133" y="1837"/>
                </a:lnTo>
                <a:lnTo>
                  <a:pt x="116" y="1849"/>
                </a:lnTo>
                <a:lnTo>
                  <a:pt x="100" y="1861"/>
                </a:lnTo>
                <a:lnTo>
                  <a:pt x="85" y="1871"/>
                </a:lnTo>
                <a:lnTo>
                  <a:pt x="74" y="1878"/>
                </a:lnTo>
                <a:lnTo>
                  <a:pt x="62" y="1885"/>
                </a:lnTo>
                <a:lnTo>
                  <a:pt x="50" y="1890"/>
                </a:lnTo>
                <a:lnTo>
                  <a:pt x="40" y="1897"/>
                </a:lnTo>
                <a:lnTo>
                  <a:pt x="33" y="1899"/>
                </a:lnTo>
                <a:lnTo>
                  <a:pt x="24" y="1902"/>
                </a:lnTo>
                <a:lnTo>
                  <a:pt x="19" y="1904"/>
                </a:lnTo>
                <a:lnTo>
                  <a:pt x="12" y="1904"/>
                </a:lnTo>
                <a:lnTo>
                  <a:pt x="7" y="1904"/>
                </a:lnTo>
                <a:lnTo>
                  <a:pt x="4" y="1904"/>
                </a:lnTo>
                <a:lnTo>
                  <a:pt x="2" y="1902"/>
                </a:lnTo>
                <a:lnTo>
                  <a:pt x="0" y="1899"/>
                </a:lnTo>
                <a:lnTo>
                  <a:pt x="0" y="1894"/>
                </a:lnTo>
                <a:lnTo>
                  <a:pt x="0" y="1890"/>
                </a:lnTo>
                <a:lnTo>
                  <a:pt x="2" y="1882"/>
                </a:lnTo>
                <a:lnTo>
                  <a:pt x="4" y="1875"/>
                </a:lnTo>
                <a:lnTo>
                  <a:pt x="9" y="1866"/>
                </a:lnTo>
                <a:lnTo>
                  <a:pt x="16" y="1856"/>
                </a:lnTo>
                <a:lnTo>
                  <a:pt x="24" y="1844"/>
                </a:lnTo>
                <a:lnTo>
                  <a:pt x="33" y="1830"/>
                </a:lnTo>
                <a:lnTo>
                  <a:pt x="43" y="1818"/>
                </a:lnTo>
                <a:lnTo>
                  <a:pt x="54" y="1802"/>
                </a:lnTo>
                <a:lnTo>
                  <a:pt x="66" y="1785"/>
                </a:lnTo>
                <a:lnTo>
                  <a:pt x="81" y="1768"/>
                </a:lnTo>
                <a:lnTo>
                  <a:pt x="97" y="1749"/>
                </a:lnTo>
                <a:lnTo>
                  <a:pt x="116" y="1730"/>
                </a:lnTo>
                <a:lnTo>
                  <a:pt x="135" y="1709"/>
                </a:lnTo>
                <a:lnTo>
                  <a:pt x="171" y="1659"/>
                </a:lnTo>
                <a:lnTo>
                  <a:pt x="207" y="1609"/>
                </a:lnTo>
                <a:lnTo>
                  <a:pt x="243" y="1561"/>
                </a:lnTo>
                <a:lnTo>
                  <a:pt x="278" y="1509"/>
                </a:lnTo>
                <a:lnTo>
                  <a:pt x="314" y="1456"/>
                </a:lnTo>
                <a:lnTo>
                  <a:pt x="331" y="1428"/>
                </a:lnTo>
                <a:lnTo>
                  <a:pt x="348" y="1402"/>
                </a:lnTo>
                <a:lnTo>
                  <a:pt x="364" y="1373"/>
                </a:lnTo>
                <a:lnTo>
                  <a:pt x="381" y="1342"/>
                </a:lnTo>
                <a:lnTo>
                  <a:pt x="398" y="1314"/>
                </a:lnTo>
                <a:lnTo>
                  <a:pt x="412" y="1280"/>
                </a:lnTo>
                <a:lnTo>
                  <a:pt x="443" y="1223"/>
                </a:lnTo>
                <a:lnTo>
                  <a:pt x="471" y="1164"/>
                </a:lnTo>
                <a:lnTo>
                  <a:pt x="498" y="1107"/>
                </a:lnTo>
                <a:lnTo>
                  <a:pt x="524" y="1049"/>
                </a:lnTo>
                <a:lnTo>
                  <a:pt x="545" y="990"/>
                </a:lnTo>
                <a:lnTo>
                  <a:pt x="567" y="933"/>
                </a:lnTo>
                <a:lnTo>
                  <a:pt x="588" y="873"/>
                </a:lnTo>
                <a:lnTo>
                  <a:pt x="607" y="816"/>
                </a:lnTo>
                <a:lnTo>
                  <a:pt x="619" y="759"/>
                </a:lnTo>
                <a:lnTo>
                  <a:pt x="631" y="702"/>
                </a:lnTo>
                <a:lnTo>
                  <a:pt x="641" y="647"/>
                </a:lnTo>
                <a:lnTo>
                  <a:pt x="653" y="593"/>
                </a:lnTo>
                <a:lnTo>
                  <a:pt x="660" y="538"/>
                </a:lnTo>
                <a:lnTo>
                  <a:pt x="667" y="483"/>
                </a:lnTo>
                <a:lnTo>
                  <a:pt x="674" y="431"/>
                </a:lnTo>
                <a:lnTo>
                  <a:pt x="679" y="376"/>
                </a:lnTo>
                <a:lnTo>
                  <a:pt x="681" y="352"/>
                </a:lnTo>
                <a:lnTo>
                  <a:pt x="681" y="331"/>
                </a:lnTo>
                <a:lnTo>
                  <a:pt x="684" y="309"/>
                </a:lnTo>
                <a:lnTo>
                  <a:pt x="684" y="288"/>
                </a:lnTo>
                <a:lnTo>
                  <a:pt x="684" y="266"/>
                </a:lnTo>
                <a:lnTo>
                  <a:pt x="684" y="247"/>
                </a:lnTo>
                <a:lnTo>
                  <a:pt x="684" y="228"/>
                </a:lnTo>
                <a:lnTo>
                  <a:pt x="681" y="212"/>
                </a:lnTo>
                <a:lnTo>
                  <a:pt x="681" y="193"/>
                </a:lnTo>
                <a:lnTo>
                  <a:pt x="679" y="176"/>
                </a:lnTo>
                <a:lnTo>
                  <a:pt x="676" y="162"/>
                </a:lnTo>
                <a:lnTo>
                  <a:pt x="676" y="145"/>
                </a:lnTo>
                <a:lnTo>
                  <a:pt x="674" y="131"/>
                </a:lnTo>
                <a:lnTo>
                  <a:pt x="672" y="119"/>
                </a:lnTo>
                <a:lnTo>
                  <a:pt x="669" y="105"/>
                </a:lnTo>
                <a:lnTo>
                  <a:pt x="667" y="93"/>
                </a:lnTo>
                <a:lnTo>
                  <a:pt x="662" y="83"/>
                </a:lnTo>
                <a:lnTo>
                  <a:pt x="660" y="74"/>
                </a:lnTo>
                <a:lnTo>
                  <a:pt x="655" y="67"/>
                </a:lnTo>
                <a:lnTo>
                  <a:pt x="653" y="59"/>
                </a:lnTo>
                <a:lnTo>
                  <a:pt x="653" y="52"/>
                </a:lnTo>
                <a:lnTo>
                  <a:pt x="650" y="45"/>
                </a:lnTo>
                <a:lnTo>
                  <a:pt x="650" y="38"/>
                </a:lnTo>
                <a:lnTo>
                  <a:pt x="650" y="33"/>
                </a:lnTo>
                <a:lnTo>
                  <a:pt x="650" y="28"/>
                </a:lnTo>
                <a:lnTo>
                  <a:pt x="653" y="24"/>
                </a:lnTo>
                <a:lnTo>
                  <a:pt x="655" y="19"/>
                </a:lnTo>
                <a:lnTo>
                  <a:pt x="657" y="14"/>
                </a:lnTo>
                <a:lnTo>
                  <a:pt x="662" y="12"/>
                </a:lnTo>
                <a:lnTo>
                  <a:pt x="667" y="7"/>
                </a:lnTo>
                <a:lnTo>
                  <a:pt x="672" y="5"/>
                </a:lnTo>
                <a:lnTo>
                  <a:pt x="679" y="2"/>
                </a:lnTo>
                <a:lnTo>
                  <a:pt x="684" y="0"/>
                </a:lnTo>
                <a:lnTo>
                  <a:pt x="691" y="0"/>
                </a:lnTo>
                <a:lnTo>
                  <a:pt x="695" y="0"/>
                </a:lnTo>
                <a:lnTo>
                  <a:pt x="703" y="0"/>
                </a:lnTo>
                <a:lnTo>
                  <a:pt x="712" y="0"/>
                </a:lnTo>
                <a:lnTo>
                  <a:pt x="722" y="2"/>
                </a:lnTo>
                <a:lnTo>
                  <a:pt x="731" y="5"/>
                </a:lnTo>
                <a:lnTo>
                  <a:pt x="743" y="9"/>
                </a:lnTo>
                <a:lnTo>
                  <a:pt x="755" y="12"/>
                </a:lnTo>
                <a:lnTo>
                  <a:pt x="767" y="17"/>
                </a:lnTo>
                <a:lnTo>
                  <a:pt x="781" y="21"/>
                </a:lnTo>
                <a:lnTo>
                  <a:pt x="796" y="28"/>
                </a:lnTo>
                <a:lnTo>
                  <a:pt x="810" y="33"/>
                </a:lnTo>
                <a:lnTo>
                  <a:pt x="827" y="40"/>
                </a:lnTo>
                <a:lnTo>
                  <a:pt x="843" y="47"/>
                </a:lnTo>
                <a:lnTo>
                  <a:pt x="860" y="55"/>
                </a:lnTo>
                <a:lnTo>
                  <a:pt x="860" y="90"/>
                </a:lnTo>
                <a:lnTo>
                  <a:pt x="860" y="124"/>
                </a:lnTo>
                <a:lnTo>
                  <a:pt x="860" y="157"/>
                </a:lnTo>
                <a:lnTo>
                  <a:pt x="857" y="190"/>
                </a:lnTo>
                <a:lnTo>
                  <a:pt x="857" y="221"/>
                </a:lnTo>
                <a:lnTo>
                  <a:pt x="855" y="252"/>
                </a:lnTo>
                <a:lnTo>
                  <a:pt x="855" y="281"/>
                </a:lnTo>
                <a:lnTo>
                  <a:pt x="853" y="309"/>
                </a:lnTo>
                <a:lnTo>
                  <a:pt x="850" y="335"/>
                </a:lnTo>
                <a:lnTo>
                  <a:pt x="848" y="364"/>
                </a:lnTo>
                <a:lnTo>
                  <a:pt x="848" y="388"/>
                </a:lnTo>
                <a:lnTo>
                  <a:pt x="846" y="414"/>
                </a:lnTo>
                <a:lnTo>
                  <a:pt x="843" y="438"/>
                </a:lnTo>
                <a:lnTo>
                  <a:pt x="841" y="462"/>
                </a:lnTo>
                <a:lnTo>
                  <a:pt x="838" y="483"/>
                </a:lnTo>
                <a:lnTo>
                  <a:pt x="836" y="507"/>
                </a:lnTo>
                <a:lnTo>
                  <a:pt x="831" y="550"/>
                </a:lnTo>
                <a:lnTo>
                  <a:pt x="822" y="597"/>
                </a:lnTo>
                <a:lnTo>
                  <a:pt x="812" y="645"/>
                </a:lnTo>
                <a:lnTo>
                  <a:pt x="807" y="669"/>
                </a:lnTo>
                <a:lnTo>
                  <a:pt x="800" y="692"/>
                </a:lnTo>
                <a:lnTo>
                  <a:pt x="796" y="719"/>
                </a:lnTo>
                <a:lnTo>
                  <a:pt x="788" y="745"/>
                </a:lnTo>
                <a:lnTo>
                  <a:pt x="781" y="773"/>
                </a:lnTo>
                <a:lnTo>
                  <a:pt x="772" y="800"/>
                </a:lnTo>
                <a:lnTo>
                  <a:pt x="765" y="828"/>
                </a:lnTo>
                <a:lnTo>
                  <a:pt x="757" y="859"/>
                </a:lnTo>
                <a:lnTo>
                  <a:pt x="748" y="888"/>
                </a:lnTo>
                <a:lnTo>
                  <a:pt x="738" y="919"/>
                </a:lnTo>
                <a:lnTo>
                  <a:pt x="729" y="952"/>
                </a:lnTo>
                <a:lnTo>
                  <a:pt x="719" y="983"/>
                </a:lnTo>
                <a:lnTo>
                  <a:pt x="707" y="1014"/>
                </a:lnTo>
                <a:lnTo>
                  <a:pt x="695" y="1045"/>
                </a:lnTo>
                <a:lnTo>
                  <a:pt x="684" y="1078"/>
                </a:lnTo>
                <a:lnTo>
                  <a:pt x="669" y="1109"/>
                </a:lnTo>
                <a:lnTo>
                  <a:pt x="655" y="1140"/>
                </a:lnTo>
                <a:lnTo>
                  <a:pt x="641" y="1171"/>
                </a:lnTo>
                <a:lnTo>
                  <a:pt x="624" y="1202"/>
                </a:lnTo>
                <a:lnTo>
                  <a:pt x="610" y="1235"/>
                </a:lnTo>
                <a:lnTo>
                  <a:pt x="591" y="1266"/>
                </a:lnTo>
                <a:lnTo>
                  <a:pt x="574" y="1297"/>
                </a:lnTo>
                <a:lnTo>
                  <a:pt x="536" y="1361"/>
                </a:lnTo>
                <a:lnTo>
                  <a:pt x="498" y="1423"/>
                </a:lnTo>
                <a:lnTo>
                  <a:pt x="476" y="1454"/>
                </a:lnTo>
                <a:lnTo>
                  <a:pt x="457" y="1485"/>
                </a:lnTo>
                <a:lnTo>
                  <a:pt x="436" y="1514"/>
                </a:lnTo>
                <a:lnTo>
                  <a:pt x="417" y="1542"/>
                </a:lnTo>
                <a:lnTo>
                  <a:pt x="395" y="1571"/>
                </a:lnTo>
                <a:lnTo>
                  <a:pt x="376" y="1597"/>
                </a:lnTo>
                <a:lnTo>
                  <a:pt x="355" y="1621"/>
                </a:lnTo>
                <a:lnTo>
                  <a:pt x="333" y="1647"/>
                </a:lnTo>
                <a:lnTo>
                  <a:pt x="314" y="1671"/>
                </a:lnTo>
                <a:lnTo>
                  <a:pt x="293" y="1692"/>
                </a:lnTo>
                <a:lnTo>
                  <a:pt x="274" y="1716"/>
                </a:lnTo>
                <a:lnTo>
                  <a:pt x="252" y="1735"/>
                </a:lnTo>
                <a:lnTo>
                  <a:pt x="231" y="1756"/>
                </a:lnTo>
                <a:lnTo>
                  <a:pt x="212" y="1775"/>
                </a:lnTo>
                <a:lnTo>
                  <a:pt x="190" y="1794"/>
                </a:lnTo>
                <a:lnTo>
                  <a:pt x="171" y="1811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Freeform 41"/>
          <p:cNvSpPr/>
          <p:nvPr/>
        </p:nvSpPr>
        <p:spPr>
          <a:xfrm>
            <a:off x="6113520" y="3151080"/>
            <a:ext cx="1101600" cy="939960"/>
          </a:xfrm>
          <a:custGeom>
            <a:avLst/>
            <a:gdLst/>
            <a:ahLst/>
            <a:rect l="l" t="t" r="r" b="b"/>
            <a:pathLst>
              <a:path w="1737" h="1480">
                <a:moveTo>
                  <a:pt x="1599" y="559"/>
                </a:moveTo>
                <a:lnTo>
                  <a:pt x="1602" y="559"/>
                </a:lnTo>
                <a:lnTo>
                  <a:pt x="1604" y="562"/>
                </a:lnTo>
                <a:lnTo>
                  <a:pt x="1609" y="566"/>
                </a:lnTo>
                <a:lnTo>
                  <a:pt x="1611" y="573"/>
                </a:lnTo>
                <a:lnTo>
                  <a:pt x="1613" y="581"/>
                </a:lnTo>
                <a:lnTo>
                  <a:pt x="1618" y="593"/>
                </a:lnTo>
                <a:lnTo>
                  <a:pt x="1621" y="604"/>
                </a:lnTo>
                <a:lnTo>
                  <a:pt x="1625" y="619"/>
                </a:lnTo>
                <a:lnTo>
                  <a:pt x="1630" y="633"/>
                </a:lnTo>
                <a:lnTo>
                  <a:pt x="1635" y="652"/>
                </a:lnTo>
                <a:lnTo>
                  <a:pt x="1637" y="673"/>
                </a:lnTo>
                <a:lnTo>
                  <a:pt x="1642" y="695"/>
                </a:lnTo>
                <a:lnTo>
                  <a:pt x="1647" y="719"/>
                </a:lnTo>
                <a:lnTo>
                  <a:pt x="1652" y="745"/>
                </a:lnTo>
                <a:lnTo>
                  <a:pt x="1656" y="773"/>
                </a:lnTo>
                <a:lnTo>
                  <a:pt x="1661" y="804"/>
                </a:lnTo>
                <a:lnTo>
                  <a:pt x="1664" y="835"/>
                </a:lnTo>
                <a:lnTo>
                  <a:pt x="1666" y="864"/>
                </a:lnTo>
                <a:lnTo>
                  <a:pt x="1668" y="892"/>
                </a:lnTo>
                <a:lnTo>
                  <a:pt x="1671" y="919"/>
                </a:lnTo>
                <a:lnTo>
                  <a:pt x="1675" y="945"/>
                </a:lnTo>
                <a:lnTo>
                  <a:pt x="1678" y="969"/>
                </a:lnTo>
                <a:lnTo>
                  <a:pt x="1683" y="992"/>
                </a:lnTo>
                <a:lnTo>
                  <a:pt x="1685" y="1014"/>
                </a:lnTo>
                <a:lnTo>
                  <a:pt x="1690" y="1033"/>
                </a:lnTo>
                <a:lnTo>
                  <a:pt x="1694" y="1052"/>
                </a:lnTo>
                <a:lnTo>
                  <a:pt x="1699" y="1069"/>
                </a:lnTo>
                <a:lnTo>
                  <a:pt x="1704" y="1083"/>
                </a:lnTo>
                <a:lnTo>
                  <a:pt x="1706" y="1097"/>
                </a:lnTo>
                <a:lnTo>
                  <a:pt x="1711" y="1109"/>
                </a:lnTo>
                <a:lnTo>
                  <a:pt x="1716" y="1119"/>
                </a:lnTo>
                <a:lnTo>
                  <a:pt x="1721" y="1126"/>
                </a:lnTo>
                <a:lnTo>
                  <a:pt x="1728" y="1147"/>
                </a:lnTo>
                <a:lnTo>
                  <a:pt x="1733" y="1157"/>
                </a:lnTo>
                <a:lnTo>
                  <a:pt x="1735" y="1166"/>
                </a:lnTo>
                <a:lnTo>
                  <a:pt x="1735" y="1176"/>
                </a:lnTo>
                <a:lnTo>
                  <a:pt x="1737" y="1185"/>
                </a:lnTo>
                <a:lnTo>
                  <a:pt x="1737" y="1192"/>
                </a:lnTo>
                <a:lnTo>
                  <a:pt x="1737" y="1202"/>
                </a:lnTo>
                <a:lnTo>
                  <a:pt x="1735" y="1211"/>
                </a:lnTo>
                <a:lnTo>
                  <a:pt x="1735" y="1221"/>
                </a:lnTo>
                <a:lnTo>
                  <a:pt x="1733" y="1228"/>
                </a:lnTo>
                <a:lnTo>
                  <a:pt x="1728" y="1238"/>
                </a:lnTo>
                <a:lnTo>
                  <a:pt x="1725" y="1245"/>
                </a:lnTo>
                <a:lnTo>
                  <a:pt x="1721" y="1254"/>
                </a:lnTo>
                <a:lnTo>
                  <a:pt x="1716" y="1261"/>
                </a:lnTo>
                <a:lnTo>
                  <a:pt x="1709" y="1268"/>
                </a:lnTo>
                <a:lnTo>
                  <a:pt x="1702" y="1276"/>
                </a:lnTo>
                <a:lnTo>
                  <a:pt x="1692" y="1285"/>
                </a:lnTo>
                <a:lnTo>
                  <a:pt x="1683" y="1292"/>
                </a:lnTo>
                <a:lnTo>
                  <a:pt x="1673" y="1299"/>
                </a:lnTo>
                <a:lnTo>
                  <a:pt x="1661" y="1309"/>
                </a:lnTo>
                <a:lnTo>
                  <a:pt x="1647" y="1316"/>
                </a:lnTo>
                <a:lnTo>
                  <a:pt x="1633" y="1326"/>
                </a:lnTo>
                <a:lnTo>
                  <a:pt x="1618" y="1333"/>
                </a:lnTo>
                <a:lnTo>
                  <a:pt x="1602" y="1342"/>
                </a:lnTo>
                <a:lnTo>
                  <a:pt x="1585" y="1349"/>
                </a:lnTo>
                <a:lnTo>
                  <a:pt x="1566" y="1359"/>
                </a:lnTo>
                <a:lnTo>
                  <a:pt x="1544" y="1366"/>
                </a:lnTo>
                <a:lnTo>
                  <a:pt x="1525" y="1376"/>
                </a:lnTo>
                <a:lnTo>
                  <a:pt x="1501" y="1383"/>
                </a:lnTo>
                <a:lnTo>
                  <a:pt x="1480" y="1390"/>
                </a:lnTo>
                <a:lnTo>
                  <a:pt x="1454" y="1397"/>
                </a:lnTo>
                <a:lnTo>
                  <a:pt x="1430" y="1406"/>
                </a:lnTo>
                <a:lnTo>
                  <a:pt x="1404" y="1411"/>
                </a:lnTo>
                <a:lnTo>
                  <a:pt x="1375" y="1418"/>
                </a:lnTo>
                <a:lnTo>
                  <a:pt x="1349" y="1426"/>
                </a:lnTo>
                <a:lnTo>
                  <a:pt x="1320" y="1430"/>
                </a:lnTo>
                <a:lnTo>
                  <a:pt x="1289" y="1437"/>
                </a:lnTo>
                <a:lnTo>
                  <a:pt x="1261" y="1442"/>
                </a:lnTo>
                <a:lnTo>
                  <a:pt x="1230" y="1447"/>
                </a:lnTo>
                <a:lnTo>
                  <a:pt x="1199" y="1452"/>
                </a:lnTo>
                <a:lnTo>
                  <a:pt x="1166" y="1456"/>
                </a:lnTo>
                <a:lnTo>
                  <a:pt x="1132" y="1459"/>
                </a:lnTo>
                <a:lnTo>
                  <a:pt x="1099" y="1464"/>
                </a:lnTo>
                <a:lnTo>
                  <a:pt x="1065" y="1466"/>
                </a:lnTo>
                <a:lnTo>
                  <a:pt x="1030" y="1471"/>
                </a:lnTo>
                <a:lnTo>
                  <a:pt x="994" y="1473"/>
                </a:lnTo>
                <a:lnTo>
                  <a:pt x="958" y="1476"/>
                </a:lnTo>
                <a:lnTo>
                  <a:pt x="922" y="1478"/>
                </a:lnTo>
                <a:lnTo>
                  <a:pt x="889" y="1480"/>
                </a:lnTo>
                <a:lnTo>
                  <a:pt x="856" y="1480"/>
                </a:lnTo>
                <a:lnTo>
                  <a:pt x="822" y="1480"/>
                </a:lnTo>
                <a:lnTo>
                  <a:pt x="791" y="1480"/>
                </a:lnTo>
                <a:lnTo>
                  <a:pt x="760" y="1480"/>
                </a:lnTo>
                <a:lnTo>
                  <a:pt x="732" y="1480"/>
                </a:lnTo>
                <a:lnTo>
                  <a:pt x="703" y="1478"/>
                </a:lnTo>
                <a:lnTo>
                  <a:pt x="677" y="1478"/>
                </a:lnTo>
                <a:lnTo>
                  <a:pt x="651" y="1476"/>
                </a:lnTo>
                <a:lnTo>
                  <a:pt x="625" y="1473"/>
                </a:lnTo>
                <a:lnTo>
                  <a:pt x="601" y="1473"/>
                </a:lnTo>
                <a:lnTo>
                  <a:pt x="577" y="1471"/>
                </a:lnTo>
                <a:lnTo>
                  <a:pt x="553" y="1468"/>
                </a:lnTo>
                <a:lnTo>
                  <a:pt x="532" y="1466"/>
                </a:lnTo>
                <a:lnTo>
                  <a:pt x="513" y="1464"/>
                </a:lnTo>
                <a:lnTo>
                  <a:pt x="472" y="1452"/>
                </a:lnTo>
                <a:lnTo>
                  <a:pt x="434" y="1440"/>
                </a:lnTo>
                <a:lnTo>
                  <a:pt x="398" y="1428"/>
                </a:lnTo>
                <a:lnTo>
                  <a:pt x="365" y="1414"/>
                </a:lnTo>
                <a:lnTo>
                  <a:pt x="334" y="1399"/>
                </a:lnTo>
                <a:lnTo>
                  <a:pt x="303" y="1383"/>
                </a:lnTo>
                <a:lnTo>
                  <a:pt x="274" y="1366"/>
                </a:lnTo>
                <a:lnTo>
                  <a:pt x="246" y="1347"/>
                </a:lnTo>
                <a:lnTo>
                  <a:pt x="220" y="1328"/>
                </a:lnTo>
                <a:lnTo>
                  <a:pt x="196" y="1307"/>
                </a:lnTo>
                <a:lnTo>
                  <a:pt x="174" y="1287"/>
                </a:lnTo>
                <a:lnTo>
                  <a:pt x="155" y="1268"/>
                </a:lnTo>
                <a:lnTo>
                  <a:pt x="139" y="1249"/>
                </a:lnTo>
                <a:lnTo>
                  <a:pt x="124" y="1230"/>
                </a:lnTo>
                <a:lnTo>
                  <a:pt x="110" y="1211"/>
                </a:lnTo>
                <a:lnTo>
                  <a:pt x="100" y="1192"/>
                </a:lnTo>
                <a:lnTo>
                  <a:pt x="88" y="1171"/>
                </a:lnTo>
                <a:lnTo>
                  <a:pt x="77" y="1149"/>
                </a:lnTo>
                <a:lnTo>
                  <a:pt x="69" y="1128"/>
                </a:lnTo>
                <a:lnTo>
                  <a:pt x="62" y="1104"/>
                </a:lnTo>
                <a:lnTo>
                  <a:pt x="55" y="1078"/>
                </a:lnTo>
                <a:lnTo>
                  <a:pt x="50" y="1054"/>
                </a:lnTo>
                <a:lnTo>
                  <a:pt x="46" y="1026"/>
                </a:lnTo>
                <a:lnTo>
                  <a:pt x="41" y="997"/>
                </a:lnTo>
                <a:lnTo>
                  <a:pt x="38" y="985"/>
                </a:lnTo>
                <a:lnTo>
                  <a:pt x="36" y="969"/>
                </a:lnTo>
                <a:lnTo>
                  <a:pt x="34" y="954"/>
                </a:lnTo>
                <a:lnTo>
                  <a:pt x="34" y="935"/>
                </a:lnTo>
                <a:lnTo>
                  <a:pt x="34" y="916"/>
                </a:lnTo>
                <a:lnTo>
                  <a:pt x="31" y="892"/>
                </a:lnTo>
                <a:lnTo>
                  <a:pt x="31" y="871"/>
                </a:lnTo>
                <a:lnTo>
                  <a:pt x="31" y="845"/>
                </a:lnTo>
                <a:lnTo>
                  <a:pt x="31" y="819"/>
                </a:lnTo>
                <a:lnTo>
                  <a:pt x="31" y="792"/>
                </a:lnTo>
                <a:lnTo>
                  <a:pt x="34" y="764"/>
                </a:lnTo>
                <a:lnTo>
                  <a:pt x="34" y="733"/>
                </a:lnTo>
                <a:lnTo>
                  <a:pt x="34" y="700"/>
                </a:lnTo>
                <a:lnTo>
                  <a:pt x="36" y="666"/>
                </a:lnTo>
                <a:lnTo>
                  <a:pt x="38" y="633"/>
                </a:lnTo>
                <a:lnTo>
                  <a:pt x="41" y="597"/>
                </a:lnTo>
                <a:lnTo>
                  <a:pt x="43" y="562"/>
                </a:lnTo>
                <a:lnTo>
                  <a:pt x="43" y="526"/>
                </a:lnTo>
                <a:lnTo>
                  <a:pt x="43" y="493"/>
                </a:lnTo>
                <a:lnTo>
                  <a:pt x="46" y="462"/>
                </a:lnTo>
                <a:lnTo>
                  <a:pt x="46" y="431"/>
                </a:lnTo>
                <a:lnTo>
                  <a:pt x="43" y="400"/>
                </a:lnTo>
                <a:lnTo>
                  <a:pt x="43" y="371"/>
                </a:lnTo>
                <a:lnTo>
                  <a:pt x="41" y="343"/>
                </a:lnTo>
                <a:lnTo>
                  <a:pt x="38" y="316"/>
                </a:lnTo>
                <a:lnTo>
                  <a:pt x="36" y="290"/>
                </a:lnTo>
                <a:lnTo>
                  <a:pt x="34" y="266"/>
                </a:lnTo>
                <a:lnTo>
                  <a:pt x="31" y="243"/>
                </a:lnTo>
                <a:lnTo>
                  <a:pt x="29" y="219"/>
                </a:lnTo>
                <a:lnTo>
                  <a:pt x="24" y="197"/>
                </a:lnTo>
                <a:lnTo>
                  <a:pt x="19" y="178"/>
                </a:lnTo>
                <a:lnTo>
                  <a:pt x="17" y="157"/>
                </a:lnTo>
                <a:lnTo>
                  <a:pt x="12" y="140"/>
                </a:lnTo>
                <a:lnTo>
                  <a:pt x="7" y="126"/>
                </a:lnTo>
                <a:lnTo>
                  <a:pt x="5" y="112"/>
                </a:lnTo>
                <a:lnTo>
                  <a:pt x="3" y="97"/>
                </a:lnTo>
                <a:lnTo>
                  <a:pt x="0" y="83"/>
                </a:lnTo>
                <a:lnTo>
                  <a:pt x="0" y="71"/>
                </a:lnTo>
                <a:lnTo>
                  <a:pt x="0" y="62"/>
                </a:lnTo>
                <a:lnTo>
                  <a:pt x="0" y="52"/>
                </a:lnTo>
                <a:lnTo>
                  <a:pt x="0" y="43"/>
                </a:lnTo>
                <a:lnTo>
                  <a:pt x="3" y="33"/>
                </a:lnTo>
                <a:lnTo>
                  <a:pt x="5" y="26"/>
                </a:lnTo>
                <a:lnTo>
                  <a:pt x="7" y="19"/>
                </a:lnTo>
                <a:lnTo>
                  <a:pt x="12" y="14"/>
                </a:lnTo>
                <a:lnTo>
                  <a:pt x="17" y="9"/>
                </a:lnTo>
                <a:lnTo>
                  <a:pt x="22" y="5"/>
                </a:lnTo>
                <a:lnTo>
                  <a:pt x="29" y="2"/>
                </a:lnTo>
                <a:lnTo>
                  <a:pt x="34" y="0"/>
                </a:lnTo>
                <a:lnTo>
                  <a:pt x="38" y="0"/>
                </a:lnTo>
                <a:lnTo>
                  <a:pt x="43" y="0"/>
                </a:lnTo>
                <a:lnTo>
                  <a:pt x="50" y="0"/>
                </a:lnTo>
                <a:lnTo>
                  <a:pt x="58" y="2"/>
                </a:lnTo>
                <a:lnTo>
                  <a:pt x="67" y="2"/>
                </a:lnTo>
                <a:lnTo>
                  <a:pt x="74" y="7"/>
                </a:lnTo>
                <a:lnTo>
                  <a:pt x="84" y="9"/>
                </a:lnTo>
                <a:lnTo>
                  <a:pt x="93" y="14"/>
                </a:lnTo>
                <a:lnTo>
                  <a:pt x="105" y="21"/>
                </a:lnTo>
                <a:lnTo>
                  <a:pt x="117" y="26"/>
                </a:lnTo>
                <a:lnTo>
                  <a:pt x="129" y="33"/>
                </a:lnTo>
                <a:lnTo>
                  <a:pt x="141" y="40"/>
                </a:lnTo>
                <a:lnTo>
                  <a:pt x="155" y="50"/>
                </a:lnTo>
                <a:lnTo>
                  <a:pt x="169" y="57"/>
                </a:lnTo>
                <a:lnTo>
                  <a:pt x="186" y="67"/>
                </a:lnTo>
                <a:lnTo>
                  <a:pt x="186" y="69"/>
                </a:lnTo>
                <a:lnTo>
                  <a:pt x="186" y="74"/>
                </a:lnTo>
                <a:lnTo>
                  <a:pt x="186" y="78"/>
                </a:lnTo>
                <a:lnTo>
                  <a:pt x="186" y="83"/>
                </a:lnTo>
                <a:lnTo>
                  <a:pt x="186" y="88"/>
                </a:lnTo>
                <a:lnTo>
                  <a:pt x="186" y="95"/>
                </a:lnTo>
                <a:lnTo>
                  <a:pt x="186" y="102"/>
                </a:lnTo>
                <a:lnTo>
                  <a:pt x="186" y="112"/>
                </a:lnTo>
                <a:lnTo>
                  <a:pt x="184" y="119"/>
                </a:lnTo>
                <a:lnTo>
                  <a:pt x="184" y="128"/>
                </a:lnTo>
                <a:lnTo>
                  <a:pt x="184" y="140"/>
                </a:lnTo>
                <a:lnTo>
                  <a:pt x="184" y="150"/>
                </a:lnTo>
                <a:lnTo>
                  <a:pt x="184" y="162"/>
                </a:lnTo>
                <a:lnTo>
                  <a:pt x="184" y="176"/>
                </a:lnTo>
                <a:lnTo>
                  <a:pt x="184" y="188"/>
                </a:lnTo>
                <a:lnTo>
                  <a:pt x="184" y="202"/>
                </a:lnTo>
                <a:lnTo>
                  <a:pt x="184" y="219"/>
                </a:lnTo>
                <a:lnTo>
                  <a:pt x="184" y="233"/>
                </a:lnTo>
                <a:lnTo>
                  <a:pt x="181" y="250"/>
                </a:lnTo>
                <a:lnTo>
                  <a:pt x="181" y="266"/>
                </a:lnTo>
                <a:lnTo>
                  <a:pt x="181" y="286"/>
                </a:lnTo>
                <a:lnTo>
                  <a:pt x="181" y="305"/>
                </a:lnTo>
                <a:lnTo>
                  <a:pt x="181" y="324"/>
                </a:lnTo>
                <a:lnTo>
                  <a:pt x="179" y="343"/>
                </a:lnTo>
                <a:lnTo>
                  <a:pt x="179" y="364"/>
                </a:lnTo>
                <a:lnTo>
                  <a:pt x="179" y="385"/>
                </a:lnTo>
                <a:lnTo>
                  <a:pt x="179" y="409"/>
                </a:lnTo>
                <a:lnTo>
                  <a:pt x="177" y="431"/>
                </a:lnTo>
                <a:lnTo>
                  <a:pt x="177" y="457"/>
                </a:lnTo>
                <a:lnTo>
                  <a:pt x="174" y="481"/>
                </a:lnTo>
                <a:lnTo>
                  <a:pt x="174" y="507"/>
                </a:lnTo>
                <a:lnTo>
                  <a:pt x="174" y="533"/>
                </a:lnTo>
                <a:lnTo>
                  <a:pt x="172" y="559"/>
                </a:lnTo>
                <a:lnTo>
                  <a:pt x="172" y="588"/>
                </a:lnTo>
                <a:lnTo>
                  <a:pt x="169" y="614"/>
                </a:lnTo>
                <a:lnTo>
                  <a:pt x="169" y="638"/>
                </a:lnTo>
                <a:lnTo>
                  <a:pt x="169" y="664"/>
                </a:lnTo>
                <a:lnTo>
                  <a:pt x="169" y="688"/>
                </a:lnTo>
                <a:lnTo>
                  <a:pt x="169" y="712"/>
                </a:lnTo>
                <a:lnTo>
                  <a:pt x="169" y="733"/>
                </a:lnTo>
                <a:lnTo>
                  <a:pt x="169" y="754"/>
                </a:lnTo>
                <a:lnTo>
                  <a:pt x="169" y="776"/>
                </a:lnTo>
                <a:lnTo>
                  <a:pt x="169" y="797"/>
                </a:lnTo>
                <a:lnTo>
                  <a:pt x="169" y="819"/>
                </a:lnTo>
                <a:lnTo>
                  <a:pt x="169" y="838"/>
                </a:lnTo>
                <a:lnTo>
                  <a:pt x="172" y="857"/>
                </a:lnTo>
                <a:lnTo>
                  <a:pt x="172" y="873"/>
                </a:lnTo>
                <a:lnTo>
                  <a:pt x="174" y="890"/>
                </a:lnTo>
                <a:lnTo>
                  <a:pt x="174" y="907"/>
                </a:lnTo>
                <a:lnTo>
                  <a:pt x="177" y="923"/>
                </a:lnTo>
                <a:lnTo>
                  <a:pt x="177" y="938"/>
                </a:lnTo>
                <a:lnTo>
                  <a:pt x="179" y="954"/>
                </a:lnTo>
                <a:lnTo>
                  <a:pt x="181" y="966"/>
                </a:lnTo>
                <a:lnTo>
                  <a:pt x="184" y="980"/>
                </a:lnTo>
                <a:lnTo>
                  <a:pt x="184" y="992"/>
                </a:lnTo>
                <a:lnTo>
                  <a:pt x="186" y="1004"/>
                </a:lnTo>
                <a:lnTo>
                  <a:pt x="189" y="1016"/>
                </a:lnTo>
                <a:lnTo>
                  <a:pt x="191" y="1026"/>
                </a:lnTo>
                <a:lnTo>
                  <a:pt x="193" y="1035"/>
                </a:lnTo>
                <a:lnTo>
                  <a:pt x="198" y="1045"/>
                </a:lnTo>
                <a:lnTo>
                  <a:pt x="200" y="1054"/>
                </a:lnTo>
                <a:lnTo>
                  <a:pt x="203" y="1061"/>
                </a:lnTo>
                <a:lnTo>
                  <a:pt x="205" y="1069"/>
                </a:lnTo>
                <a:lnTo>
                  <a:pt x="210" y="1076"/>
                </a:lnTo>
                <a:lnTo>
                  <a:pt x="217" y="1090"/>
                </a:lnTo>
                <a:lnTo>
                  <a:pt x="224" y="1102"/>
                </a:lnTo>
                <a:lnTo>
                  <a:pt x="234" y="1116"/>
                </a:lnTo>
                <a:lnTo>
                  <a:pt x="243" y="1128"/>
                </a:lnTo>
                <a:lnTo>
                  <a:pt x="253" y="1140"/>
                </a:lnTo>
                <a:lnTo>
                  <a:pt x="265" y="1152"/>
                </a:lnTo>
                <a:lnTo>
                  <a:pt x="277" y="1161"/>
                </a:lnTo>
                <a:lnTo>
                  <a:pt x="291" y="1171"/>
                </a:lnTo>
                <a:lnTo>
                  <a:pt x="305" y="1180"/>
                </a:lnTo>
                <a:lnTo>
                  <a:pt x="320" y="1190"/>
                </a:lnTo>
                <a:lnTo>
                  <a:pt x="336" y="1197"/>
                </a:lnTo>
                <a:lnTo>
                  <a:pt x="353" y="1207"/>
                </a:lnTo>
                <a:lnTo>
                  <a:pt x="370" y="1214"/>
                </a:lnTo>
                <a:lnTo>
                  <a:pt x="389" y="1218"/>
                </a:lnTo>
                <a:lnTo>
                  <a:pt x="408" y="1226"/>
                </a:lnTo>
                <a:lnTo>
                  <a:pt x="427" y="1230"/>
                </a:lnTo>
                <a:lnTo>
                  <a:pt x="448" y="1238"/>
                </a:lnTo>
                <a:lnTo>
                  <a:pt x="467" y="1245"/>
                </a:lnTo>
                <a:lnTo>
                  <a:pt x="486" y="1249"/>
                </a:lnTo>
                <a:lnTo>
                  <a:pt x="505" y="1254"/>
                </a:lnTo>
                <a:lnTo>
                  <a:pt x="544" y="1264"/>
                </a:lnTo>
                <a:lnTo>
                  <a:pt x="582" y="1271"/>
                </a:lnTo>
                <a:lnTo>
                  <a:pt x="617" y="1276"/>
                </a:lnTo>
                <a:lnTo>
                  <a:pt x="651" y="1280"/>
                </a:lnTo>
                <a:lnTo>
                  <a:pt x="684" y="1280"/>
                </a:lnTo>
                <a:lnTo>
                  <a:pt x="718" y="1283"/>
                </a:lnTo>
                <a:lnTo>
                  <a:pt x="732" y="1283"/>
                </a:lnTo>
                <a:lnTo>
                  <a:pt x="746" y="1280"/>
                </a:lnTo>
                <a:lnTo>
                  <a:pt x="763" y="1280"/>
                </a:lnTo>
                <a:lnTo>
                  <a:pt x="777" y="1280"/>
                </a:lnTo>
                <a:lnTo>
                  <a:pt x="796" y="1278"/>
                </a:lnTo>
                <a:lnTo>
                  <a:pt x="813" y="1278"/>
                </a:lnTo>
                <a:lnTo>
                  <a:pt x="832" y="1276"/>
                </a:lnTo>
                <a:lnTo>
                  <a:pt x="851" y="1273"/>
                </a:lnTo>
                <a:lnTo>
                  <a:pt x="872" y="1271"/>
                </a:lnTo>
                <a:lnTo>
                  <a:pt x="894" y="1271"/>
                </a:lnTo>
                <a:lnTo>
                  <a:pt x="915" y="1268"/>
                </a:lnTo>
                <a:lnTo>
                  <a:pt x="937" y="1266"/>
                </a:lnTo>
                <a:lnTo>
                  <a:pt x="958" y="1264"/>
                </a:lnTo>
                <a:lnTo>
                  <a:pt x="982" y="1261"/>
                </a:lnTo>
                <a:lnTo>
                  <a:pt x="1006" y="1259"/>
                </a:lnTo>
                <a:lnTo>
                  <a:pt x="1032" y="1257"/>
                </a:lnTo>
                <a:lnTo>
                  <a:pt x="1080" y="1249"/>
                </a:lnTo>
                <a:lnTo>
                  <a:pt x="1130" y="1242"/>
                </a:lnTo>
                <a:lnTo>
                  <a:pt x="1175" y="1233"/>
                </a:lnTo>
                <a:lnTo>
                  <a:pt x="1218" y="1221"/>
                </a:lnTo>
                <a:lnTo>
                  <a:pt x="1239" y="1214"/>
                </a:lnTo>
                <a:lnTo>
                  <a:pt x="1261" y="1209"/>
                </a:lnTo>
                <a:lnTo>
                  <a:pt x="1280" y="1202"/>
                </a:lnTo>
                <a:lnTo>
                  <a:pt x="1301" y="1195"/>
                </a:lnTo>
                <a:lnTo>
                  <a:pt x="1318" y="1188"/>
                </a:lnTo>
                <a:lnTo>
                  <a:pt x="1337" y="1180"/>
                </a:lnTo>
                <a:lnTo>
                  <a:pt x="1354" y="1173"/>
                </a:lnTo>
                <a:lnTo>
                  <a:pt x="1370" y="1166"/>
                </a:lnTo>
                <a:lnTo>
                  <a:pt x="1385" y="1157"/>
                </a:lnTo>
                <a:lnTo>
                  <a:pt x="1399" y="1147"/>
                </a:lnTo>
                <a:lnTo>
                  <a:pt x="1413" y="1135"/>
                </a:lnTo>
                <a:lnTo>
                  <a:pt x="1428" y="1121"/>
                </a:lnTo>
                <a:lnTo>
                  <a:pt x="1440" y="1107"/>
                </a:lnTo>
                <a:lnTo>
                  <a:pt x="1451" y="1090"/>
                </a:lnTo>
                <a:lnTo>
                  <a:pt x="1463" y="1071"/>
                </a:lnTo>
                <a:lnTo>
                  <a:pt x="1473" y="1049"/>
                </a:lnTo>
                <a:lnTo>
                  <a:pt x="1482" y="1028"/>
                </a:lnTo>
                <a:lnTo>
                  <a:pt x="1492" y="1004"/>
                </a:lnTo>
                <a:lnTo>
                  <a:pt x="1501" y="980"/>
                </a:lnTo>
                <a:lnTo>
                  <a:pt x="1509" y="952"/>
                </a:lnTo>
                <a:lnTo>
                  <a:pt x="1518" y="923"/>
                </a:lnTo>
                <a:lnTo>
                  <a:pt x="1525" y="895"/>
                </a:lnTo>
                <a:lnTo>
                  <a:pt x="1532" y="864"/>
                </a:lnTo>
                <a:lnTo>
                  <a:pt x="1540" y="831"/>
                </a:lnTo>
                <a:lnTo>
                  <a:pt x="1547" y="797"/>
                </a:lnTo>
                <a:lnTo>
                  <a:pt x="1552" y="766"/>
                </a:lnTo>
                <a:lnTo>
                  <a:pt x="1556" y="738"/>
                </a:lnTo>
                <a:lnTo>
                  <a:pt x="1561" y="712"/>
                </a:lnTo>
                <a:lnTo>
                  <a:pt x="1566" y="685"/>
                </a:lnTo>
                <a:lnTo>
                  <a:pt x="1571" y="664"/>
                </a:lnTo>
                <a:lnTo>
                  <a:pt x="1575" y="645"/>
                </a:lnTo>
                <a:lnTo>
                  <a:pt x="1578" y="626"/>
                </a:lnTo>
                <a:lnTo>
                  <a:pt x="1582" y="609"/>
                </a:lnTo>
                <a:lnTo>
                  <a:pt x="1585" y="597"/>
                </a:lnTo>
                <a:lnTo>
                  <a:pt x="1587" y="585"/>
                </a:lnTo>
                <a:lnTo>
                  <a:pt x="1590" y="576"/>
                </a:lnTo>
                <a:lnTo>
                  <a:pt x="1592" y="569"/>
                </a:lnTo>
                <a:lnTo>
                  <a:pt x="1594" y="562"/>
                </a:lnTo>
                <a:lnTo>
                  <a:pt x="1597" y="559"/>
                </a:lnTo>
                <a:lnTo>
                  <a:pt x="1599" y="55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55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75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0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5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0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1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6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古诗二首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第二课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5" name="图片 309251" descr="timg"/>
          <p:cNvPicPr/>
          <p:nvPr/>
        </p:nvPicPr>
        <p:blipFill>
          <a:blip r:embed="rId1"/>
          <a:srcRect l="0" t="0" r="0" b="4685"/>
          <a:stretch/>
        </p:blipFill>
        <p:spPr>
          <a:xfrm>
            <a:off x="-22320" y="0"/>
            <a:ext cx="9188640" cy="6858000"/>
          </a:xfrm>
          <a:prstGeom prst="rect">
            <a:avLst/>
          </a:prstGeom>
          <a:ln w="0">
            <a:noFill/>
          </a:ln>
        </p:spPr>
      </p:pic>
      <p:sp>
        <p:nvSpPr>
          <p:cNvPr id="826" name="文本框 309252"/>
          <p:cNvSpPr/>
          <p:nvPr/>
        </p:nvSpPr>
        <p:spPr>
          <a:xfrm>
            <a:off x="2306520" y="774720"/>
            <a:ext cx="4162680" cy="24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Calibri"/>
                <a:ea typeface="宋体"/>
              </a:rPr>
              <a:t>敕勒</a:t>
            </a:r>
            <a:r>
              <a:rPr b="0" lang="zh-CN" sz="8000" spc="-1" strike="noStrike">
                <a:solidFill>
                  <a:srgbClr val="411b3c"/>
                </a:solidFill>
                <a:latin typeface="Calibri"/>
                <a:ea typeface="宋体"/>
              </a:rPr>
              <a:t>歌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411b3c"/>
                </a:solidFill>
                <a:latin typeface="Calibri"/>
                <a:ea typeface="宋体"/>
              </a:rPr>
              <a:t>北朝民歌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文本框 2"/>
          <p:cNvSpPr/>
          <p:nvPr/>
        </p:nvSpPr>
        <p:spPr>
          <a:xfrm>
            <a:off x="2498760" y="185760"/>
            <a:ext cx="2097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chì   lè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8" name="图片 1" descr="01300543364049148532130108634_s"/>
          <p:cNvPicPr/>
          <p:nvPr/>
        </p:nvPicPr>
        <p:blipFill>
          <a:blip r:embed="rId1"/>
          <a:stretch/>
        </p:blipFill>
        <p:spPr>
          <a:xfrm>
            <a:off x="-38160" y="-6480"/>
            <a:ext cx="5016600" cy="3456000"/>
          </a:xfrm>
          <a:prstGeom prst="rect">
            <a:avLst/>
          </a:prstGeom>
          <a:ln w="0">
            <a:noFill/>
          </a:ln>
        </p:spPr>
      </p:pic>
      <p:pic>
        <p:nvPicPr>
          <p:cNvPr id="829" name="图片 2" descr="0"/>
          <p:cNvPicPr/>
          <p:nvPr/>
        </p:nvPicPr>
        <p:blipFill>
          <a:blip r:embed="rId2"/>
          <a:stretch/>
        </p:blipFill>
        <p:spPr>
          <a:xfrm>
            <a:off x="4978440" y="-6480"/>
            <a:ext cx="4114800" cy="6310440"/>
          </a:xfrm>
          <a:prstGeom prst="rect">
            <a:avLst/>
          </a:prstGeom>
          <a:ln w="0">
            <a:noFill/>
          </a:ln>
        </p:spPr>
      </p:pic>
      <p:sp>
        <p:nvSpPr>
          <p:cNvPr id="830" name="文本框 3"/>
          <p:cNvSpPr/>
          <p:nvPr/>
        </p:nvSpPr>
        <p:spPr>
          <a:xfrm>
            <a:off x="-38160" y="3449520"/>
            <a:ext cx="5114880" cy="25311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敕勒人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最早生活在勒拿河至贝加尔湖附近，在冒顿单于时臣属于</a:t>
            </a: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宋体"/>
              </a:rPr>
              <a:t>匈奴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文本框 306181"/>
          <p:cNvSpPr/>
          <p:nvPr/>
        </p:nvSpPr>
        <p:spPr>
          <a:xfrm>
            <a:off x="2905200" y="1566720"/>
            <a:ext cx="43606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Calibri"/>
                <a:ea typeface="宋体"/>
              </a:rPr>
              <a:t>自学提示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Calibri"/>
                <a:ea typeface="宋体"/>
              </a:rPr>
              <a:t>一读：自读古诗，看准拼音，把生字多读几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Calibri"/>
                <a:ea typeface="宋体"/>
              </a:rPr>
              <a:t>二读：同桌互助学习，一人读，一人听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Calibri"/>
                <a:ea typeface="宋体"/>
              </a:rPr>
              <a:t>三读：同桌配合读，试着读出节奏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Text Box 5"/>
          <p:cNvSpPr/>
          <p:nvPr/>
        </p:nvSpPr>
        <p:spPr>
          <a:xfrm>
            <a:off x="1019160" y="1028880"/>
            <a:ext cx="6883560" cy="29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敕勒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北朝民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敕勒川，阴山下。天似穹庐，笼盖四野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天苍苍，野茫茫。风吹草低见牛羊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3" name="图片 12" descr=""/>
          <p:cNvPicPr/>
          <p:nvPr/>
        </p:nvPicPr>
        <p:blipFill>
          <a:blip r:embed="rId1"/>
          <a:stretch/>
        </p:blipFill>
        <p:spPr>
          <a:xfrm>
            <a:off x="1670040" y="4092480"/>
            <a:ext cx="595296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/>
          </p:nvPr>
        </p:nvSpPr>
        <p:spPr>
          <a:xfrm>
            <a:off x="450720" y="4392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敕勒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北朝民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敕勒川，阴山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天似穹庐，笼盖四野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天苍苍，野茫茫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风吹草低见牛羊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5" name="图片 12" descr=""/>
          <p:cNvPicPr/>
          <p:nvPr/>
        </p:nvPicPr>
        <p:blipFill>
          <a:blip r:embed="rId1"/>
          <a:stretch/>
        </p:blipFill>
        <p:spPr>
          <a:xfrm>
            <a:off x="1023840" y="4299120"/>
            <a:ext cx="7027920" cy="2414520"/>
          </a:xfrm>
          <a:prstGeom prst="rect">
            <a:avLst/>
          </a:prstGeom>
          <a:ln w="0">
            <a:noFill/>
          </a:ln>
        </p:spPr>
      </p:pic>
      <p:sp>
        <p:nvSpPr>
          <p:cNvPr id="836" name="直接连接符 311302"/>
          <p:cNvSpPr/>
          <p:nvPr/>
        </p:nvSpPr>
        <p:spPr>
          <a:xfrm flipH="1">
            <a:off x="3672000" y="3438360"/>
            <a:ext cx="149040" cy="465480"/>
          </a:xfrm>
          <a:prstGeom prst="line">
            <a:avLst/>
          </a:prstGeom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直接连接符 311303"/>
          <p:cNvSpPr/>
          <p:nvPr/>
        </p:nvSpPr>
        <p:spPr>
          <a:xfrm flipH="1">
            <a:off x="4487400" y="3438360"/>
            <a:ext cx="149400" cy="465480"/>
          </a:xfrm>
          <a:prstGeom prst="line">
            <a:avLst/>
          </a:prstGeom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直接连接符 311304"/>
          <p:cNvSpPr/>
          <p:nvPr/>
        </p:nvSpPr>
        <p:spPr>
          <a:xfrm flipH="1">
            <a:off x="4927680" y="3438360"/>
            <a:ext cx="149040" cy="465480"/>
          </a:xfrm>
          <a:prstGeom prst="line">
            <a:avLst/>
          </a:prstGeom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Calibri"/>
              </a:rPr>
              <a:t>敕勒川   </a:t>
            </a:r>
            <a:r>
              <a:rPr b="0" lang="zh-CN" sz="5400" spc="-1" strike="noStrike">
                <a:solidFill>
                  <a:srgbClr val="0000ff"/>
                </a:solidFill>
                <a:latin typeface="Calibri"/>
              </a:rPr>
              <a:t>阴</a:t>
            </a:r>
            <a:r>
              <a:rPr b="0" lang="zh-CN" sz="5400" spc="-1" strike="noStrike">
                <a:solidFill>
                  <a:srgbClr val="000000"/>
                </a:solidFill>
                <a:latin typeface="Calibri"/>
              </a:rPr>
              <a:t>山  天</a:t>
            </a:r>
            <a:r>
              <a:rPr b="0" lang="zh-CN" sz="5400" spc="-1" strike="noStrike">
                <a:solidFill>
                  <a:srgbClr val="0000ff"/>
                </a:solidFill>
                <a:latin typeface="Calibri"/>
              </a:rPr>
              <a:t>似</a:t>
            </a:r>
            <a:r>
              <a:rPr b="0" lang="zh-CN" sz="5400" spc="-1" strike="noStrike">
                <a:solidFill>
                  <a:srgbClr val="000000"/>
                </a:solidFill>
                <a:latin typeface="Calibri"/>
              </a:rPr>
              <a:t>穹</a:t>
            </a:r>
            <a:r>
              <a:rPr b="0" lang="zh-CN" sz="5400" spc="-1" strike="noStrike">
                <a:solidFill>
                  <a:srgbClr val="0000ff"/>
                </a:solidFill>
                <a:latin typeface="Calibri"/>
              </a:rPr>
              <a:t>庐</a:t>
            </a:r>
            <a:r>
              <a:rPr b="0" lang="zh-CN" sz="5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Calibri"/>
              </a:rPr>
              <a:t>笼盖</a:t>
            </a:r>
            <a:r>
              <a:rPr b="0" lang="zh-CN" sz="5400" spc="-1" strike="noStrike">
                <a:solidFill>
                  <a:srgbClr val="000000"/>
                </a:solidFill>
                <a:latin typeface="Calibri"/>
              </a:rPr>
              <a:t>   天</a:t>
            </a:r>
            <a:r>
              <a:rPr b="0" lang="zh-CN" sz="5400" spc="-1" strike="noStrike">
                <a:solidFill>
                  <a:srgbClr val="0000ff"/>
                </a:solidFill>
                <a:latin typeface="Calibri"/>
              </a:rPr>
              <a:t>苍苍</a:t>
            </a:r>
            <a:r>
              <a:rPr b="0" lang="zh-CN" sz="5400" spc="-1" strike="noStrike">
                <a:solidFill>
                  <a:srgbClr val="000000"/>
                </a:solidFill>
                <a:latin typeface="Calibri"/>
              </a:rPr>
              <a:t>     野</a:t>
            </a:r>
            <a:r>
              <a:rPr b="0" lang="zh-CN" sz="5400" spc="-1" strike="noStrike">
                <a:solidFill>
                  <a:srgbClr val="0000ff"/>
                </a:solidFill>
                <a:latin typeface="Calibri"/>
              </a:rPr>
              <a:t>茫茫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图片 1" descr="timg (8)"/>
          <p:cNvPicPr/>
          <p:nvPr/>
        </p:nvPicPr>
        <p:blipFill>
          <a:blip r:embed="rId1"/>
          <a:stretch/>
        </p:blipFill>
        <p:spPr>
          <a:xfrm>
            <a:off x="-73080" y="0"/>
            <a:ext cx="9226440" cy="6858000"/>
          </a:xfrm>
          <a:prstGeom prst="rect">
            <a:avLst/>
          </a:prstGeom>
          <a:ln w="0">
            <a:noFill/>
          </a:ln>
        </p:spPr>
      </p:pic>
      <p:sp>
        <p:nvSpPr>
          <p:cNvPr id="610" name="文本框 2"/>
          <p:cNvSpPr/>
          <p:nvPr/>
        </p:nvSpPr>
        <p:spPr>
          <a:xfrm>
            <a:off x="92160" y="163440"/>
            <a:ext cx="3706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Calibri"/>
                <a:ea typeface="宋体"/>
              </a:rPr>
              <a:t>江心</a:t>
            </a:r>
            <a:r>
              <a:rPr b="0" lang="zh-CN" sz="7200" spc="-1" strike="noStrike">
                <a:solidFill>
                  <a:srgbClr val="ff0000"/>
                </a:solidFill>
                <a:latin typeface="Calibri"/>
                <a:ea typeface="宋体"/>
              </a:rPr>
              <a:t>寺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7200" spc="-1" strike="noStrike">
                <a:solidFill>
                  <a:srgbClr val="4f81bd"/>
                </a:solidFill>
                <a:latin typeface="Calibri"/>
                <a:ea typeface="宋体"/>
              </a:rPr>
              <a:t>湖北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1" name="Picture 2" descr="C:\Users\Administrator\Desktop\可改图标 - 副本\品读释疑.png"/>
          <p:cNvPicPr/>
          <p:nvPr/>
        </p:nvPicPr>
        <p:blipFill>
          <a:blip r:embed="rId1"/>
          <a:stretch/>
        </p:blipFill>
        <p:spPr>
          <a:xfrm>
            <a:off x="3343320" y="282600"/>
            <a:ext cx="2571840" cy="674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842" name="矩形 1"/>
          <p:cNvSpPr/>
          <p:nvPr/>
        </p:nvSpPr>
        <p:spPr>
          <a:xfrm>
            <a:off x="4641480" y="2495520"/>
            <a:ext cx="11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敕勒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川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，阴山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矩形 6"/>
          <p:cNvSpPr/>
          <p:nvPr/>
        </p:nvSpPr>
        <p:spPr>
          <a:xfrm>
            <a:off x="893880" y="1708200"/>
            <a:ext cx="4875120" cy="459720"/>
          </a:xfrm>
          <a:prstGeom prst="rect">
            <a:avLst/>
          </a:prstGeom>
          <a:noFill/>
          <a:ln w="9360">
            <a:solidFill>
              <a:srgbClr val="00a4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敕勒：古代北方少数民族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矩形 7"/>
          <p:cNvSpPr/>
          <p:nvPr/>
        </p:nvSpPr>
        <p:spPr>
          <a:xfrm>
            <a:off x="2548080" y="3344760"/>
            <a:ext cx="5398920" cy="459720"/>
          </a:xfrm>
          <a:prstGeom prst="rect">
            <a:avLst/>
          </a:prstGeom>
          <a:noFill/>
          <a:ln w="9360">
            <a:solidFill>
              <a:srgbClr val="00a4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川：平地；平野。这里指草原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矩形 8"/>
          <p:cNvSpPr/>
          <p:nvPr/>
        </p:nvSpPr>
        <p:spPr>
          <a:xfrm>
            <a:off x="3675600" y="468936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敕勒族人居住的草原，就在阴山脚下。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8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矩形 1"/>
          <p:cNvSpPr/>
          <p:nvPr/>
        </p:nvSpPr>
        <p:spPr>
          <a:xfrm>
            <a:off x="3390120" y="2830680"/>
            <a:ext cx="257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天似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穹庐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，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笼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盖四</a:t>
            </a:r>
            <a:r>
              <a:rPr b="1" lang="zh-CN" sz="3200" spc="-1" strike="noStrike">
                <a:solidFill>
                  <a:srgbClr val="ff3300"/>
                </a:solidFill>
                <a:latin typeface="楷体"/>
                <a:ea typeface="楷体"/>
              </a:rPr>
              <a:t>野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矩形 8"/>
          <p:cNvSpPr/>
          <p:nvPr/>
        </p:nvSpPr>
        <p:spPr>
          <a:xfrm>
            <a:off x="1165320" y="1849320"/>
            <a:ext cx="3816360" cy="520560"/>
          </a:xfrm>
          <a:prstGeom prst="rect">
            <a:avLst/>
          </a:prstGeom>
          <a:noFill/>
          <a:ln w="9360">
            <a:solidFill>
              <a:srgbClr val="00a4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天似穹庐：天好像屋顶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矩形 9"/>
          <p:cNvSpPr/>
          <p:nvPr/>
        </p:nvSpPr>
        <p:spPr>
          <a:xfrm>
            <a:off x="4152960" y="3743280"/>
            <a:ext cx="2046240" cy="520560"/>
          </a:xfrm>
          <a:prstGeom prst="rect">
            <a:avLst/>
          </a:prstGeom>
          <a:noFill/>
          <a:ln w="9360">
            <a:solidFill>
              <a:srgbClr val="00a4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笼：笼罩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矩形 10"/>
          <p:cNvSpPr/>
          <p:nvPr/>
        </p:nvSpPr>
        <p:spPr>
          <a:xfrm>
            <a:off x="4522320" y="49957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天像圆圆的大屋顶，笼罩着整个大地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等腰三角形 65542"/>
          <p:cNvSpPr/>
          <p:nvPr/>
        </p:nvSpPr>
        <p:spPr>
          <a:xfrm>
            <a:off x="3078000" y="3416400"/>
            <a:ext cx="368640" cy="14580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文本框 65543"/>
          <p:cNvSpPr/>
          <p:nvPr/>
        </p:nvSpPr>
        <p:spPr>
          <a:xfrm>
            <a:off x="2894040" y="3743280"/>
            <a:ext cx="12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Calibri"/>
                <a:ea typeface="宋体"/>
              </a:rPr>
              <a:t>好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文本框 65544"/>
          <p:cNvSpPr/>
          <p:nvPr/>
        </p:nvSpPr>
        <p:spPr>
          <a:xfrm>
            <a:off x="6605640" y="2416320"/>
            <a:ext cx="22795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、郊外：田野、原野、野外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、非人工培养或培育：野花、野兔、野菜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、粗鲁无礼：撒野、野蛮、粗野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等腰三角形 65545"/>
          <p:cNvSpPr/>
          <p:nvPr/>
        </p:nvSpPr>
        <p:spPr>
          <a:xfrm>
            <a:off x="5964120" y="3409920"/>
            <a:ext cx="235080" cy="1522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文本框 65546"/>
          <p:cNvSpPr/>
          <p:nvPr/>
        </p:nvSpPr>
        <p:spPr>
          <a:xfrm>
            <a:off x="5568840" y="1849320"/>
            <a:ext cx="196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四野：大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zh-CN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7" name="图片 313347" descr="timg (1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8" name="文本框 313348"/>
          <p:cNvSpPr/>
          <p:nvPr/>
        </p:nvSpPr>
        <p:spPr>
          <a:xfrm>
            <a:off x="2620800" y="3973680"/>
            <a:ext cx="5484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Calibri"/>
                <a:ea typeface="宋体"/>
              </a:rPr>
              <a:t>天苍苍，野茫茫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文本框 313349"/>
          <p:cNvSpPr/>
          <p:nvPr/>
        </p:nvSpPr>
        <p:spPr>
          <a:xfrm>
            <a:off x="2401920" y="4965840"/>
            <a:ext cx="5908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Calibri"/>
                <a:ea typeface="宋体"/>
              </a:rPr>
              <a:t>天苍苍：天蓝蓝的，晴空万里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Calibri"/>
                <a:ea typeface="宋体"/>
              </a:rPr>
              <a:t>野茫茫：草原无边无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文本框 314373"/>
          <p:cNvSpPr/>
          <p:nvPr/>
        </p:nvSpPr>
        <p:spPr>
          <a:xfrm>
            <a:off x="1065240" y="1187280"/>
            <a:ext cx="66866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白发苍苍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头发白白的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松柏苍苍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松柏绿绿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大海茫茫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大海无边无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云海茫茫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云海厚重、看不清楚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矩形 1"/>
          <p:cNvSpPr/>
          <p:nvPr/>
        </p:nvSpPr>
        <p:spPr>
          <a:xfrm>
            <a:off x="2732040" y="1685880"/>
            <a:ext cx="45720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风吹草低</a:t>
            </a:r>
            <a:r>
              <a:rPr b="1" lang="zh-CN" sz="3200" spc="-1" strike="noStrike">
                <a:solidFill>
                  <a:srgbClr val="0000ff"/>
                </a:solidFill>
                <a:latin typeface="楷体"/>
                <a:ea typeface="楷体"/>
              </a:rPr>
              <a:t>见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牛羊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矩形 9"/>
          <p:cNvSpPr/>
          <p:nvPr/>
        </p:nvSpPr>
        <p:spPr>
          <a:xfrm>
            <a:off x="3859200" y="3481560"/>
            <a:ext cx="2046240" cy="520560"/>
          </a:xfrm>
          <a:prstGeom prst="rect">
            <a:avLst/>
          </a:prstGeom>
          <a:noFill/>
          <a:ln w="9360">
            <a:solidFill>
              <a:srgbClr val="00a45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见：出现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矩形 9"/>
          <p:cNvSpPr/>
          <p:nvPr/>
        </p:nvSpPr>
        <p:spPr>
          <a:xfrm>
            <a:off x="1135080" y="4473720"/>
            <a:ext cx="725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风吹过来，草低下了头，露出了一群群肥壮的牛羊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/>
          </p:nvPr>
        </p:nvSpPr>
        <p:spPr>
          <a:xfrm>
            <a:off x="450720" y="4392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敕勒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北朝民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敕勒川，阴山下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天似穹庐，笼盖四野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天苍苍，野茫茫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风吹草低见牛羊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5" name="图片 12" descr=""/>
          <p:cNvPicPr/>
          <p:nvPr/>
        </p:nvPicPr>
        <p:blipFill>
          <a:blip r:embed="rId1"/>
          <a:stretch/>
        </p:blipFill>
        <p:spPr>
          <a:xfrm>
            <a:off x="1023840" y="4299120"/>
            <a:ext cx="7027920" cy="2414520"/>
          </a:xfrm>
          <a:prstGeom prst="rect">
            <a:avLst/>
          </a:prstGeom>
          <a:ln w="0">
            <a:noFill/>
          </a:ln>
        </p:spPr>
      </p:pic>
      <p:sp>
        <p:nvSpPr>
          <p:cNvPr id="866" name="直接连接符 317443"/>
          <p:cNvSpPr/>
          <p:nvPr/>
        </p:nvSpPr>
        <p:spPr>
          <a:xfrm flipH="1">
            <a:off x="3672000" y="3438360"/>
            <a:ext cx="149040" cy="465480"/>
          </a:xfrm>
          <a:prstGeom prst="line">
            <a:avLst/>
          </a:prstGeom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直接连接符 317444"/>
          <p:cNvSpPr/>
          <p:nvPr/>
        </p:nvSpPr>
        <p:spPr>
          <a:xfrm flipH="1">
            <a:off x="4487400" y="3438360"/>
            <a:ext cx="149400" cy="465480"/>
          </a:xfrm>
          <a:prstGeom prst="line">
            <a:avLst/>
          </a:prstGeom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直接连接符 317445"/>
          <p:cNvSpPr/>
          <p:nvPr/>
        </p:nvSpPr>
        <p:spPr>
          <a:xfrm flipH="1">
            <a:off x="4927680" y="3438360"/>
            <a:ext cx="149040" cy="465480"/>
          </a:xfrm>
          <a:prstGeom prst="line">
            <a:avLst/>
          </a:prstGeom>
          <a:ln w="93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苍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TextBox 2"/>
          <p:cNvSpPr/>
          <p:nvPr/>
        </p:nvSpPr>
        <p:spPr>
          <a:xfrm>
            <a:off x="1384200" y="2027160"/>
            <a:ext cx="140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cāng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1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872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3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4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5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6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7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8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9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0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1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2" name="TextBox 14"/>
          <p:cNvSpPr/>
          <p:nvPr/>
        </p:nvSpPr>
        <p:spPr>
          <a:xfrm>
            <a:off x="4619520" y="4857840"/>
            <a:ext cx="42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边人字要舒展，底下横着要带一小钩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TextBox 15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TextBox 16"/>
          <p:cNvSpPr/>
          <p:nvPr/>
        </p:nvSpPr>
        <p:spPr>
          <a:xfrm>
            <a:off x="8985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天苍苍  苍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TextBox 17"/>
          <p:cNvSpPr/>
          <p:nvPr/>
        </p:nvSpPr>
        <p:spPr>
          <a:xfrm>
            <a:off x="857160" y="4943520"/>
            <a:ext cx="364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一夜之间，妈妈仿佛苍老了许多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  <a:ea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上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Rectangle 27"/>
          <p:cNvSpPr/>
          <p:nvPr/>
        </p:nvSpPr>
        <p:spPr>
          <a:xfrm>
            <a:off x="5358960" y="215424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Freeform 30"/>
          <p:cNvSpPr/>
          <p:nvPr/>
        </p:nvSpPr>
        <p:spPr>
          <a:xfrm>
            <a:off x="5576760" y="2374920"/>
            <a:ext cx="1555920" cy="247680"/>
          </a:xfrm>
          <a:custGeom>
            <a:avLst/>
            <a:gdLst/>
            <a:ahLst/>
            <a:rect l="l" t="t" r="r" b="b"/>
            <a:pathLst>
              <a:path w="2451" h="388">
                <a:moveTo>
                  <a:pt x="474" y="350"/>
                </a:moveTo>
                <a:lnTo>
                  <a:pt x="443" y="354"/>
                </a:lnTo>
                <a:lnTo>
                  <a:pt x="414" y="359"/>
                </a:lnTo>
                <a:lnTo>
                  <a:pt x="388" y="362"/>
                </a:lnTo>
                <a:lnTo>
                  <a:pt x="362" y="366"/>
                </a:lnTo>
                <a:lnTo>
                  <a:pt x="338" y="371"/>
                </a:lnTo>
                <a:lnTo>
                  <a:pt x="317" y="373"/>
                </a:lnTo>
                <a:lnTo>
                  <a:pt x="295" y="376"/>
                </a:lnTo>
                <a:lnTo>
                  <a:pt x="276" y="378"/>
                </a:lnTo>
                <a:lnTo>
                  <a:pt x="257" y="381"/>
                </a:lnTo>
                <a:lnTo>
                  <a:pt x="243" y="383"/>
                </a:lnTo>
                <a:lnTo>
                  <a:pt x="228" y="385"/>
                </a:lnTo>
                <a:lnTo>
                  <a:pt x="214" y="385"/>
                </a:lnTo>
                <a:lnTo>
                  <a:pt x="205" y="388"/>
                </a:lnTo>
                <a:lnTo>
                  <a:pt x="195" y="388"/>
                </a:lnTo>
                <a:lnTo>
                  <a:pt x="188" y="388"/>
                </a:lnTo>
                <a:lnTo>
                  <a:pt x="181" y="388"/>
                </a:lnTo>
                <a:lnTo>
                  <a:pt x="171" y="388"/>
                </a:lnTo>
                <a:lnTo>
                  <a:pt x="159" y="383"/>
                </a:lnTo>
                <a:lnTo>
                  <a:pt x="147" y="378"/>
                </a:lnTo>
                <a:lnTo>
                  <a:pt x="133" y="371"/>
                </a:lnTo>
                <a:lnTo>
                  <a:pt x="119" y="362"/>
                </a:lnTo>
                <a:lnTo>
                  <a:pt x="102" y="350"/>
                </a:lnTo>
                <a:lnTo>
                  <a:pt x="85" y="338"/>
                </a:lnTo>
                <a:lnTo>
                  <a:pt x="66" y="323"/>
                </a:lnTo>
                <a:lnTo>
                  <a:pt x="57" y="316"/>
                </a:lnTo>
                <a:lnTo>
                  <a:pt x="45" y="309"/>
                </a:lnTo>
                <a:lnTo>
                  <a:pt x="35" y="302"/>
                </a:lnTo>
                <a:lnTo>
                  <a:pt x="28" y="295"/>
                </a:lnTo>
                <a:lnTo>
                  <a:pt x="21" y="288"/>
                </a:lnTo>
                <a:lnTo>
                  <a:pt x="16" y="281"/>
                </a:lnTo>
                <a:lnTo>
                  <a:pt x="12" y="274"/>
                </a:lnTo>
                <a:lnTo>
                  <a:pt x="7" y="269"/>
                </a:lnTo>
                <a:lnTo>
                  <a:pt x="4" y="262"/>
                </a:lnTo>
                <a:lnTo>
                  <a:pt x="2" y="257"/>
                </a:lnTo>
                <a:lnTo>
                  <a:pt x="0" y="252"/>
                </a:lnTo>
                <a:lnTo>
                  <a:pt x="0" y="247"/>
                </a:lnTo>
                <a:lnTo>
                  <a:pt x="0" y="243"/>
                </a:lnTo>
                <a:lnTo>
                  <a:pt x="0" y="240"/>
                </a:lnTo>
                <a:lnTo>
                  <a:pt x="2" y="235"/>
                </a:lnTo>
                <a:lnTo>
                  <a:pt x="4" y="233"/>
                </a:lnTo>
                <a:lnTo>
                  <a:pt x="7" y="231"/>
                </a:lnTo>
                <a:lnTo>
                  <a:pt x="9" y="228"/>
                </a:lnTo>
                <a:lnTo>
                  <a:pt x="14" y="226"/>
                </a:lnTo>
                <a:lnTo>
                  <a:pt x="21" y="226"/>
                </a:lnTo>
                <a:lnTo>
                  <a:pt x="28" y="224"/>
                </a:lnTo>
                <a:lnTo>
                  <a:pt x="35" y="224"/>
                </a:lnTo>
                <a:lnTo>
                  <a:pt x="45" y="221"/>
                </a:lnTo>
                <a:lnTo>
                  <a:pt x="54" y="221"/>
                </a:lnTo>
                <a:lnTo>
                  <a:pt x="66" y="221"/>
                </a:lnTo>
                <a:lnTo>
                  <a:pt x="78" y="221"/>
                </a:lnTo>
                <a:lnTo>
                  <a:pt x="93" y="221"/>
                </a:lnTo>
                <a:lnTo>
                  <a:pt x="107" y="221"/>
                </a:lnTo>
                <a:lnTo>
                  <a:pt x="123" y="221"/>
                </a:lnTo>
                <a:lnTo>
                  <a:pt x="143" y="221"/>
                </a:lnTo>
                <a:lnTo>
                  <a:pt x="162" y="221"/>
                </a:lnTo>
                <a:lnTo>
                  <a:pt x="181" y="221"/>
                </a:lnTo>
                <a:lnTo>
                  <a:pt x="193" y="219"/>
                </a:lnTo>
                <a:lnTo>
                  <a:pt x="205" y="219"/>
                </a:lnTo>
                <a:lnTo>
                  <a:pt x="219" y="219"/>
                </a:lnTo>
                <a:lnTo>
                  <a:pt x="235" y="219"/>
                </a:lnTo>
                <a:lnTo>
                  <a:pt x="252" y="216"/>
                </a:lnTo>
                <a:lnTo>
                  <a:pt x="269" y="216"/>
                </a:lnTo>
                <a:lnTo>
                  <a:pt x="288" y="214"/>
                </a:lnTo>
                <a:lnTo>
                  <a:pt x="309" y="214"/>
                </a:lnTo>
                <a:lnTo>
                  <a:pt x="331" y="212"/>
                </a:lnTo>
                <a:lnTo>
                  <a:pt x="352" y="209"/>
                </a:lnTo>
                <a:lnTo>
                  <a:pt x="378" y="207"/>
                </a:lnTo>
                <a:lnTo>
                  <a:pt x="402" y="204"/>
                </a:lnTo>
                <a:lnTo>
                  <a:pt x="431" y="202"/>
                </a:lnTo>
                <a:lnTo>
                  <a:pt x="457" y="200"/>
                </a:lnTo>
                <a:lnTo>
                  <a:pt x="488" y="197"/>
                </a:lnTo>
                <a:lnTo>
                  <a:pt x="519" y="193"/>
                </a:lnTo>
                <a:lnTo>
                  <a:pt x="550" y="190"/>
                </a:lnTo>
                <a:lnTo>
                  <a:pt x="583" y="185"/>
                </a:lnTo>
                <a:lnTo>
                  <a:pt x="619" y="183"/>
                </a:lnTo>
                <a:lnTo>
                  <a:pt x="655" y="178"/>
                </a:lnTo>
                <a:lnTo>
                  <a:pt x="693" y="174"/>
                </a:lnTo>
                <a:lnTo>
                  <a:pt x="733" y="169"/>
                </a:lnTo>
                <a:lnTo>
                  <a:pt x="774" y="166"/>
                </a:lnTo>
                <a:lnTo>
                  <a:pt x="815" y="162"/>
                </a:lnTo>
                <a:lnTo>
                  <a:pt x="857" y="157"/>
                </a:lnTo>
                <a:lnTo>
                  <a:pt x="903" y="150"/>
                </a:lnTo>
                <a:lnTo>
                  <a:pt x="948" y="145"/>
                </a:lnTo>
                <a:lnTo>
                  <a:pt x="996" y="140"/>
                </a:lnTo>
                <a:lnTo>
                  <a:pt x="1046" y="135"/>
                </a:lnTo>
                <a:lnTo>
                  <a:pt x="1096" y="128"/>
                </a:lnTo>
                <a:lnTo>
                  <a:pt x="1146" y="124"/>
                </a:lnTo>
                <a:lnTo>
                  <a:pt x="1198" y="116"/>
                </a:lnTo>
                <a:lnTo>
                  <a:pt x="1253" y="112"/>
                </a:lnTo>
                <a:lnTo>
                  <a:pt x="1303" y="105"/>
                </a:lnTo>
                <a:lnTo>
                  <a:pt x="1353" y="100"/>
                </a:lnTo>
                <a:lnTo>
                  <a:pt x="1401" y="93"/>
                </a:lnTo>
                <a:lnTo>
                  <a:pt x="1448" y="88"/>
                </a:lnTo>
                <a:lnTo>
                  <a:pt x="1494" y="83"/>
                </a:lnTo>
                <a:lnTo>
                  <a:pt x="1536" y="78"/>
                </a:lnTo>
                <a:lnTo>
                  <a:pt x="1579" y="74"/>
                </a:lnTo>
                <a:lnTo>
                  <a:pt x="1618" y="69"/>
                </a:lnTo>
                <a:lnTo>
                  <a:pt x="1658" y="64"/>
                </a:lnTo>
                <a:lnTo>
                  <a:pt x="1694" y="59"/>
                </a:lnTo>
                <a:lnTo>
                  <a:pt x="1730" y="55"/>
                </a:lnTo>
                <a:lnTo>
                  <a:pt x="1765" y="50"/>
                </a:lnTo>
                <a:lnTo>
                  <a:pt x="1796" y="45"/>
                </a:lnTo>
                <a:lnTo>
                  <a:pt x="1827" y="43"/>
                </a:lnTo>
                <a:lnTo>
                  <a:pt x="1858" y="38"/>
                </a:lnTo>
                <a:lnTo>
                  <a:pt x="1884" y="36"/>
                </a:lnTo>
                <a:lnTo>
                  <a:pt x="1911" y="31"/>
                </a:lnTo>
                <a:lnTo>
                  <a:pt x="1937" y="28"/>
                </a:lnTo>
                <a:lnTo>
                  <a:pt x="1958" y="26"/>
                </a:lnTo>
                <a:lnTo>
                  <a:pt x="1982" y="24"/>
                </a:lnTo>
                <a:lnTo>
                  <a:pt x="2001" y="19"/>
                </a:lnTo>
                <a:lnTo>
                  <a:pt x="2020" y="16"/>
                </a:lnTo>
                <a:lnTo>
                  <a:pt x="2037" y="14"/>
                </a:lnTo>
                <a:lnTo>
                  <a:pt x="2051" y="12"/>
                </a:lnTo>
                <a:lnTo>
                  <a:pt x="2065" y="9"/>
                </a:lnTo>
                <a:lnTo>
                  <a:pt x="2077" y="9"/>
                </a:lnTo>
                <a:lnTo>
                  <a:pt x="2089" y="7"/>
                </a:lnTo>
                <a:lnTo>
                  <a:pt x="2096" y="5"/>
                </a:lnTo>
                <a:lnTo>
                  <a:pt x="2104" y="2"/>
                </a:lnTo>
                <a:lnTo>
                  <a:pt x="2111" y="2"/>
                </a:lnTo>
                <a:lnTo>
                  <a:pt x="2116" y="0"/>
                </a:lnTo>
                <a:lnTo>
                  <a:pt x="2130" y="0"/>
                </a:lnTo>
                <a:lnTo>
                  <a:pt x="2146" y="0"/>
                </a:lnTo>
                <a:lnTo>
                  <a:pt x="2163" y="0"/>
                </a:lnTo>
                <a:lnTo>
                  <a:pt x="2180" y="0"/>
                </a:lnTo>
                <a:lnTo>
                  <a:pt x="2199" y="0"/>
                </a:lnTo>
                <a:lnTo>
                  <a:pt x="2218" y="0"/>
                </a:lnTo>
                <a:lnTo>
                  <a:pt x="2256" y="0"/>
                </a:lnTo>
                <a:lnTo>
                  <a:pt x="2285" y="9"/>
                </a:lnTo>
                <a:lnTo>
                  <a:pt x="2299" y="16"/>
                </a:lnTo>
                <a:lnTo>
                  <a:pt x="2313" y="21"/>
                </a:lnTo>
                <a:lnTo>
                  <a:pt x="2328" y="28"/>
                </a:lnTo>
                <a:lnTo>
                  <a:pt x="2342" y="36"/>
                </a:lnTo>
                <a:lnTo>
                  <a:pt x="2356" y="43"/>
                </a:lnTo>
                <a:lnTo>
                  <a:pt x="2370" y="52"/>
                </a:lnTo>
                <a:lnTo>
                  <a:pt x="2382" y="66"/>
                </a:lnTo>
                <a:lnTo>
                  <a:pt x="2397" y="78"/>
                </a:lnTo>
                <a:lnTo>
                  <a:pt x="2406" y="93"/>
                </a:lnTo>
                <a:lnTo>
                  <a:pt x="2418" y="105"/>
                </a:lnTo>
                <a:lnTo>
                  <a:pt x="2425" y="116"/>
                </a:lnTo>
                <a:lnTo>
                  <a:pt x="2435" y="128"/>
                </a:lnTo>
                <a:lnTo>
                  <a:pt x="2440" y="140"/>
                </a:lnTo>
                <a:lnTo>
                  <a:pt x="2447" y="155"/>
                </a:lnTo>
                <a:lnTo>
                  <a:pt x="2447" y="162"/>
                </a:lnTo>
                <a:lnTo>
                  <a:pt x="2449" y="169"/>
                </a:lnTo>
                <a:lnTo>
                  <a:pt x="2451" y="181"/>
                </a:lnTo>
                <a:lnTo>
                  <a:pt x="2451" y="188"/>
                </a:lnTo>
                <a:lnTo>
                  <a:pt x="2449" y="195"/>
                </a:lnTo>
                <a:lnTo>
                  <a:pt x="2447" y="202"/>
                </a:lnTo>
                <a:lnTo>
                  <a:pt x="2442" y="204"/>
                </a:lnTo>
                <a:lnTo>
                  <a:pt x="2437" y="207"/>
                </a:lnTo>
                <a:lnTo>
                  <a:pt x="2432" y="207"/>
                </a:lnTo>
                <a:lnTo>
                  <a:pt x="2428" y="207"/>
                </a:lnTo>
                <a:lnTo>
                  <a:pt x="2418" y="207"/>
                </a:lnTo>
                <a:lnTo>
                  <a:pt x="2409" y="207"/>
                </a:lnTo>
                <a:lnTo>
                  <a:pt x="2397" y="207"/>
                </a:lnTo>
                <a:lnTo>
                  <a:pt x="2382" y="207"/>
                </a:lnTo>
                <a:lnTo>
                  <a:pt x="2366" y="207"/>
                </a:lnTo>
                <a:lnTo>
                  <a:pt x="2349" y="207"/>
                </a:lnTo>
                <a:lnTo>
                  <a:pt x="2328" y="204"/>
                </a:lnTo>
                <a:lnTo>
                  <a:pt x="2306" y="204"/>
                </a:lnTo>
                <a:lnTo>
                  <a:pt x="2280" y="204"/>
                </a:lnTo>
                <a:lnTo>
                  <a:pt x="2254" y="202"/>
                </a:lnTo>
                <a:lnTo>
                  <a:pt x="2225" y="202"/>
                </a:lnTo>
                <a:lnTo>
                  <a:pt x="2194" y="200"/>
                </a:lnTo>
                <a:lnTo>
                  <a:pt x="2161" y="197"/>
                </a:lnTo>
                <a:lnTo>
                  <a:pt x="2127" y="197"/>
                </a:lnTo>
                <a:lnTo>
                  <a:pt x="2089" y="195"/>
                </a:lnTo>
                <a:lnTo>
                  <a:pt x="2049" y="195"/>
                </a:lnTo>
                <a:lnTo>
                  <a:pt x="2011" y="195"/>
                </a:lnTo>
                <a:lnTo>
                  <a:pt x="1973" y="195"/>
                </a:lnTo>
                <a:lnTo>
                  <a:pt x="1934" y="195"/>
                </a:lnTo>
                <a:lnTo>
                  <a:pt x="1896" y="195"/>
                </a:lnTo>
                <a:lnTo>
                  <a:pt x="1861" y="195"/>
                </a:lnTo>
                <a:lnTo>
                  <a:pt x="1825" y="195"/>
                </a:lnTo>
                <a:lnTo>
                  <a:pt x="1791" y="195"/>
                </a:lnTo>
                <a:lnTo>
                  <a:pt x="1756" y="197"/>
                </a:lnTo>
                <a:lnTo>
                  <a:pt x="1722" y="197"/>
                </a:lnTo>
                <a:lnTo>
                  <a:pt x="1656" y="200"/>
                </a:lnTo>
                <a:lnTo>
                  <a:pt x="1594" y="202"/>
                </a:lnTo>
                <a:lnTo>
                  <a:pt x="1529" y="207"/>
                </a:lnTo>
                <a:lnTo>
                  <a:pt x="1467" y="212"/>
                </a:lnTo>
                <a:lnTo>
                  <a:pt x="1405" y="219"/>
                </a:lnTo>
                <a:lnTo>
                  <a:pt x="1343" y="226"/>
                </a:lnTo>
                <a:lnTo>
                  <a:pt x="1279" y="233"/>
                </a:lnTo>
                <a:lnTo>
                  <a:pt x="1212" y="240"/>
                </a:lnTo>
                <a:lnTo>
                  <a:pt x="1148" y="247"/>
                </a:lnTo>
                <a:lnTo>
                  <a:pt x="1079" y="252"/>
                </a:lnTo>
                <a:lnTo>
                  <a:pt x="1008" y="259"/>
                </a:lnTo>
                <a:lnTo>
                  <a:pt x="938" y="269"/>
                </a:lnTo>
                <a:lnTo>
                  <a:pt x="867" y="278"/>
                </a:lnTo>
                <a:lnTo>
                  <a:pt x="798" y="288"/>
                </a:lnTo>
                <a:lnTo>
                  <a:pt x="731" y="300"/>
                </a:lnTo>
                <a:lnTo>
                  <a:pt x="664" y="309"/>
                </a:lnTo>
                <a:lnTo>
                  <a:pt x="600" y="321"/>
                </a:lnTo>
                <a:lnTo>
                  <a:pt x="536" y="335"/>
                </a:lnTo>
                <a:lnTo>
                  <a:pt x="474" y="35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Freeform 31"/>
          <p:cNvSpPr/>
          <p:nvPr/>
        </p:nvSpPr>
        <p:spPr>
          <a:xfrm>
            <a:off x="5943600" y="2222640"/>
            <a:ext cx="209520" cy="514080"/>
          </a:xfrm>
          <a:custGeom>
            <a:avLst/>
            <a:gdLst/>
            <a:ahLst/>
            <a:rect l="l" t="t" r="r" b="b"/>
            <a:pathLst>
              <a:path w="328" h="810">
                <a:moveTo>
                  <a:pt x="138" y="255"/>
                </a:moveTo>
                <a:lnTo>
                  <a:pt x="133" y="243"/>
                </a:lnTo>
                <a:lnTo>
                  <a:pt x="131" y="231"/>
                </a:lnTo>
                <a:lnTo>
                  <a:pt x="124" y="207"/>
                </a:lnTo>
                <a:lnTo>
                  <a:pt x="114" y="186"/>
                </a:lnTo>
                <a:lnTo>
                  <a:pt x="102" y="167"/>
                </a:lnTo>
                <a:lnTo>
                  <a:pt x="90" y="148"/>
                </a:lnTo>
                <a:lnTo>
                  <a:pt x="76" y="131"/>
                </a:lnTo>
                <a:lnTo>
                  <a:pt x="62" y="115"/>
                </a:lnTo>
                <a:lnTo>
                  <a:pt x="47" y="100"/>
                </a:lnTo>
                <a:lnTo>
                  <a:pt x="38" y="91"/>
                </a:lnTo>
                <a:lnTo>
                  <a:pt x="31" y="84"/>
                </a:lnTo>
                <a:lnTo>
                  <a:pt x="23" y="77"/>
                </a:lnTo>
                <a:lnTo>
                  <a:pt x="16" y="69"/>
                </a:lnTo>
                <a:lnTo>
                  <a:pt x="12" y="65"/>
                </a:lnTo>
                <a:lnTo>
                  <a:pt x="7" y="58"/>
                </a:lnTo>
                <a:lnTo>
                  <a:pt x="4" y="50"/>
                </a:lnTo>
                <a:lnTo>
                  <a:pt x="2" y="43"/>
                </a:lnTo>
                <a:lnTo>
                  <a:pt x="0" y="39"/>
                </a:lnTo>
                <a:lnTo>
                  <a:pt x="0" y="34"/>
                </a:lnTo>
                <a:lnTo>
                  <a:pt x="2" y="27"/>
                </a:lnTo>
                <a:lnTo>
                  <a:pt x="2" y="22"/>
                </a:lnTo>
                <a:lnTo>
                  <a:pt x="7" y="19"/>
                </a:lnTo>
                <a:lnTo>
                  <a:pt x="9" y="15"/>
                </a:lnTo>
                <a:lnTo>
                  <a:pt x="16" y="12"/>
                </a:lnTo>
                <a:lnTo>
                  <a:pt x="21" y="10"/>
                </a:lnTo>
                <a:lnTo>
                  <a:pt x="28" y="8"/>
                </a:lnTo>
                <a:lnTo>
                  <a:pt x="33" y="5"/>
                </a:lnTo>
                <a:lnTo>
                  <a:pt x="40" y="3"/>
                </a:lnTo>
                <a:lnTo>
                  <a:pt x="47" y="3"/>
                </a:lnTo>
                <a:lnTo>
                  <a:pt x="54" y="0"/>
                </a:lnTo>
                <a:lnTo>
                  <a:pt x="62" y="0"/>
                </a:lnTo>
                <a:lnTo>
                  <a:pt x="71" y="0"/>
                </a:lnTo>
                <a:lnTo>
                  <a:pt x="81" y="3"/>
                </a:lnTo>
                <a:lnTo>
                  <a:pt x="93" y="3"/>
                </a:lnTo>
                <a:lnTo>
                  <a:pt x="102" y="5"/>
                </a:lnTo>
                <a:lnTo>
                  <a:pt x="114" y="8"/>
                </a:lnTo>
                <a:lnTo>
                  <a:pt x="128" y="12"/>
                </a:lnTo>
                <a:lnTo>
                  <a:pt x="143" y="17"/>
                </a:lnTo>
                <a:lnTo>
                  <a:pt x="157" y="22"/>
                </a:lnTo>
                <a:lnTo>
                  <a:pt x="171" y="27"/>
                </a:lnTo>
                <a:lnTo>
                  <a:pt x="188" y="34"/>
                </a:lnTo>
                <a:lnTo>
                  <a:pt x="205" y="41"/>
                </a:lnTo>
                <a:lnTo>
                  <a:pt x="219" y="48"/>
                </a:lnTo>
                <a:lnTo>
                  <a:pt x="233" y="55"/>
                </a:lnTo>
                <a:lnTo>
                  <a:pt x="245" y="62"/>
                </a:lnTo>
                <a:lnTo>
                  <a:pt x="257" y="67"/>
                </a:lnTo>
                <a:lnTo>
                  <a:pt x="266" y="74"/>
                </a:lnTo>
                <a:lnTo>
                  <a:pt x="278" y="79"/>
                </a:lnTo>
                <a:lnTo>
                  <a:pt x="286" y="84"/>
                </a:lnTo>
                <a:lnTo>
                  <a:pt x="295" y="91"/>
                </a:lnTo>
                <a:lnTo>
                  <a:pt x="302" y="96"/>
                </a:lnTo>
                <a:lnTo>
                  <a:pt x="307" y="100"/>
                </a:lnTo>
                <a:lnTo>
                  <a:pt x="312" y="105"/>
                </a:lnTo>
                <a:lnTo>
                  <a:pt x="317" y="110"/>
                </a:lnTo>
                <a:lnTo>
                  <a:pt x="321" y="115"/>
                </a:lnTo>
                <a:lnTo>
                  <a:pt x="324" y="119"/>
                </a:lnTo>
                <a:lnTo>
                  <a:pt x="328" y="124"/>
                </a:lnTo>
                <a:lnTo>
                  <a:pt x="328" y="131"/>
                </a:lnTo>
                <a:lnTo>
                  <a:pt x="328" y="138"/>
                </a:lnTo>
                <a:lnTo>
                  <a:pt x="328" y="150"/>
                </a:lnTo>
                <a:lnTo>
                  <a:pt x="328" y="162"/>
                </a:lnTo>
                <a:lnTo>
                  <a:pt x="328" y="177"/>
                </a:lnTo>
                <a:lnTo>
                  <a:pt x="328" y="193"/>
                </a:lnTo>
                <a:lnTo>
                  <a:pt x="328" y="212"/>
                </a:lnTo>
                <a:lnTo>
                  <a:pt x="328" y="234"/>
                </a:lnTo>
                <a:lnTo>
                  <a:pt x="328" y="257"/>
                </a:lnTo>
                <a:lnTo>
                  <a:pt x="328" y="284"/>
                </a:lnTo>
                <a:lnTo>
                  <a:pt x="328" y="310"/>
                </a:lnTo>
                <a:lnTo>
                  <a:pt x="328" y="341"/>
                </a:lnTo>
                <a:lnTo>
                  <a:pt x="328" y="374"/>
                </a:lnTo>
                <a:lnTo>
                  <a:pt x="328" y="391"/>
                </a:lnTo>
                <a:lnTo>
                  <a:pt x="328" y="410"/>
                </a:lnTo>
                <a:lnTo>
                  <a:pt x="328" y="429"/>
                </a:lnTo>
                <a:lnTo>
                  <a:pt x="328" y="448"/>
                </a:lnTo>
                <a:lnTo>
                  <a:pt x="328" y="467"/>
                </a:lnTo>
                <a:lnTo>
                  <a:pt x="328" y="486"/>
                </a:lnTo>
                <a:lnTo>
                  <a:pt x="326" y="507"/>
                </a:lnTo>
                <a:lnTo>
                  <a:pt x="326" y="526"/>
                </a:lnTo>
                <a:lnTo>
                  <a:pt x="324" y="545"/>
                </a:lnTo>
                <a:lnTo>
                  <a:pt x="324" y="564"/>
                </a:lnTo>
                <a:lnTo>
                  <a:pt x="321" y="581"/>
                </a:lnTo>
                <a:lnTo>
                  <a:pt x="321" y="598"/>
                </a:lnTo>
                <a:lnTo>
                  <a:pt x="319" y="614"/>
                </a:lnTo>
                <a:lnTo>
                  <a:pt x="319" y="631"/>
                </a:lnTo>
                <a:lnTo>
                  <a:pt x="317" y="645"/>
                </a:lnTo>
                <a:lnTo>
                  <a:pt x="317" y="660"/>
                </a:lnTo>
                <a:lnTo>
                  <a:pt x="314" y="672"/>
                </a:lnTo>
                <a:lnTo>
                  <a:pt x="314" y="686"/>
                </a:lnTo>
                <a:lnTo>
                  <a:pt x="312" y="698"/>
                </a:lnTo>
                <a:lnTo>
                  <a:pt x="312" y="710"/>
                </a:lnTo>
                <a:lnTo>
                  <a:pt x="309" y="722"/>
                </a:lnTo>
                <a:lnTo>
                  <a:pt x="309" y="731"/>
                </a:lnTo>
                <a:lnTo>
                  <a:pt x="307" y="741"/>
                </a:lnTo>
                <a:lnTo>
                  <a:pt x="307" y="750"/>
                </a:lnTo>
                <a:lnTo>
                  <a:pt x="305" y="757"/>
                </a:lnTo>
                <a:lnTo>
                  <a:pt x="305" y="767"/>
                </a:lnTo>
                <a:lnTo>
                  <a:pt x="302" y="774"/>
                </a:lnTo>
                <a:lnTo>
                  <a:pt x="302" y="779"/>
                </a:lnTo>
                <a:lnTo>
                  <a:pt x="300" y="786"/>
                </a:lnTo>
                <a:lnTo>
                  <a:pt x="300" y="791"/>
                </a:lnTo>
                <a:lnTo>
                  <a:pt x="297" y="795"/>
                </a:lnTo>
                <a:lnTo>
                  <a:pt x="297" y="798"/>
                </a:lnTo>
                <a:lnTo>
                  <a:pt x="295" y="802"/>
                </a:lnTo>
                <a:lnTo>
                  <a:pt x="295" y="805"/>
                </a:lnTo>
                <a:lnTo>
                  <a:pt x="293" y="807"/>
                </a:lnTo>
                <a:lnTo>
                  <a:pt x="293" y="810"/>
                </a:lnTo>
                <a:lnTo>
                  <a:pt x="290" y="810"/>
                </a:lnTo>
                <a:lnTo>
                  <a:pt x="286" y="810"/>
                </a:lnTo>
                <a:lnTo>
                  <a:pt x="281" y="807"/>
                </a:lnTo>
                <a:lnTo>
                  <a:pt x="276" y="802"/>
                </a:lnTo>
                <a:lnTo>
                  <a:pt x="271" y="795"/>
                </a:lnTo>
                <a:lnTo>
                  <a:pt x="266" y="786"/>
                </a:lnTo>
                <a:lnTo>
                  <a:pt x="262" y="776"/>
                </a:lnTo>
                <a:lnTo>
                  <a:pt x="257" y="764"/>
                </a:lnTo>
                <a:lnTo>
                  <a:pt x="252" y="750"/>
                </a:lnTo>
                <a:lnTo>
                  <a:pt x="247" y="733"/>
                </a:lnTo>
                <a:lnTo>
                  <a:pt x="243" y="717"/>
                </a:lnTo>
                <a:lnTo>
                  <a:pt x="238" y="695"/>
                </a:lnTo>
                <a:lnTo>
                  <a:pt x="233" y="674"/>
                </a:lnTo>
                <a:lnTo>
                  <a:pt x="228" y="650"/>
                </a:lnTo>
                <a:lnTo>
                  <a:pt x="224" y="624"/>
                </a:lnTo>
                <a:lnTo>
                  <a:pt x="219" y="595"/>
                </a:lnTo>
                <a:lnTo>
                  <a:pt x="214" y="564"/>
                </a:lnTo>
                <a:lnTo>
                  <a:pt x="207" y="536"/>
                </a:lnTo>
                <a:lnTo>
                  <a:pt x="200" y="510"/>
                </a:lnTo>
                <a:lnTo>
                  <a:pt x="193" y="484"/>
                </a:lnTo>
                <a:lnTo>
                  <a:pt x="188" y="457"/>
                </a:lnTo>
                <a:lnTo>
                  <a:pt x="181" y="434"/>
                </a:lnTo>
                <a:lnTo>
                  <a:pt x="176" y="412"/>
                </a:lnTo>
                <a:lnTo>
                  <a:pt x="171" y="391"/>
                </a:lnTo>
                <a:lnTo>
                  <a:pt x="166" y="372"/>
                </a:lnTo>
                <a:lnTo>
                  <a:pt x="162" y="353"/>
                </a:lnTo>
                <a:lnTo>
                  <a:pt x="157" y="334"/>
                </a:lnTo>
                <a:lnTo>
                  <a:pt x="152" y="317"/>
                </a:lnTo>
                <a:lnTo>
                  <a:pt x="150" y="303"/>
                </a:lnTo>
                <a:lnTo>
                  <a:pt x="145" y="288"/>
                </a:lnTo>
                <a:lnTo>
                  <a:pt x="143" y="277"/>
                </a:lnTo>
                <a:lnTo>
                  <a:pt x="140" y="265"/>
                </a:lnTo>
                <a:lnTo>
                  <a:pt x="138" y="25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Freeform 32"/>
          <p:cNvSpPr/>
          <p:nvPr/>
        </p:nvSpPr>
        <p:spPr>
          <a:xfrm>
            <a:off x="6499080" y="2138400"/>
            <a:ext cx="258840" cy="631800"/>
          </a:xfrm>
          <a:custGeom>
            <a:avLst/>
            <a:gdLst/>
            <a:ahLst/>
            <a:rect l="l" t="t" r="r" b="b"/>
            <a:pathLst>
              <a:path w="408" h="995">
                <a:moveTo>
                  <a:pt x="129" y="336"/>
                </a:moveTo>
                <a:lnTo>
                  <a:pt x="129" y="314"/>
                </a:lnTo>
                <a:lnTo>
                  <a:pt x="131" y="293"/>
                </a:lnTo>
                <a:lnTo>
                  <a:pt x="134" y="274"/>
                </a:lnTo>
                <a:lnTo>
                  <a:pt x="134" y="252"/>
                </a:lnTo>
                <a:lnTo>
                  <a:pt x="136" y="236"/>
                </a:lnTo>
                <a:lnTo>
                  <a:pt x="136" y="217"/>
                </a:lnTo>
                <a:lnTo>
                  <a:pt x="136" y="200"/>
                </a:lnTo>
                <a:lnTo>
                  <a:pt x="136" y="183"/>
                </a:lnTo>
                <a:lnTo>
                  <a:pt x="134" y="167"/>
                </a:lnTo>
                <a:lnTo>
                  <a:pt x="134" y="150"/>
                </a:lnTo>
                <a:lnTo>
                  <a:pt x="131" y="136"/>
                </a:lnTo>
                <a:lnTo>
                  <a:pt x="129" y="124"/>
                </a:lnTo>
                <a:lnTo>
                  <a:pt x="126" y="110"/>
                </a:lnTo>
                <a:lnTo>
                  <a:pt x="124" y="98"/>
                </a:lnTo>
                <a:lnTo>
                  <a:pt x="119" y="88"/>
                </a:lnTo>
                <a:lnTo>
                  <a:pt x="114" y="76"/>
                </a:lnTo>
                <a:lnTo>
                  <a:pt x="110" y="69"/>
                </a:lnTo>
                <a:lnTo>
                  <a:pt x="107" y="64"/>
                </a:lnTo>
                <a:lnTo>
                  <a:pt x="103" y="57"/>
                </a:lnTo>
                <a:lnTo>
                  <a:pt x="100" y="50"/>
                </a:lnTo>
                <a:lnTo>
                  <a:pt x="100" y="45"/>
                </a:lnTo>
                <a:lnTo>
                  <a:pt x="98" y="38"/>
                </a:lnTo>
                <a:lnTo>
                  <a:pt x="98" y="33"/>
                </a:lnTo>
                <a:lnTo>
                  <a:pt x="98" y="29"/>
                </a:lnTo>
                <a:lnTo>
                  <a:pt x="98" y="24"/>
                </a:lnTo>
                <a:lnTo>
                  <a:pt x="100" y="19"/>
                </a:lnTo>
                <a:lnTo>
                  <a:pt x="103" y="17"/>
                </a:lnTo>
                <a:lnTo>
                  <a:pt x="107" y="12"/>
                </a:lnTo>
                <a:lnTo>
                  <a:pt x="110" y="7"/>
                </a:lnTo>
                <a:lnTo>
                  <a:pt x="114" y="5"/>
                </a:lnTo>
                <a:lnTo>
                  <a:pt x="122" y="3"/>
                </a:lnTo>
                <a:lnTo>
                  <a:pt x="129" y="0"/>
                </a:lnTo>
                <a:lnTo>
                  <a:pt x="134" y="0"/>
                </a:lnTo>
                <a:lnTo>
                  <a:pt x="138" y="0"/>
                </a:lnTo>
                <a:lnTo>
                  <a:pt x="145" y="3"/>
                </a:lnTo>
                <a:lnTo>
                  <a:pt x="153" y="5"/>
                </a:lnTo>
                <a:lnTo>
                  <a:pt x="160" y="7"/>
                </a:lnTo>
                <a:lnTo>
                  <a:pt x="167" y="10"/>
                </a:lnTo>
                <a:lnTo>
                  <a:pt x="176" y="12"/>
                </a:lnTo>
                <a:lnTo>
                  <a:pt x="186" y="17"/>
                </a:lnTo>
                <a:lnTo>
                  <a:pt x="198" y="22"/>
                </a:lnTo>
                <a:lnTo>
                  <a:pt x="207" y="26"/>
                </a:lnTo>
                <a:lnTo>
                  <a:pt x="222" y="31"/>
                </a:lnTo>
                <a:lnTo>
                  <a:pt x="234" y="38"/>
                </a:lnTo>
                <a:lnTo>
                  <a:pt x="248" y="43"/>
                </a:lnTo>
                <a:lnTo>
                  <a:pt x="262" y="50"/>
                </a:lnTo>
                <a:lnTo>
                  <a:pt x="277" y="57"/>
                </a:lnTo>
                <a:lnTo>
                  <a:pt x="293" y="64"/>
                </a:lnTo>
                <a:lnTo>
                  <a:pt x="307" y="72"/>
                </a:lnTo>
                <a:lnTo>
                  <a:pt x="319" y="79"/>
                </a:lnTo>
                <a:lnTo>
                  <a:pt x="331" y="86"/>
                </a:lnTo>
                <a:lnTo>
                  <a:pt x="343" y="93"/>
                </a:lnTo>
                <a:lnTo>
                  <a:pt x="353" y="100"/>
                </a:lnTo>
                <a:lnTo>
                  <a:pt x="362" y="107"/>
                </a:lnTo>
                <a:lnTo>
                  <a:pt x="372" y="114"/>
                </a:lnTo>
                <a:lnTo>
                  <a:pt x="379" y="122"/>
                </a:lnTo>
                <a:lnTo>
                  <a:pt x="386" y="129"/>
                </a:lnTo>
                <a:lnTo>
                  <a:pt x="391" y="133"/>
                </a:lnTo>
                <a:lnTo>
                  <a:pt x="396" y="141"/>
                </a:lnTo>
                <a:lnTo>
                  <a:pt x="400" y="145"/>
                </a:lnTo>
                <a:lnTo>
                  <a:pt x="403" y="152"/>
                </a:lnTo>
                <a:lnTo>
                  <a:pt x="405" y="157"/>
                </a:lnTo>
                <a:lnTo>
                  <a:pt x="408" y="162"/>
                </a:lnTo>
                <a:lnTo>
                  <a:pt x="408" y="167"/>
                </a:lnTo>
                <a:lnTo>
                  <a:pt x="408" y="181"/>
                </a:lnTo>
                <a:lnTo>
                  <a:pt x="405" y="195"/>
                </a:lnTo>
                <a:lnTo>
                  <a:pt x="403" y="207"/>
                </a:lnTo>
                <a:lnTo>
                  <a:pt x="400" y="219"/>
                </a:lnTo>
                <a:lnTo>
                  <a:pt x="396" y="231"/>
                </a:lnTo>
                <a:lnTo>
                  <a:pt x="391" y="243"/>
                </a:lnTo>
                <a:lnTo>
                  <a:pt x="386" y="257"/>
                </a:lnTo>
                <a:lnTo>
                  <a:pt x="381" y="271"/>
                </a:lnTo>
                <a:lnTo>
                  <a:pt x="362" y="300"/>
                </a:lnTo>
                <a:lnTo>
                  <a:pt x="353" y="314"/>
                </a:lnTo>
                <a:lnTo>
                  <a:pt x="343" y="331"/>
                </a:lnTo>
                <a:lnTo>
                  <a:pt x="334" y="348"/>
                </a:lnTo>
                <a:lnTo>
                  <a:pt x="324" y="364"/>
                </a:lnTo>
                <a:lnTo>
                  <a:pt x="315" y="381"/>
                </a:lnTo>
                <a:lnTo>
                  <a:pt x="305" y="400"/>
                </a:lnTo>
                <a:lnTo>
                  <a:pt x="298" y="412"/>
                </a:lnTo>
                <a:lnTo>
                  <a:pt x="291" y="426"/>
                </a:lnTo>
                <a:lnTo>
                  <a:pt x="284" y="443"/>
                </a:lnTo>
                <a:lnTo>
                  <a:pt x="274" y="459"/>
                </a:lnTo>
                <a:lnTo>
                  <a:pt x="267" y="476"/>
                </a:lnTo>
                <a:lnTo>
                  <a:pt x="257" y="495"/>
                </a:lnTo>
                <a:lnTo>
                  <a:pt x="248" y="514"/>
                </a:lnTo>
                <a:lnTo>
                  <a:pt x="238" y="536"/>
                </a:lnTo>
                <a:lnTo>
                  <a:pt x="229" y="557"/>
                </a:lnTo>
                <a:lnTo>
                  <a:pt x="219" y="581"/>
                </a:lnTo>
                <a:lnTo>
                  <a:pt x="210" y="607"/>
                </a:lnTo>
                <a:lnTo>
                  <a:pt x="198" y="633"/>
                </a:lnTo>
                <a:lnTo>
                  <a:pt x="188" y="659"/>
                </a:lnTo>
                <a:lnTo>
                  <a:pt x="176" y="688"/>
                </a:lnTo>
                <a:lnTo>
                  <a:pt x="165" y="719"/>
                </a:lnTo>
                <a:lnTo>
                  <a:pt x="153" y="750"/>
                </a:lnTo>
                <a:lnTo>
                  <a:pt x="138" y="781"/>
                </a:lnTo>
                <a:lnTo>
                  <a:pt x="126" y="809"/>
                </a:lnTo>
                <a:lnTo>
                  <a:pt x="114" y="836"/>
                </a:lnTo>
                <a:lnTo>
                  <a:pt x="103" y="859"/>
                </a:lnTo>
                <a:lnTo>
                  <a:pt x="91" y="883"/>
                </a:lnTo>
                <a:lnTo>
                  <a:pt x="79" y="905"/>
                </a:lnTo>
                <a:lnTo>
                  <a:pt x="69" y="924"/>
                </a:lnTo>
                <a:lnTo>
                  <a:pt x="60" y="940"/>
                </a:lnTo>
                <a:lnTo>
                  <a:pt x="50" y="955"/>
                </a:lnTo>
                <a:lnTo>
                  <a:pt x="43" y="966"/>
                </a:lnTo>
                <a:lnTo>
                  <a:pt x="36" y="978"/>
                </a:lnTo>
                <a:lnTo>
                  <a:pt x="31" y="985"/>
                </a:lnTo>
                <a:lnTo>
                  <a:pt x="24" y="990"/>
                </a:lnTo>
                <a:lnTo>
                  <a:pt x="19" y="995"/>
                </a:lnTo>
                <a:lnTo>
                  <a:pt x="17" y="995"/>
                </a:lnTo>
                <a:lnTo>
                  <a:pt x="14" y="995"/>
                </a:lnTo>
                <a:lnTo>
                  <a:pt x="10" y="993"/>
                </a:lnTo>
                <a:lnTo>
                  <a:pt x="5" y="988"/>
                </a:lnTo>
                <a:lnTo>
                  <a:pt x="2" y="981"/>
                </a:lnTo>
                <a:lnTo>
                  <a:pt x="0" y="971"/>
                </a:lnTo>
                <a:lnTo>
                  <a:pt x="0" y="962"/>
                </a:lnTo>
                <a:lnTo>
                  <a:pt x="0" y="952"/>
                </a:lnTo>
                <a:lnTo>
                  <a:pt x="0" y="938"/>
                </a:lnTo>
                <a:lnTo>
                  <a:pt x="2" y="924"/>
                </a:lnTo>
                <a:lnTo>
                  <a:pt x="5" y="907"/>
                </a:lnTo>
                <a:lnTo>
                  <a:pt x="7" y="888"/>
                </a:lnTo>
                <a:lnTo>
                  <a:pt x="12" y="869"/>
                </a:lnTo>
                <a:lnTo>
                  <a:pt x="14" y="845"/>
                </a:lnTo>
                <a:lnTo>
                  <a:pt x="19" y="821"/>
                </a:lnTo>
                <a:lnTo>
                  <a:pt x="26" y="795"/>
                </a:lnTo>
                <a:lnTo>
                  <a:pt x="31" y="767"/>
                </a:lnTo>
                <a:lnTo>
                  <a:pt x="38" y="736"/>
                </a:lnTo>
                <a:lnTo>
                  <a:pt x="45" y="707"/>
                </a:lnTo>
                <a:lnTo>
                  <a:pt x="53" y="678"/>
                </a:lnTo>
                <a:lnTo>
                  <a:pt x="67" y="624"/>
                </a:lnTo>
                <a:lnTo>
                  <a:pt x="81" y="571"/>
                </a:lnTo>
                <a:lnTo>
                  <a:pt x="93" y="521"/>
                </a:lnTo>
                <a:lnTo>
                  <a:pt x="105" y="471"/>
                </a:lnTo>
                <a:lnTo>
                  <a:pt x="114" y="426"/>
                </a:lnTo>
                <a:lnTo>
                  <a:pt x="122" y="381"/>
                </a:lnTo>
                <a:lnTo>
                  <a:pt x="124" y="357"/>
                </a:lnTo>
                <a:lnTo>
                  <a:pt x="129" y="33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Freeform 33"/>
          <p:cNvSpPr/>
          <p:nvPr/>
        </p:nvSpPr>
        <p:spPr>
          <a:xfrm>
            <a:off x="5376960" y="2654280"/>
            <a:ext cx="1011240" cy="960480"/>
          </a:xfrm>
          <a:custGeom>
            <a:avLst/>
            <a:gdLst/>
            <a:ahLst/>
            <a:rect l="l" t="t" r="r" b="b"/>
            <a:pathLst>
              <a:path w="1594" h="1511">
                <a:moveTo>
                  <a:pt x="994" y="905"/>
                </a:moveTo>
                <a:lnTo>
                  <a:pt x="970" y="926"/>
                </a:lnTo>
                <a:lnTo>
                  <a:pt x="948" y="947"/>
                </a:lnTo>
                <a:lnTo>
                  <a:pt x="927" y="969"/>
                </a:lnTo>
                <a:lnTo>
                  <a:pt x="903" y="990"/>
                </a:lnTo>
                <a:lnTo>
                  <a:pt x="853" y="1031"/>
                </a:lnTo>
                <a:lnTo>
                  <a:pt x="803" y="1069"/>
                </a:lnTo>
                <a:lnTo>
                  <a:pt x="751" y="1107"/>
                </a:lnTo>
                <a:lnTo>
                  <a:pt x="698" y="1143"/>
                </a:lnTo>
                <a:lnTo>
                  <a:pt x="641" y="1181"/>
                </a:lnTo>
                <a:lnTo>
                  <a:pt x="586" y="1214"/>
                </a:lnTo>
                <a:lnTo>
                  <a:pt x="558" y="1233"/>
                </a:lnTo>
                <a:lnTo>
                  <a:pt x="529" y="1252"/>
                </a:lnTo>
                <a:lnTo>
                  <a:pt x="503" y="1271"/>
                </a:lnTo>
                <a:lnTo>
                  <a:pt x="477" y="1288"/>
                </a:lnTo>
                <a:lnTo>
                  <a:pt x="450" y="1304"/>
                </a:lnTo>
                <a:lnTo>
                  <a:pt x="424" y="1321"/>
                </a:lnTo>
                <a:lnTo>
                  <a:pt x="398" y="1335"/>
                </a:lnTo>
                <a:lnTo>
                  <a:pt x="374" y="1350"/>
                </a:lnTo>
                <a:lnTo>
                  <a:pt x="350" y="1364"/>
                </a:lnTo>
                <a:lnTo>
                  <a:pt x="327" y="1378"/>
                </a:lnTo>
                <a:lnTo>
                  <a:pt x="279" y="1402"/>
                </a:lnTo>
                <a:lnTo>
                  <a:pt x="234" y="1426"/>
                </a:lnTo>
                <a:lnTo>
                  <a:pt x="191" y="1447"/>
                </a:lnTo>
                <a:lnTo>
                  <a:pt x="172" y="1459"/>
                </a:lnTo>
                <a:lnTo>
                  <a:pt x="150" y="1469"/>
                </a:lnTo>
                <a:lnTo>
                  <a:pt x="133" y="1478"/>
                </a:lnTo>
                <a:lnTo>
                  <a:pt x="114" y="1485"/>
                </a:lnTo>
                <a:lnTo>
                  <a:pt x="100" y="1492"/>
                </a:lnTo>
                <a:lnTo>
                  <a:pt x="83" y="1500"/>
                </a:lnTo>
                <a:lnTo>
                  <a:pt x="69" y="1504"/>
                </a:lnTo>
                <a:lnTo>
                  <a:pt x="57" y="1507"/>
                </a:lnTo>
                <a:lnTo>
                  <a:pt x="45" y="1509"/>
                </a:lnTo>
                <a:lnTo>
                  <a:pt x="36" y="1511"/>
                </a:lnTo>
                <a:lnTo>
                  <a:pt x="26" y="1511"/>
                </a:lnTo>
                <a:lnTo>
                  <a:pt x="19" y="1511"/>
                </a:lnTo>
                <a:lnTo>
                  <a:pt x="12" y="1509"/>
                </a:lnTo>
                <a:lnTo>
                  <a:pt x="7" y="1507"/>
                </a:lnTo>
                <a:lnTo>
                  <a:pt x="2" y="1502"/>
                </a:lnTo>
                <a:lnTo>
                  <a:pt x="0" y="1500"/>
                </a:lnTo>
                <a:lnTo>
                  <a:pt x="0" y="1495"/>
                </a:lnTo>
                <a:lnTo>
                  <a:pt x="0" y="1492"/>
                </a:lnTo>
                <a:lnTo>
                  <a:pt x="2" y="1485"/>
                </a:lnTo>
                <a:lnTo>
                  <a:pt x="7" y="1480"/>
                </a:lnTo>
                <a:lnTo>
                  <a:pt x="14" y="1473"/>
                </a:lnTo>
                <a:lnTo>
                  <a:pt x="24" y="1464"/>
                </a:lnTo>
                <a:lnTo>
                  <a:pt x="33" y="1454"/>
                </a:lnTo>
                <a:lnTo>
                  <a:pt x="48" y="1445"/>
                </a:lnTo>
                <a:lnTo>
                  <a:pt x="62" y="1433"/>
                </a:lnTo>
                <a:lnTo>
                  <a:pt x="79" y="1421"/>
                </a:lnTo>
                <a:lnTo>
                  <a:pt x="98" y="1407"/>
                </a:lnTo>
                <a:lnTo>
                  <a:pt x="117" y="1395"/>
                </a:lnTo>
                <a:lnTo>
                  <a:pt x="138" y="1378"/>
                </a:lnTo>
                <a:lnTo>
                  <a:pt x="162" y="1364"/>
                </a:lnTo>
                <a:lnTo>
                  <a:pt x="188" y="1347"/>
                </a:lnTo>
                <a:lnTo>
                  <a:pt x="217" y="1331"/>
                </a:lnTo>
                <a:lnTo>
                  <a:pt x="243" y="1314"/>
                </a:lnTo>
                <a:lnTo>
                  <a:pt x="272" y="1295"/>
                </a:lnTo>
                <a:lnTo>
                  <a:pt x="300" y="1273"/>
                </a:lnTo>
                <a:lnTo>
                  <a:pt x="329" y="1252"/>
                </a:lnTo>
                <a:lnTo>
                  <a:pt x="360" y="1231"/>
                </a:lnTo>
                <a:lnTo>
                  <a:pt x="391" y="1207"/>
                </a:lnTo>
                <a:lnTo>
                  <a:pt x="422" y="1181"/>
                </a:lnTo>
                <a:lnTo>
                  <a:pt x="455" y="1154"/>
                </a:lnTo>
                <a:lnTo>
                  <a:pt x="489" y="1128"/>
                </a:lnTo>
                <a:lnTo>
                  <a:pt x="524" y="1097"/>
                </a:lnTo>
                <a:lnTo>
                  <a:pt x="560" y="1066"/>
                </a:lnTo>
                <a:lnTo>
                  <a:pt x="596" y="1035"/>
                </a:lnTo>
                <a:lnTo>
                  <a:pt x="634" y="1002"/>
                </a:lnTo>
                <a:lnTo>
                  <a:pt x="672" y="966"/>
                </a:lnTo>
                <a:lnTo>
                  <a:pt x="710" y="931"/>
                </a:lnTo>
                <a:lnTo>
                  <a:pt x="751" y="890"/>
                </a:lnTo>
                <a:lnTo>
                  <a:pt x="791" y="852"/>
                </a:lnTo>
                <a:lnTo>
                  <a:pt x="827" y="814"/>
                </a:lnTo>
                <a:lnTo>
                  <a:pt x="865" y="778"/>
                </a:lnTo>
                <a:lnTo>
                  <a:pt x="898" y="743"/>
                </a:lnTo>
                <a:lnTo>
                  <a:pt x="932" y="709"/>
                </a:lnTo>
                <a:lnTo>
                  <a:pt x="963" y="676"/>
                </a:lnTo>
                <a:lnTo>
                  <a:pt x="994" y="643"/>
                </a:lnTo>
                <a:lnTo>
                  <a:pt x="1020" y="612"/>
                </a:lnTo>
                <a:lnTo>
                  <a:pt x="1048" y="581"/>
                </a:lnTo>
                <a:lnTo>
                  <a:pt x="1072" y="552"/>
                </a:lnTo>
                <a:lnTo>
                  <a:pt x="1096" y="524"/>
                </a:lnTo>
                <a:lnTo>
                  <a:pt x="1120" y="498"/>
                </a:lnTo>
                <a:lnTo>
                  <a:pt x="1141" y="471"/>
                </a:lnTo>
                <a:lnTo>
                  <a:pt x="1160" y="448"/>
                </a:lnTo>
                <a:lnTo>
                  <a:pt x="1180" y="424"/>
                </a:lnTo>
                <a:lnTo>
                  <a:pt x="1196" y="400"/>
                </a:lnTo>
                <a:lnTo>
                  <a:pt x="1211" y="379"/>
                </a:lnTo>
                <a:lnTo>
                  <a:pt x="1222" y="359"/>
                </a:lnTo>
                <a:lnTo>
                  <a:pt x="1237" y="340"/>
                </a:lnTo>
                <a:lnTo>
                  <a:pt x="1249" y="321"/>
                </a:lnTo>
                <a:lnTo>
                  <a:pt x="1261" y="305"/>
                </a:lnTo>
                <a:lnTo>
                  <a:pt x="1270" y="290"/>
                </a:lnTo>
                <a:lnTo>
                  <a:pt x="1280" y="274"/>
                </a:lnTo>
                <a:lnTo>
                  <a:pt x="1289" y="262"/>
                </a:lnTo>
                <a:lnTo>
                  <a:pt x="1299" y="248"/>
                </a:lnTo>
                <a:lnTo>
                  <a:pt x="1306" y="236"/>
                </a:lnTo>
                <a:lnTo>
                  <a:pt x="1313" y="226"/>
                </a:lnTo>
                <a:lnTo>
                  <a:pt x="1320" y="214"/>
                </a:lnTo>
                <a:lnTo>
                  <a:pt x="1325" y="205"/>
                </a:lnTo>
                <a:lnTo>
                  <a:pt x="1330" y="195"/>
                </a:lnTo>
                <a:lnTo>
                  <a:pt x="1332" y="188"/>
                </a:lnTo>
                <a:lnTo>
                  <a:pt x="1337" y="181"/>
                </a:lnTo>
                <a:lnTo>
                  <a:pt x="1342" y="171"/>
                </a:lnTo>
                <a:lnTo>
                  <a:pt x="1344" y="160"/>
                </a:lnTo>
                <a:lnTo>
                  <a:pt x="1349" y="148"/>
                </a:lnTo>
                <a:lnTo>
                  <a:pt x="1351" y="133"/>
                </a:lnTo>
                <a:lnTo>
                  <a:pt x="1353" y="119"/>
                </a:lnTo>
                <a:lnTo>
                  <a:pt x="1353" y="107"/>
                </a:lnTo>
                <a:lnTo>
                  <a:pt x="1353" y="93"/>
                </a:lnTo>
                <a:lnTo>
                  <a:pt x="1349" y="76"/>
                </a:lnTo>
                <a:lnTo>
                  <a:pt x="1346" y="64"/>
                </a:lnTo>
                <a:lnTo>
                  <a:pt x="1344" y="50"/>
                </a:lnTo>
                <a:lnTo>
                  <a:pt x="1346" y="38"/>
                </a:lnTo>
                <a:lnTo>
                  <a:pt x="1349" y="29"/>
                </a:lnTo>
                <a:lnTo>
                  <a:pt x="1356" y="19"/>
                </a:lnTo>
                <a:lnTo>
                  <a:pt x="1358" y="17"/>
                </a:lnTo>
                <a:lnTo>
                  <a:pt x="1363" y="12"/>
                </a:lnTo>
                <a:lnTo>
                  <a:pt x="1368" y="10"/>
                </a:lnTo>
                <a:lnTo>
                  <a:pt x="1375" y="5"/>
                </a:lnTo>
                <a:lnTo>
                  <a:pt x="1380" y="2"/>
                </a:lnTo>
                <a:lnTo>
                  <a:pt x="1387" y="0"/>
                </a:lnTo>
                <a:lnTo>
                  <a:pt x="1396" y="0"/>
                </a:lnTo>
                <a:lnTo>
                  <a:pt x="1408" y="5"/>
                </a:lnTo>
                <a:lnTo>
                  <a:pt x="1420" y="10"/>
                </a:lnTo>
                <a:lnTo>
                  <a:pt x="1435" y="17"/>
                </a:lnTo>
                <a:lnTo>
                  <a:pt x="1449" y="26"/>
                </a:lnTo>
                <a:lnTo>
                  <a:pt x="1465" y="38"/>
                </a:lnTo>
                <a:lnTo>
                  <a:pt x="1482" y="50"/>
                </a:lnTo>
                <a:lnTo>
                  <a:pt x="1501" y="64"/>
                </a:lnTo>
                <a:lnTo>
                  <a:pt x="1530" y="93"/>
                </a:lnTo>
                <a:lnTo>
                  <a:pt x="1542" y="107"/>
                </a:lnTo>
                <a:lnTo>
                  <a:pt x="1556" y="121"/>
                </a:lnTo>
                <a:lnTo>
                  <a:pt x="1566" y="133"/>
                </a:lnTo>
                <a:lnTo>
                  <a:pt x="1577" y="145"/>
                </a:lnTo>
                <a:lnTo>
                  <a:pt x="1585" y="157"/>
                </a:lnTo>
                <a:lnTo>
                  <a:pt x="1587" y="162"/>
                </a:lnTo>
                <a:lnTo>
                  <a:pt x="1589" y="167"/>
                </a:lnTo>
                <a:lnTo>
                  <a:pt x="1592" y="174"/>
                </a:lnTo>
                <a:lnTo>
                  <a:pt x="1594" y="183"/>
                </a:lnTo>
                <a:lnTo>
                  <a:pt x="1594" y="191"/>
                </a:lnTo>
                <a:lnTo>
                  <a:pt x="1594" y="198"/>
                </a:lnTo>
                <a:lnTo>
                  <a:pt x="1592" y="205"/>
                </a:lnTo>
                <a:lnTo>
                  <a:pt x="1589" y="212"/>
                </a:lnTo>
                <a:lnTo>
                  <a:pt x="1587" y="221"/>
                </a:lnTo>
                <a:lnTo>
                  <a:pt x="1585" y="229"/>
                </a:lnTo>
                <a:lnTo>
                  <a:pt x="1575" y="248"/>
                </a:lnTo>
                <a:lnTo>
                  <a:pt x="1566" y="267"/>
                </a:lnTo>
                <a:lnTo>
                  <a:pt x="1554" y="286"/>
                </a:lnTo>
                <a:lnTo>
                  <a:pt x="1546" y="298"/>
                </a:lnTo>
                <a:lnTo>
                  <a:pt x="1539" y="310"/>
                </a:lnTo>
                <a:lnTo>
                  <a:pt x="1530" y="321"/>
                </a:lnTo>
                <a:lnTo>
                  <a:pt x="1520" y="336"/>
                </a:lnTo>
                <a:lnTo>
                  <a:pt x="1496" y="362"/>
                </a:lnTo>
                <a:lnTo>
                  <a:pt x="1473" y="393"/>
                </a:lnTo>
                <a:lnTo>
                  <a:pt x="1446" y="424"/>
                </a:lnTo>
                <a:lnTo>
                  <a:pt x="1418" y="457"/>
                </a:lnTo>
                <a:lnTo>
                  <a:pt x="1387" y="493"/>
                </a:lnTo>
                <a:lnTo>
                  <a:pt x="1356" y="531"/>
                </a:lnTo>
                <a:lnTo>
                  <a:pt x="1323" y="569"/>
                </a:lnTo>
                <a:lnTo>
                  <a:pt x="1306" y="588"/>
                </a:lnTo>
                <a:lnTo>
                  <a:pt x="1289" y="607"/>
                </a:lnTo>
                <a:lnTo>
                  <a:pt x="1270" y="628"/>
                </a:lnTo>
                <a:lnTo>
                  <a:pt x="1253" y="647"/>
                </a:lnTo>
                <a:lnTo>
                  <a:pt x="1213" y="690"/>
                </a:lnTo>
                <a:lnTo>
                  <a:pt x="1172" y="731"/>
                </a:lnTo>
                <a:lnTo>
                  <a:pt x="1130" y="774"/>
                </a:lnTo>
                <a:lnTo>
                  <a:pt x="1084" y="816"/>
                </a:lnTo>
                <a:lnTo>
                  <a:pt x="1039" y="859"/>
                </a:lnTo>
                <a:lnTo>
                  <a:pt x="994" y="90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Freeform 34"/>
          <p:cNvSpPr/>
          <p:nvPr/>
        </p:nvSpPr>
        <p:spPr>
          <a:xfrm>
            <a:off x="6273720" y="2778120"/>
            <a:ext cx="1112760" cy="619200"/>
          </a:xfrm>
          <a:custGeom>
            <a:avLst/>
            <a:gdLst/>
            <a:ahLst/>
            <a:rect l="l" t="t" r="r" b="b"/>
            <a:pathLst>
              <a:path w="1754" h="976">
                <a:moveTo>
                  <a:pt x="1577" y="788"/>
                </a:moveTo>
                <a:lnTo>
                  <a:pt x="1597" y="792"/>
                </a:lnTo>
                <a:lnTo>
                  <a:pt x="1618" y="795"/>
                </a:lnTo>
                <a:lnTo>
                  <a:pt x="1635" y="797"/>
                </a:lnTo>
                <a:lnTo>
                  <a:pt x="1654" y="800"/>
                </a:lnTo>
                <a:lnTo>
                  <a:pt x="1668" y="804"/>
                </a:lnTo>
                <a:lnTo>
                  <a:pt x="1682" y="809"/>
                </a:lnTo>
                <a:lnTo>
                  <a:pt x="1697" y="811"/>
                </a:lnTo>
                <a:lnTo>
                  <a:pt x="1709" y="816"/>
                </a:lnTo>
                <a:lnTo>
                  <a:pt x="1720" y="821"/>
                </a:lnTo>
                <a:lnTo>
                  <a:pt x="1728" y="826"/>
                </a:lnTo>
                <a:lnTo>
                  <a:pt x="1737" y="831"/>
                </a:lnTo>
                <a:lnTo>
                  <a:pt x="1742" y="835"/>
                </a:lnTo>
                <a:lnTo>
                  <a:pt x="1749" y="840"/>
                </a:lnTo>
                <a:lnTo>
                  <a:pt x="1751" y="845"/>
                </a:lnTo>
                <a:lnTo>
                  <a:pt x="1754" y="850"/>
                </a:lnTo>
                <a:lnTo>
                  <a:pt x="1754" y="854"/>
                </a:lnTo>
                <a:lnTo>
                  <a:pt x="1754" y="859"/>
                </a:lnTo>
                <a:lnTo>
                  <a:pt x="1751" y="864"/>
                </a:lnTo>
                <a:lnTo>
                  <a:pt x="1747" y="869"/>
                </a:lnTo>
                <a:lnTo>
                  <a:pt x="1740" y="873"/>
                </a:lnTo>
                <a:lnTo>
                  <a:pt x="1732" y="878"/>
                </a:lnTo>
                <a:lnTo>
                  <a:pt x="1723" y="883"/>
                </a:lnTo>
                <a:lnTo>
                  <a:pt x="1711" y="888"/>
                </a:lnTo>
                <a:lnTo>
                  <a:pt x="1697" y="892"/>
                </a:lnTo>
                <a:lnTo>
                  <a:pt x="1682" y="897"/>
                </a:lnTo>
                <a:lnTo>
                  <a:pt x="1666" y="902"/>
                </a:lnTo>
                <a:lnTo>
                  <a:pt x="1647" y="907"/>
                </a:lnTo>
                <a:lnTo>
                  <a:pt x="1625" y="911"/>
                </a:lnTo>
                <a:lnTo>
                  <a:pt x="1604" y="916"/>
                </a:lnTo>
                <a:lnTo>
                  <a:pt x="1580" y="921"/>
                </a:lnTo>
                <a:lnTo>
                  <a:pt x="1554" y="926"/>
                </a:lnTo>
                <a:lnTo>
                  <a:pt x="1525" y="930"/>
                </a:lnTo>
                <a:lnTo>
                  <a:pt x="1499" y="938"/>
                </a:lnTo>
                <a:lnTo>
                  <a:pt x="1470" y="945"/>
                </a:lnTo>
                <a:lnTo>
                  <a:pt x="1444" y="950"/>
                </a:lnTo>
                <a:lnTo>
                  <a:pt x="1418" y="954"/>
                </a:lnTo>
                <a:lnTo>
                  <a:pt x="1394" y="959"/>
                </a:lnTo>
                <a:lnTo>
                  <a:pt x="1370" y="964"/>
                </a:lnTo>
                <a:lnTo>
                  <a:pt x="1346" y="966"/>
                </a:lnTo>
                <a:lnTo>
                  <a:pt x="1325" y="971"/>
                </a:lnTo>
                <a:lnTo>
                  <a:pt x="1303" y="971"/>
                </a:lnTo>
                <a:lnTo>
                  <a:pt x="1284" y="973"/>
                </a:lnTo>
                <a:lnTo>
                  <a:pt x="1265" y="973"/>
                </a:lnTo>
                <a:lnTo>
                  <a:pt x="1246" y="976"/>
                </a:lnTo>
                <a:lnTo>
                  <a:pt x="1230" y="973"/>
                </a:lnTo>
                <a:lnTo>
                  <a:pt x="1213" y="973"/>
                </a:lnTo>
                <a:lnTo>
                  <a:pt x="1196" y="971"/>
                </a:lnTo>
                <a:lnTo>
                  <a:pt x="1182" y="969"/>
                </a:lnTo>
                <a:lnTo>
                  <a:pt x="1151" y="964"/>
                </a:lnTo>
                <a:lnTo>
                  <a:pt x="1120" y="959"/>
                </a:lnTo>
                <a:lnTo>
                  <a:pt x="1106" y="957"/>
                </a:lnTo>
                <a:lnTo>
                  <a:pt x="1094" y="954"/>
                </a:lnTo>
                <a:lnTo>
                  <a:pt x="1079" y="950"/>
                </a:lnTo>
                <a:lnTo>
                  <a:pt x="1068" y="947"/>
                </a:lnTo>
                <a:lnTo>
                  <a:pt x="1056" y="942"/>
                </a:lnTo>
                <a:lnTo>
                  <a:pt x="1046" y="940"/>
                </a:lnTo>
                <a:lnTo>
                  <a:pt x="1034" y="935"/>
                </a:lnTo>
                <a:lnTo>
                  <a:pt x="1025" y="930"/>
                </a:lnTo>
                <a:lnTo>
                  <a:pt x="1015" y="923"/>
                </a:lnTo>
                <a:lnTo>
                  <a:pt x="1008" y="919"/>
                </a:lnTo>
                <a:lnTo>
                  <a:pt x="998" y="911"/>
                </a:lnTo>
                <a:lnTo>
                  <a:pt x="991" y="904"/>
                </a:lnTo>
                <a:lnTo>
                  <a:pt x="987" y="902"/>
                </a:lnTo>
                <a:lnTo>
                  <a:pt x="984" y="900"/>
                </a:lnTo>
                <a:lnTo>
                  <a:pt x="977" y="895"/>
                </a:lnTo>
                <a:lnTo>
                  <a:pt x="972" y="890"/>
                </a:lnTo>
                <a:lnTo>
                  <a:pt x="965" y="885"/>
                </a:lnTo>
                <a:lnTo>
                  <a:pt x="960" y="881"/>
                </a:lnTo>
                <a:lnTo>
                  <a:pt x="944" y="869"/>
                </a:lnTo>
                <a:lnTo>
                  <a:pt x="927" y="854"/>
                </a:lnTo>
                <a:lnTo>
                  <a:pt x="906" y="840"/>
                </a:lnTo>
                <a:lnTo>
                  <a:pt x="884" y="821"/>
                </a:lnTo>
                <a:lnTo>
                  <a:pt x="858" y="800"/>
                </a:lnTo>
                <a:lnTo>
                  <a:pt x="832" y="778"/>
                </a:lnTo>
                <a:lnTo>
                  <a:pt x="803" y="754"/>
                </a:lnTo>
                <a:lnTo>
                  <a:pt x="772" y="728"/>
                </a:lnTo>
                <a:lnTo>
                  <a:pt x="739" y="700"/>
                </a:lnTo>
                <a:lnTo>
                  <a:pt x="703" y="671"/>
                </a:lnTo>
                <a:lnTo>
                  <a:pt x="665" y="638"/>
                </a:lnTo>
                <a:lnTo>
                  <a:pt x="627" y="604"/>
                </a:lnTo>
                <a:lnTo>
                  <a:pt x="584" y="569"/>
                </a:lnTo>
                <a:lnTo>
                  <a:pt x="541" y="533"/>
                </a:lnTo>
                <a:lnTo>
                  <a:pt x="496" y="497"/>
                </a:lnTo>
                <a:lnTo>
                  <a:pt x="455" y="462"/>
                </a:lnTo>
                <a:lnTo>
                  <a:pt x="412" y="428"/>
                </a:lnTo>
                <a:lnTo>
                  <a:pt x="374" y="395"/>
                </a:lnTo>
                <a:lnTo>
                  <a:pt x="334" y="362"/>
                </a:lnTo>
                <a:lnTo>
                  <a:pt x="296" y="328"/>
                </a:lnTo>
                <a:lnTo>
                  <a:pt x="260" y="297"/>
                </a:lnTo>
                <a:lnTo>
                  <a:pt x="222" y="266"/>
                </a:lnTo>
                <a:lnTo>
                  <a:pt x="188" y="236"/>
                </a:lnTo>
                <a:lnTo>
                  <a:pt x="155" y="207"/>
                </a:lnTo>
                <a:lnTo>
                  <a:pt x="122" y="176"/>
                </a:lnTo>
                <a:lnTo>
                  <a:pt x="88" y="147"/>
                </a:lnTo>
                <a:lnTo>
                  <a:pt x="57" y="119"/>
                </a:lnTo>
                <a:lnTo>
                  <a:pt x="29" y="93"/>
                </a:lnTo>
                <a:lnTo>
                  <a:pt x="0" y="64"/>
                </a:lnTo>
                <a:lnTo>
                  <a:pt x="31" y="33"/>
                </a:lnTo>
                <a:lnTo>
                  <a:pt x="62" y="0"/>
                </a:lnTo>
                <a:lnTo>
                  <a:pt x="67" y="5"/>
                </a:lnTo>
                <a:lnTo>
                  <a:pt x="72" y="9"/>
                </a:lnTo>
                <a:lnTo>
                  <a:pt x="76" y="14"/>
                </a:lnTo>
                <a:lnTo>
                  <a:pt x="83" y="19"/>
                </a:lnTo>
                <a:lnTo>
                  <a:pt x="91" y="24"/>
                </a:lnTo>
                <a:lnTo>
                  <a:pt x="98" y="28"/>
                </a:lnTo>
                <a:lnTo>
                  <a:pt x="107" y="36"/>
                </a:lnTo>
                <a:lnTo>
                  <a:pt x="114" y="43"/>
                </a:lnTo>
                <a:lnTo>
                  <a:pt x="126" y="50"/>
                </a:lnTo>
                <a:lnTo>
                  <a:pt x="136" y="57"/>
                </a:lnTo>
                <a:lnTo>
                  <a:pt x="148" y="64"/>
                </a:lnTo>
                <a:lnTo>
                  <a:pt x="160" y="71"/>
                </a:lnTo>
                <a:lnTo>
                  <a:pt x="174" y="81"/>
                </a:lnTo>
                <a:lnTo>
                  <a:pt x="186" y="90"/>
                </a:lnTo>
                <a:lnTo>
                  <a:pt x="200" y="100"/>
                </a:lnTo>
                <a:lnTo>
                  <a:pt x="217" y="109"/>
                </a:lnTo>
                <a:lnTo>
                  <a:pt x="231" y="119"/>
                </a:lnTo>
                <a:lnTo>
                  <a:pt x="248" y="131"/>
                </a:lnTo>
                <a:lnTo>
                  <a:pt x="267" y="143"/>
                </a:lnTo>
                <a:lnTo>
                  <a:pt x="284" y="155"/>
                </a:lnTo>
                <a:lnTo>
                  <a:pt x="303" y="166"/>
                </a:lnTo>
                <a:lnTo>
                  <a:pt x="322" y="178"/>
                </a:lnTo>
                <a:lnTo>
                  <a:pt x="343" y="193"/>
                </a:lnTo>
                <a:lnTo>
                  <a:pt x="365" y="207"/>
                </a:lnTo>
                <a:lnTo>
                  <a:pt x="386" y="221"/>
                </a:lnTo>
                <a:lnTo>
                  <a:pt x="408" y="236"/>
                </a:lnTo>
                <a:lnTo>
                  <a:pt x="431" y="252"/>
                </a:lnTo>
                <a:lnTo>
                  <a:pt x="455" y="266"/>
                </a:lnTo>
                <a:lnTo>
                  <a:pt x="481" y="283"/>
                </a:lnTo>
                <a:lnTo>
                  <a:pt x="505" y="300"/>
                </a:lnTo>
                <a:lnTo>
                  <a:pt x="531" y="319"/>
                </a:lnTo>
                <a:lnTo>
                  <a:pt x="560" y="335"/>
                </a:lnTo>
                <a:lnTo>
                  <a:pt x="612" y="371"/>
                </a:lnTo>
                <a:lnTo>
                  <a:pt x="665" y="407"/>
                </a:lnTo>
                <a:lnTo>
                  <a:pt x="715" y="438"/>
                </a:lnTo>
                <a:lnTo>
                  <a:pt x="763" y="469"/>
                </a:lnTo>
                <a:lnTo>
                  <a:pt x="810" y="497"/>
                </a:lnTo>
                <a:lnTo>
                  <a:pt x="855" y="524"/>
                </a:lnTo>
                <a:lnTo>
                  <a:pt x="898" y="547"/>
                </a:lnTo>
                <a:lnTo>
                  <a:pt x="939" y="569"/>
                </a:lnTo>
                <a:lnTo>
                  <a:pt x="979" y="590"/>
                </a:lnTo>
                <a:lnTo>
                  <a:pt x="1018" y="609"/>
                </a:lnTo>
                <a:lnTo>
                  <a:pt x="1053" y="626"/>
                </a:lnTo>
                <a:lnTo>
                  <a:pt x="1089" y="643"/>
                </a:lnTo>
                <a:lnTo>
                  <a:pt x="1120" y="654"/>
                </a:lnTo>
                <a:lnTo>
                  <a:pt x="1151" y="666"/>
                </a:lnTo>
                <a:lnTo>
                  <a:pt x="1180" y="678"/>
                </a:lnTo>
                <a:lnTo>
                  <a:pt x="1208" y="685"/>
                </a:lnTo>
                <a:lnTo>
                  <a:pt x="1258" y="704"/>
                </a:lnTo>
                <a:lnTo>
                  <a:pt x="1308" y="721"/>
                </a:lnTo>
                <a:lnTo>
                  <a:pt x="1356" y="738"/>
                </a:lnTo>
                <a:lnTo>
                  <a:pt x="1401" y="752"/>
                </a:lnTo>
                <a:lnTo>
                  <a:pt x="1446" y="764"/>
                </a:lnTo>
                <a:lnTo>
                  <a:pt x="1489" y="773"/>
                </a:lnTo>
                <a:lnTo>
                  <a:pt x="1535" y="783"/>
                </a:lnTo>
                <a:lnTo>
                  <a:pt x="1577" y="788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Freeform 36"/>
          <p:cNvSpPr/>
          <p:nvPr/>
        </p:nvSpPr>
        <p:spPr>
          <a:xfrm>
            <a:off x="6095880" y="3171960"/>
            <a:ext cx="552600" cy="544320"/>
          </a:xfrm>
          <a:custGeom>
            <a:avLst/>
            <a:gdLst/>
            <a:ahLst/>
            <a:rect l="l" t="t" r="r" b="b"/>
            <a:pathLst>
              <a:path w="870" h="857">
                <a:moveTo>
                  <a:pt x="865" y="143"/>
                </a:moveTo>
                <a:lnTo>
                  <a:pt x="870" y="148"/>
                </a:lnTo>
                <a:lnTo>
                  <a:pt x="870" y="155"/>
                </a:lnTo>
                <a:lnTo>
                  <a:pt x="870" y="160"/>
                </a:lnTo>
                <a:lnTo>
                  <a:pt x="865" y="167"/>
                </a:lnTo>
                <a:lnTo>
                  <a:pt x="860" y="174"/>
                </a:lnTo>
                <a:lnTo>
                  <a:pt x="851" y="181"/>
                </a:lnTo>
                <a:lnTo>
                  <a:pt x="841" y="188"/>
                </a:lnTo>
                <a:lnTo>
                  <a:pt x="827" y="193"/>
                </a:lnTo>
                <a:lnTo>
                  <a:pt x="820" y="198"/>
                </a:lnTo>
                <a:lnTo>
                  <a:pt x="815" y="205"/>
                </a:lnTo>
                <a:lnTo>
                  <a:pt x="808" y="212"/>
                </a:lnTo>
                <a:lnTo>
                  <a:pt x="803" y="219"/>
                </a:lnTo>
                <a:lnTo>
                  <a:pt x="798" y="226"/>
                </a:lnTo>
                <a:lnTo>
                  <a:pt x="796" y="233"/>
                </a:lnTo>
                <a:lnTo>
                  <a:pt x="791" y="243"/>
                </a:lnTo>
                <a:lnTo>
                  <a:pt x="789" y="252"/>
                </a:lnTo>
                <a:lnTo>
                  <a:pt x="784" y="264"/>
                </a:lnTo>
                <a:lnTo>
                  <a:pt x="781" y="276"/>
                </a:lnTo>
                <a:lnTo>
                  <a:pt x="781" y="288"/>
                </a:lnTo>
                <a:lnTo>
                  <a:pt x="779" y="300"/>
                </a:lnTo>
                <a:lnTo>
                  <a:pt x="779" y="314"/>
                </a:lnTo>
                <a:lnTo>
                  <a:pt x="777" y="329"/>
                </a:lnTo>
                <a:lnTo>
                  <a:pt x="777" y="345"/>
                </a:lnTo>
                <a:lnTo>
                  <a:pt x="777" y="362"/>
                </a:lnTo>
                <a:lnTo>
                  <a:pt x="777" y="395"/>
                </a:lnTo>
                <a:lnTo>
                  <a:pt x="774" y="426"/>
                </a:lnTo>
                <a:lnTo>
                  <a:pt x="772" y="457"/>
                </a:lnTo>
                <a:lnTo>
                  <a:pt x="770" y="488"/>
                </a:lnTo>
                <a:lnTo>
                  <a:pt x="765" y="517"/>
                </a:lnTo>
                <a:lnTo>
                  <a:pt x="760" y="543"/>
                </a:lnTo>
                <a:lnTo>
                  <a:pt x="755" y="569"/>
                </a:lnTo>
                <a:lnTo>
                  <a:pt x="750" y="595"/>
                </a:lnTo>
                <a:lnTo>
                  <a:pt x="741" y="624"/>
                </a:lnTo>
                <a:lnTo>
                  <a:pt x="729" y="650"/>
                </a:lnTo>
                <a:lnTo>
                  <a:pt x="717" y="676"/>
                </a:lnTo>
                <a:lnTo>
                  <a:pt x="705" y="700"/>
                </a:lnTo>
                <a:lnTo>
                  <a:pt x="691" y="724"/>
                </a:lnTo>
                <a:lnTo>
                  <a:pt x="677" y="747"/>
                </a:lnTo>
                <a:lnTo>
                  <a:pt x="662" y="769"/>
                </a:lnTo>
                <a:lnTo>
                  <a:pt x="650" y="788"/>
                </a:lnTo>
                <a:lnTo>
                  <a:pt x="641" y="797"/>
                </a:lnTo>
                <a:lnTo>
                  <a:pt x="631" y="807"/>
                </a:lnTo>
                <a:lnTo>
                  <a:pt x="622" y="814"/>
                </a:lnTo>
                <a:lnTo>
                  <a:pt x="615" y="821"/>
                </a:lnTo>
                <a:lnTo>
                  <a:pt x="605" y="828"/>
                </a:lnTo>
                <a:lnTo>
                  <a:pt x="598" y="835"/>
                </a:lnTo>
                <a:lnTo>
                  <a:pt x="591" y="840"/>
                </a:lnTo>
                <a:lnTo>
                  <a:pt x="584" y="845"/>
                </a:lnTo>
                <a:lnTo>
                  <a:pt x="577" y="847"/>
                </a:lnTo>
                <a:lnTo>
                  <a:pt x="569" y="852"/>
                </a:lnTo>
                <a:lnTo>
                  <a:pt x="562" y="855"/>
                </a:lnTo>
                <a:lnTo>
                  <a:pt x="555" y="855"/>
                </a:lnTo>
                <a:lnTo>
                  <a:pt x="550" y="857"/>
                </a:lnTo>
                <a:lnTo>
                  <a:pt x="546" y="855"/>
                </a:lnTo>
                <a:lnTo>
                  <a:pt x="541" y="855"/>
                </a:lnTo>
                <a:lnTo>
                  <a:pt x="534" y="852"/>
                </a:lnTo>
                <a:lnTo>
                  <a:pt x="526" y="847"/>
                </a:lnTo>
                <a:lnTo>
                  <a:pt x="517" y="840"/>
                </a:lnTo>
                <a:lnTo>
                  <a:pt x="512" y="833"/>
                </a:lnTo>
                <a:lnTo>
                  <a:pt x="505" y="824"/>
                </a:lnTo>
                <a:lnTo>
                  <a:pt x="503" y="814"/>
                </a:lnTo>
                <a:lnTo>
                  <a:pt x="498" y="802"/>
                </a:lnTo>
                <a:lnTo>
                  <a:pt x="498" y="788"/>
                </a:lnTo>
                <a:lnTo>
                  <a:pt x="496" y="776"/>
                </a:lnTo>
                <a:lnTo>
                  <a:pt x="491" y="759"/>
                </a:lnTo>
                <a:lnTo>
                  <a:pt x="484" y="745"/>
                </a:lnTo>
                <a:lnTo>
                  <a:pt x="476" y="728"/>
                </a:lnTo>
                <a:lnTo>
                  <a:pt x="465" y="712"/>
                </a:lnTo>
                <a:lnTo>
                  <a:pt x="457" y="702"/>
                </a:lnTo>
                <a:lnTo>
                  <a:pt x="453" y="693"/>
                </a:lnTo>
                <a:lnTo>
                  <a:pt x="443" y="686"/>
                </a:lnTo>
                <a:lnTo>
                  <a:pt x="436" y="676"/>
                </a:lnTo>
                <a:lnTo>
                  <a:pt x="426" y="669"/>
                </a:lnTo>
                <a:lnTo>
                  <a:pt x="417" y="662"/>
                </a:lnTo>
                <a:lnTo>
                  <a:pt x="407" y="655"/>
                </a:lnTo>
                <a:lnTo>
                  <a:pt x="395" y="645"/>
                </a:lnTo>
                <a:lnTo>
                  <a:pt x="384" y="638"/>
                </a:lnTo>
                <a:lnTo>
                  <a:pt x="372" y="631"/>
                </a:lnTo>
                <a:lnTo>
                  <a:pt x="362" y="626"/>
                </a:lnTo>
                <a:lnTo>
                  <a:pt x="353" y="619"/>
                </a:lnTo>
                <a:lnTo>
                  <a:pt x="343" y="614"/>
                </a:lnTo>
                <a:lnTo>
                  <a:pt x="336" y="607"/>
                </a:lnTo>
                <a:lnTo>
                  <a:pt x="329" y="602"/>
                </a:lnTo>
                <a:lnTo>
                  <a:pt x="322" y="597"/>
                </a:lnTo>
                <a:lnTo>
                  <a:pt x="317" y="593"/>
                </a:lnTo>
                <a:lnTo>
                  <a:pt x="312" y="588"/>
                </a:lnTo>
                <a:lnTo>
                  <a:pt x="307" y="583"/>
                </a:lnTo>
                <a:lnTo>
                  <a:pt x="305" y="581"/>
                </a:lnTo>
                <a:lnTo>
                  <a:pt x="305" y="576"/>
                </a:lnTo>
                <a:lnTo>
                  <a:pt x="303" y="574"/>
                </a:lnTo>
                <a:lnTo>
                  <a:pt x="305" y="571"/>
                </a:lnTo>
                <a:lnTo>
                  <a:pt x="305" y="569"/>
                </a:lnTo>
                <a:lnTo>
                  <a:pt x="305" y="567"/>
                </a:lnTo>
                <a:lnTo>
                  <a:pt x="307" y="564"/>
                </a:lnTo>
                <a:lnTo>
                  <a:pt x="310" y="562"/>
                </a:lnTo>
                <a:lnTo>
                  <a:pt x="314" y="559"/>
                </a:lnTo>
                <a:lnTo>
                  <a:pt x="317" y="559"/>
                </a:lnTo>
                <a:lnTo>
                  <a:pt x="322" y="559"/>
                </a:lnTo>
                <a:lnTo>
                  <a:pt x="326" y="559"/>
                </a:lnTo>
                <a:lnTo>
                  <a:pt x="331" y="559"/>
                </a:lnTo>
                <a:lnTo>
                  <a:pt x="338" y="559"/>
                </a:lnTo>
                <a:lnTo>
                  <a:pt x="345" y="559"/>
                </a:lnTo>
                <a:lnTo>
                  <a:pt x="355" y="562"/>
                </a:lnTo>
                <a:lnTo>
                  <a:pt x="362" y="562"/>
                </a:lnTo>
                <a:lnTo>
                  <a:pt x="374" y="564"/>
                </a:lnTo>
                <a:lnTo>
                  <a:pt x="384" y="567"/>
                </a:lnTo>
                <a:lnTo>
                  <a:pt x="395" y="569"/>
                </a:lnTo>
                <a:lnTo>
                  <a:pt x="417" y="574"/>
                </a:lnTo>
                <a:lnTo>
                  <a:pt x="438" y="578"/>
                </a:lnTo>
                <a:lnTo>
                  <a:pt x="457" y="581"/>
                </a:lnTo>
                <a:lnTo>
                  <a:pt x="472" y="586"/>
                </a:lnTo>
                <a:lnTo>
                  <a:pt x="488" y="586"/>
                </a:lnTo>
                <a:lnTo>
                  <a:pt x="500" y="586"/>
                </a:lnTo>
                <a:lnTo>
                  <a:pt x="512" y="586"/>
                </a:lnTo>
                <a:lnTo>
                  <a:pt x="517" y="583"/>
                </a:lnTo>
                <a:lnTo>
                  <a:pt x="522" y="581"/>
                </a:lnTo>
                <a:lnTo>
                  <a:pt x="526" y="576"/>
                </a:lnTo>
                <a:lnTo>
                  <a:pt x="534" y="569"/>
                </a:lnTo>
                <a:lnTo>
                  <a:pt x="541" y="559"/>
                </a:lnTo>
                <a:lnTo>
                  <a:pt x="543" y="555"/>
                </a:lnTo>
                <a:lnTo>
                  <a:pt x="548" y="550"/>
                </a:lnTo>
                <a:lnTo>
                  <a:pt x="550" y="543"/>
                </a:lnTo>
                <a:lnTo>
                  <a:pt x="555" y="536"/>
                </a:lnTo>
                <a:lnTo>
                  <a:pt x="557" y="528"/>
                </a:lnTo>
                <a:lnTo>
                  <a:pt x="562" y="519"/>
                </a:lnTo>
                <a:lnTo>
                  <a:pt x="565" y="509"/>
                </a:lnTo>
                <a:lnTo>
                  <a:pt x="567" y="500"/>
                </a:lnTo>
                <a:lnTo>
                  <a:pt x="569" y="490"/>
                </a:lnTo>
                <a:lnTo>
                  <a:pt x="572" y="478"/>
                </a:lnTo>
                <a:lnTo>
                  <a:pt x="577" y="455"/>
                </a:lnTo>
                <a:lnTo>
                  <a:pt x="581" y="431"/>
                </a:lnTo>
                <a:lnTo>
                  <a:pt x="586" y="409"/>
                </a:lnTo>
                <a:lnTo>
                  <a:pt x="591" y="388"/>
                </a:lnTo>
                <a:lnTo>
                  <a:pt x="593" y="369"/>
                </a:lnTo>
                <a:lnTo>
                  <a:pt x="596" y="350"/>
                </a:lnTo>
                <a:lnTo>
                  <a:pt x="598" y="329"/>
                </a:lnTo>
                <a:lnTo>
                  <a:pt x="598" y="309"/>
                </a:lnTo>
                <a:lnTo>
                  <a:pt x="593" y="295"/>
                </a:lnTo>
                <a:lnTo>
                  <a:pt x="591" y="281"/>
                </a:lnTo>
                <a:lnTo>
                  <a:pt x="588" y="267"/>
                </a:lnTo>
                <a:lnTo>
                  <a:pt x="586" y="252"/>
                </a:lnTo>
                <a:lnTo>
                  <a:pt x="584" y="240"/>
                </a:lnTo>
                <a:lnTo>
                  <a:pt x="581" y="229"/>
                </a:lnTo>
                <a:lnTo>
                  <a:pt x="577" y="217"/>
                </a:lnTo>
                <a:lnTo>
                  <a:pt x="572" y="207"/>
                </a:lnTo>
                <a:lnTo>
                  <a:pt x="572" y="205"/>
                </a:lnTo>
                <a:lnTo>
                  <a:pt x="569" y="202"/>
                </a:lnTo>
                <a:lnTo>
                  <a:pt x="565" y="200"/>
                </a:lnTo>
                <a:lnTo>
                  <a:pt x="560" y="200"/>
                </a:lnTo>
                <a:lnTo>
                  <a:pt x="555" y="198"/>
                </a:lnTo>
                <a:lnTo>
                  <a:pt x="548" y="198"/>
                </a:lnTo>
                <a:lnTo>
                  <a:pt x="538" y="198"/>
                </a:lnTo>
                <a:lnTo>
                  <a:pt x="529" y="195"/>
                </a:lnTo>
                <a:lnTo>
                  <a:pt x="519" y="195"/>
                </a:lnTo>
                <a:lnTo>
                  <a:pt x="510" y="198"/>
                </a:lnTo>
                <a:lnTo>
                  <a:pt x="498" y="198"/>
                </a:lnTo>
                <a:lnTo>
                  <a:pt x="484" y="198"/>
                </a:lnTo>
                <a:lnTo>
                  <a:pt x="469" y="200"/>
                </a:lnTo>
                <a:lnTo>
                  <a:pt x="455" y="200"/>
                </a:lnTo>
                <a:lnTo>
                  <a:pt x="438" y="202"/>
                </a:lnTo>
                <a:lnTo>
                  <a:pt x="419" y="205"/>
                </a:lnTo>
                <a:lnTo>
                  <a:pt x="403" y="207"/>
                </a:lnTo>
                <a:lnTo>
                  <a:pt x="384" y="210"/>
                </a:lnTo>
                <a:lnTo>
                  <a:pt x="362" y="212"/>
                </a:lnTo>
                <a:lnTo>
                  <a:pt x="341" y="214"/>
                </a:lnTo>
                <a:lnTo>
                  <a:pt x="317" y="219"/>
                </a:lnTo>
                <a:lnTo>
                  <a:pt x="293" y="221"/>
                </a:lnTo>
                <a:lnTo>
                  <a:pt x="269" y="226"/>
                </a:lnTo>
                <a:lnTo>
                  <a:pt x="243" y="229"/>
                </a:lnTo>
                <a:lnTo>
                  <a:pt x="217" y="233"/>
                </a:lnTo>
                <a:lnTo>
                  <a:pt x="188" y="238"/>
                </a:lnTo>
                <a:lnTo>
                  <a:pt x="160" y="243"/>
                </a:lnTo>
                <a:lnTo>
                  <a:pt x="131" y="248"/>
                </a:lnTo>
                <a:lnTo>
                  <a:pt x="100" y="255"/>
                </a:lnTo>
                <a:lnTo>
                  <a:pt x="67" y="260"/>
                </a:lnTo>
                <a:lnTo>
                  <a:pt x="36" y="264"/>
                </a:lnTo>
                <a:lnTo>
                  <a:pt x="0" y="271"/>
                </a:lnTo>
                <a:lnTo>
                  <a:pt x="0" y="167"/>
                </a:lnTo>
                <a:lnTo>
                  <a:pt x="31" y="162"/>
                </a:lnTo>
                <a:lnTo>
                  <a:pt x="59" y="155"/>
                </a:lnTo>
                <a:lnTo>
                  <a:pt x="86" y="150"/>
                </a:lnTo>
                <a:lnTo>
                  <a:pt x="112" y="145"/>
                </a:lnTo>
                <a:lnTo>
                  <a:pt x="138" y="141"/>
                </a:lnTo>
                <a:lnTo>
                  <a:pt x="164" y="136"/>
                </a:lnTo>
                <a:lnTo>
                  <a:pt x="188" y="131"/>
                </a:lnTo>
                <a:lnTo>
                  <a:pt x="212" y="126"/>
                </a:lnTo>
                <a:lnTo>
                  <a:pt x="236" y="121"/>
                </a:lnTo>
                <a:lnTo>
                  <a:pt x="257" y="117"/>
                </a:lnTo>
                <a:lnTo>
                  <a:pt x="279" y="114"/>
                </a:lnTo>
                <a:lnTo>
                  <a:pt x="298" y="110"/>
                </a:lnTo>
                <a:lnTo>
                  <a:pt x="317" y="105"/>
                </a:lnTo>
                <a:lnTo>
                  <a:pt x="336" y="102"/>
                </a:lnTo>
                <a:lnTo>
                  <a:pt x="355" y="100"/>
                </a:lnTo>
                <a:lnTo>
                  <a:pt x="372" y="95"/>
                </a:lnTo>
                <a:lnTo>
                  <a:pt x="386" y="93"/>
                </a:lnTo>
                <a:lnTo>
                  <a:pt x="403" y="91"/>
                </a:lnTo>
                <a:lnTo>
                  <a:pt x="417" y="88"/>
                </a:lnTo>
                <a:lnTo>
                  <a:pt x="429" y="86"/>
                </a:lnTo>
                <a:lnTo>
                  <a:pt x="443" y="83"/>
                </a:lnTo>
                <a:lnTo>
                  <a:pt x="455" y="81"/>
                </a:lnTo>
                <a:lnTo>
                  <a:pt x="465" y="79"/>
                </a:lnTo>
                <a:lnTo>
                  <a:pt x="474" y="76"/>
                </a:lnTo>
                <a:lnTo>
                  <a:pt x="484" y="74"/>
                </a:lnTo>
                <a:lnTo>
                  <a:pt x="491" y="74"/>
                </a:lnTo>
                <a:lnTo>
                  <a:pt x="498" y="71"/>
                </a:lnTo>
                <a:lnTo>
                  <a:pt x="505" y="69"/>
                </a:lnTo>
                <a:lnTo>
                  <a:pt x="510" y="69"/>
                </a:lnTo>
                <a:lnTo>
                  <a:pt x="515" y="67"/>
                </a:lnTo>
                <a:lnTo>
                  <a:pt x="519" y="67"/>
                </a:lnTo>
                <a:lnTo>
                  <a:pt x="522" y="64"/>
                </a:lnTo>
                <a:lnTo>
                  <a:pt x="526" y="64"/>
                </a:lnTo>
                <a:lnTo>
                  <a:pt x="534" y="62"/>
                </a:lnTo>
                <a:lnTo>
                  <a:pt x="541" y="60"/>
                </a:lnTo>
                <a:lnTo>
                  <a:pt x="550" y="55"/>
                </a:lnTo>
                <a:lnTo>
                  <a:pt x="560" y="50"/>
                </a:lnTo>
                <a:lnTo>
                  <a:pt x="572" y="43"/>
                </a:lnTo>
                <a:lnTo>
                  <a:pt x="584" y="36"/>
                </a:lnTo>
                <a:lnTo>
                  <a:pt x="598" y="26"/>
                </a:lnTo>
                <a:lnTo>
                  <a:pt x="612" y="22"/>
                </a:lnTo>
                <a:lnTo>
                  <a:pt x="624" y="17"/>
                </a:lnTo>
                <a:lnTo>
                  <a:pt x="636" y="12"/>
                </a:lnTo>
                <a:lnTo>
                  <a:pt x="648" y="7"/>
                </a:lnTo>
                <a:lnTo>
                  <a:pt x="658" y="5"/>
                </a:lnTo>
                <a:lnTo>
                  <a:pt x="667" y="2"/>
                </a:lnTo>
                <a:lnTo>
                  <a:pt x="679" y="0"/>
                </a:lnTo>
                <a:lnTo>
                  <a:pt x="689" y="0"/>
                </a:lnTo>
                <a:lnTo>
                  <a:pt x="691" y="2"/>
                </a:lnTo>
                <a:lnTo>
                  <a:pt x="693" y="5"/>
                </a:lnTo>
                <a:lnTo>
                  <a:pt x="700" y="10"/>
                </a:lnTo>
                <a:lnTo>
                  <a:pt x="712" y="14"/>
                </a:lnTo>
                <a:lnTo>
                  <a:pt x="724" y="22"/>
                </a:lnTo>
                <a:lnTo>
                  <a:pt x="739" y="26"/>
                </a:lnTo>
                <a:lnTo>
                  <a:pt x="753" y="33"/>
                </a:lnTo>
                <a:lnTo>
                  <a:pt x="772" y="43"/>
                </a:lnTo>
                <a:lnTo>
                  <a:pt x="789" y="52"/>
                </a:lnTo>
                <a:lnTo>
                  <a:pt x="808" y="67"/>
                </a:lnTo>
                <a:lnTo>
                  <a:pt x="822" y="79"/>
                </a:lnTo>
                <a:lnTo>
                  <a:pt x="836" y="91"/>
                </a:lnTo>
                <a:lnTo>
                  <a:pt x="846" y="102"/>
                </a:lnTo>
                <a:lnTo>
                  <a:pt x="855" y="112"/>
                </a:lnTo>
                <a:lnTo>
                  <a:pt x="858" y="117"/>
                </a:lnTo>
                <a:lnTo>
                  <a:pt x="860" y="121"/>
                </a:lnTo>
                <a:lnTo>
                  <a:pt x="862" y="126"/>
                </a:lnTo>
                <a:lnTo>
                  <a:pt x="865" y="133"/>
                </a:lnTo>
                <a:lnTo>
                  <a:pt x="865" y="138"/>
                </a:lnTo>
                <a:lnTo>
                  <a:pt x="865" y="14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Freeform 35"/>
          <p:cNvSpPr/>
          <p:nvPr/>
        </p:nvSpPr>
        <p:spPr>
          <a:xfrm>
            <a:off x="5992920" y="3236760"/>
            <a:ext cx="992160" cy="827280"/>
          </a:xfrm>
          <a:custGeom>
            <a:avLst/>
            <a:gdLst/>
            <a:ahLst/>
            <a:rect l="l" t="t" r="r" b="b"/>
            <a:pathLst>
              <a:path w="1563" h="1302">
                <a:moveTo>
                  <a:pt x="291" y="1217"/>
                </a:moveTo>
                <a:lnTo>
                  <a:pt x="267" y="1200"/>
                </a:lnTo>
                <a:lnTo>
                  <a:pt x="245" y="1183"/>
                </a:lnTo>
                <a:lnTo>
                  <a:pt x="224" y="1167"/>
                </a:lnTo>
                <a:lnTo>
                  <a:pt x="205" y="1145"/>
                </a:lnTo>
                <a:lnTo>
                  <a:pt x="186" y="1124"/>
                </a:lnTo>
                <a:lnTo>
                  <a:pt x="169" y="1102"/>
                </a:lnTo>
                <a:lnTo>
                  <a:pt x="152" y="1076"/>
                </a:lnTo>
                <a:lnTo>
                  <a:pt x="145" y="1062"/>
                </a:lnTo>
                <a:lnTo>
                  <a:pt x="138" y="1048"/>
                </a:lnTo>
                <a:lnTo>
                  <a:pt x="131" y="1031"/>
                </a:lnTo>
                <a:lnTo>
                  <a:pt x="124" y="1010"/>
                </a:lnTo>
                <a:lnTo>
                  <a:pt x="117" y="991"/>
                </a:lnTo>
                <a:lnTo>
                  <a:pt x="112" y="967"/>
                </a:lnTo>
                <a:lnTo>
                  <a:pt x="105" y="943"/>
                </a:lnTo>
                <a:lnTo>
                  <a:pt x="100" y="917"/>
                </a:lnTo>
                <a:lnTo>
                  <a:pt x="95" y="891"/>
                </a:lnTo>
                <a:lnTo>
                  <a:pt x="90" y="860"/>
                </a:lnTo>
                <a:lnTo>
                  <a:pt x="88" y="829"/>
                </a:lnTo>
                <a:lnTo>
                  <a:pt x="83" y="795"/>
                </a:lnTo>
                <a:lnTo>
                  <a:pt x="81" y="762"/>
                </a:lnTo>
                <a:lnTo>
                  <a:pt x="78" y="724"/>
                </a:lnTo>
                <a:lnTo>
                  <a:pt x="76" y="686"/>
                </a:lnTo>
                <a:lnTo>
                  <a:pt x="74" y="645"/>
                </a:lnTo>
                <a:lnTo>
                  <a:pt x="74" y="603"/>
                </a:lnTo>
                <a:lnTo>
                  <a:pt x="74" y="557"/>
                </a:lnTo>
                <a:lnTo>
                  <a:pt x="74" y="534"/>
                </a:lnTo>
                <a:lnTo>
                  <a:pt x="74" y="512"/>
                </a:lnTo>
                <a:lnTo>
                  <a:pt x="74" y="491"/>
                </a:lnTo>
                <a:lnTo>
                  <a:pt x="74" y="469"/>
                </a:lnTo>
                <a:lnTo>
                  <a:pt x="71" y="450"/>
                </a:lnTo>
                <a:lnTo>
                  <a:pt x="71" y="429"/>
                </a:lnTo>
                <a:lnTo>
                  <a:pt x="71" y="391"/>
                </a:lnTo>
                <a:lnTo>
                  <a:pt x="69" y="357"/>
                </a:lnTo>
                <a:lnTo>
                  <a:pt x="67" y="324"/>
                </a:lnTo>
                <a:lnTo>
                  <a:pt x="64" y="293"/>
                </a:lnTo>
                <a:lnTo>
                  <a:pt x="62" y="265"/>
                </a:lnTo>
                <a:lnTo>
                  <a:pt x="59" y="238"/>
                </a:lnTo>
                <a:lnTo>
                  <a:pt x="55" y="215"/>
                </a:lnTo>
                <a:lnTo>
                  <a:pt x="50" y="193"/>
                </a:lnTo>
                <a:lnTo>
                  <a:pt x="48" y="174"/>
                </a:lnTo>
                <a:lnTo>
                  <a:pt x="40" y="155"/>
                </a:lnTo>
                <a:lnTo>
                  <a:pt x="36" y="141"/>
                </a:lnTo>
                <a:lnTo>
                  <a:pt x="28" y="129"/>
                </a:lnTo>
                <a:lnTo>
                  <a:pt x="24" y="117"/>
                </a:lnTo>
                <a:lnTo>
                  <a:pt x="17" y="110"/>
                </a:lnTo>
                <a:lnTo>
                  <a:pt x="12" y="103"/>
                </a:lnTo>
                <a:lnTo>
                  <a:pt x="7" y="96"/>
                </a:lnTo>
                <a:lnTo>
                  <a:pt x="2" y="88"/>
                </a:lnTo>
                <a:lnTo>
                  <a:pt x="2" y="81"/>
                </a:lnTo>
                <a:lnTo>
                  <a:pt x="0" y="74"/>
                </a:lnTo>
                <a:lnTo>
                  <a:pt x="0" y="67"/>
                </a:lnTo>
                <a:lnTo>
                  <a:pt x="0" y="60"/>
                </a:lnTo>
                <a:lnTo>
                  <a:pt x="2" y="55"/>
                </a:lnTo>
                <a:lnTo>
                  <a:pt x="5" y="48"/>
                </a:lnTo>
                <a:lnTo>
                  <a:pt x="7" y="41"/>
                </a:lnTo>
                <a:lnTo>
                  <a:pt x="12" y="36"/>
                </a:lnTo>
                <a:lnTo>
                  <a:pt x="17" y="29"/>
                </a:lnTo>
                <a:lnTo>
                  <a:pt x="21" y="24"/>
                </a:lnTo>
                <a:lnTo>
                  <a:pt x="28" y="19"/>
                </a:lnTo>
                <a:lnTo>
                  <a:pt x="36" y="15"/>
                </a:lnTo>
                <a:lnTo>
                  <a:pt x="43" y="10"/>
                </a:lnTo>
                <a:lnTo>
                  <a:pt x="50" y="5"/>
                </a:lnTo>
                <a:lnTo>
                  <a:pt x="59" y="3"/>
                </a:lnTo>
                <a:lnTo>
                  <a:pt x="69" y="3"/>
                </a:lnTo>
                <a:lnTo>
                  <a:pt x="78" y="0"/>
                </a:lnTo>
                <a:lnTo>
                  <a:pt x="88" y="0"/>
                </a:lnTo>
                <a:lnTo>
                  <a:pt x="100" y="3"/>
                </a:lnTo>
                <a:lnTo>
                  <a:pt x="112" y="5"/>
                </a:lnTo>
                <a:lnTo>
                  <a:pt x="124" y="10"/>
                </a:lnTo>
                <a:lnTo>
                  <a:pt x="138" y="15"/>
                </a:lnTo>
                <a:lnTo>
                  <a:pt x="150" y="19"/>
                </a:lnTo>
                <a:lnTo>
                  <a:pt x="164" y="27"/>
                </a:lnTo>
                <a:lnTo>
                  <a:pt x="179" y="34"/>
                </a:lnTo>
                <a:lnTo>
                  <a:pt x="195" y="43"/>
                </a:lnTo>
                <a:lnTo>
                  <a:pt x="210" y="53"/>
                </a:lnTo>
                <a:lnTo>
                  <a:pt x="226" y="65"/>
                </a:lnTo>
                <a:lnTo>
                  <a:pt x="226" y="119"/>
                </a:lnTo>
                <a:lnTo>
                  <a:pt x="226" y="172"/>
                </a:lnTo>
                <a:lnTo>
                  <a:pt x="226" y="224"/>
                </a:lnTo>
                <a:lnTo>
                  <a:pt x="226" y="277"/>
                </a:lnTo>
                <a:lnTo>
                  <a:pt x="226" y="326"/>
                </a:lnTo>
                <a:lnTo>
                  <a:pt x="226" y="374"/>
                </a:lnTo>
                <a:lnTo>
                  <a:pt x="226" y="422"/>
                </a:lnTo>
                <a:lnTo>
                  <a:pt x="226" y="443"/>
                </a:lnTo>
                <a:lnTo>
                  <a:pt x="226" y="467"/>
                </a:lnTo>
                <a:lnTo>
                  <a:pt x="224" y="491"/>
                </a:lnTo>
                <a:lnTo>
                  <a:pt x="221" y="515"/>
                </a:lnTo>
                <a:lnTo>
                  <a:pt x="221" y="536"/>
                </a:lnTo>
                <a:lnTo>
                  <a:pt x="219" y="557"/>
                </a:lnTo>
                <a:lnTo>
                  <a:pt x="219" y="579"/>
                </a:lnTo>
                <a:lnTo>
                  <a:pt x="217" y="600"/>
                </a:lnTo>
                <a:lnTo>
                  <a:pt x="217" y="622"/>
                </a:lnTo>
                <a:lnTo>
                  <a:pt x="217" y="641"/>
                </a:lnTo>
                <a:lnTo>
                  <a:pt x="217" y="660"/>
                </a:lnTo>
                <a:lnTo>
                  <a:pt x="217" y="679"/>
                </a:lnTo>
                <a:lnTo>
                  <a:pt x="219" y="695"/>
                </a:lnTo>
                <a:lnTo>
                  <a:pt x="219" y="714"/>
                </a:lnTo>
                <a:lnTo>
                  <a:pt x="221" y="731"/>
                </a:lnTo>
                <a:lnTo>
                  <a:pt x="221" y="745"/>
                </a:lnTo>
                <a:lnTo>
                  <a:pt x="224" y="762"/>
                </a:lnTo>
                <a:lnTo>
                  <a:pt x="226" y="776"/>
                </a:lnTo>
                <a:lnTo>
                  <a:pt x="226" y="805"/>
                </a:lnTo>
                <a:lnTo>
                  <a:pt x="229" y="831"/>
                </a:lnTo>
                <a:lnTo>
                  <a:pt x="231" y="857"/>
                </a:lnTo>
                <a:lnTo>
                  <a:pt x="236" y="881"/>
                </a:lnTo>
                <a:lnTo>
                  <a:pt x="241" y="902"/>
                </a:lnTo>
                <a:lnTo>
                  <a:pt x="248" y="924"/>
                </a:lnTo>
                <a:lnTo>
                  <a:pt x="255" y="941"/>
                </a:lnTo>
                <a:lnTo>
                  <a:pt x="264" y="957"/>
                </a:lnTo>
                <a:lnTo>
                  <a:pt x="269" y="964"/>
                </a:lnTo>
                <a:lnTo>
                  <a:pt x="274" y="971"/>
                </a:lnTo>
                <a:lnTo>
                  <a:pt x="281" y="979"/>
                </a:lnTo>
                <a:lnTo>
                  <a:pt x="288" y="986"/>
                </a:lnTo>
                <a:lnTo>
                  <a:pt x="295" y="993"/>
                </a:lnTo>
                <a:lnTo>
                  <a:pt x="302" y="1000"/>
                </a:lnTo>
                <a:lnTo>
                  <a:pt x="312" y="1007"/>
                </a:lnTo>
                <a:lnTo>
                  <a:pt x="322" y="1014"/>
                </a:lnTo>
                <a:lnTo>
                  <a:pt x="331" y="1019"/>
                </a:lnTo>
                <a:lnTo>
                  <a:pt x="343" y="1026"/>
                </a:lnTo>
                <a:lnTo>
                  <a:pt x="364" y="1038"/>
                </a:lnTo>
                <a:lnTo>
                  <a:pt x="391" y="1050"/>
                </a:lnTo>
                <a:lnTo>
                  <a:pt x="417" y="1060"/>
                </a:lnTo>
                <a:lnTo>
                  <a:pt x="431" y="1064"/>
                </a:lnTo>
                <a:lnTo>
                  <a:pt x="448" y="1069"/>
                </a:lnTo>
                <a:lnTo>
                  <a:pt x="462" y="1074"/>
                </a:lnTo>
                <a:lnTo>
                  <a:pt x="479" y="1079"/>
                </a:lnTo>
                <a:lnTo>
                  <a:pt x="495" y="1081"/>
                </a:lnTo>
                <a:lnTo>
                  <a:pt x="515" y="1083"/>
                </a:lnTo>
                <a:lnTo>
                  <a:pt x="531" y="1088"/>
                </a:lnTo>
                <a:lnTo>
                  <a:pt x="550" y="1090"/>
                </a:lnTo>
                <a:lnTo>
                  <a:pt x="569" y="1093"/>
                </a:lnTo>
                <a:lnTo>
                  <a:pt x="591" y="1093"/>
                </a:lnTo>
                <a:lnTo>
                  <a:pt x="610" y="1095"/>
                </a:lnTo>
                <a:lnTo>
                  <a:pt x="631" y="1098"/>
                </a:lnTo>
                <a:lnTo>
                  <a:pt x="677" y="1098"/>
                </a:lnTo>
                <a:lnTo>
                  <a:pt x="722" y="1100"/>
                </a:lnTo>
                <a:lnTo>
                  <a:pt x="770" y="1098"/>
                </a:lnTo>
                <a:lnTo>
                  <a:pt x="812" y="1098"/>
                </a:lnTo>
                <a:lnTo>
                  <a:pt x="834" y="1095"/>
                </a:lnTo>
                <a:lnTo>
                  <a:pt x="855" y="1095"/>
                </a:lnTo>
                <a:lnTo>
                  <a:pt x="874" y="1093"/>
                </a:lnTo>
                <a:lnTo>
                  <a:pt x="893" y="1090"/>
                </a:lnTo>
                <a:lnTo>
                  <a:pt x="912" y="1090"/>
                </a:lnTo>
                <a:lnTo>
                  <a:pt x="932" y="1088"/>
                </a:lnTo>
                <a:lnTo>
                  <a:pt x="948" y="1086"/>
                </a:lnTo>
                <a:lnTo>
                  <a:pt x="965" y="1083"/>
                </a:lnTo>
                <a:lnTo>
                  <a:pt x="982" y="1081"/>
                </a:lnTo>
                <a:lnTo>
                  <a:pt x="998" y="1079"/>
                </a:lnTo>
                <a:lnTo>
                  <a:pt x="1013" y="1076"/>
                </a:lnTo>
                <a:lnTo>
                  <a:pt x="1027" y="1074"/>
                </a:lnTo>
                <a:lnTo>
                  <a:pt x="1055" y="1069"/>
                </a:lnTo>
                <a:lnTo>
                  <a:pt x="1082" y="1062"/>
                </a:lnTo>
                <a:lnTo>
                  <a:pt x="1108" y="1055"/>
                </a:lnTo>
                <a:lnTo>
                  <a:pt x="1132" y="1045"/>
                </a:lnTo>
                <a:lnTo>
                  <a:pt x="1156" y="1038"/>
                </a:lnTo>
                <a:lnTo>
                  <a:pt x="1177" y="1029"/>
                </a:lnTo>
                <a:lnTo>
                  <a:pt x="1198" y="1019"/>
                </a:lnTo>
                <a:lnTo>
                  <a:pt x="1217" y="1010"/>
                </a:lnTo>
                <a:lnTo>
                  <a:pt x="1227" y="1005"/>
                </a:lnTo>
                <a:lnTo>
                  <a:pt x="1237" y="1000"/>
                </a:lnTo>
                <a:lnTo>
                  <a:pt x="1246" y="993"/>
                </a:lnTo>
                <a:lnTo>
                  <a:pt x="1253" y="986"/>
                </a:lnTo>
                <a:lnTo>
                  <a:pt x="1263" y="974"/>
                </a:lnTo>
                <a:lnTo>
                  <a:pt x="1270" y="962"/>
                </a:lnTo>
                <a:lnTo>
                  <a:pt x="1277" y="950"/>
                </a:lnTo>
                <a:lnTo>
                  <a:pt x="1284" y="936"/>
                </a:lnTo>
                <a:lnTo>
                  <a:pt x="1289" y="919"/>
                </a:lnTo>
                <a:lnTo>
                  <a:pt x="1296" y="900"/>
                </a:lnTo>
                <a:lnTo>
                  <a:pt x="1301" y="881"/>
                </a:lnTo>
                <a:lnTo>
                  <a:pt x="1306" y="860"/>
                </a:lnTo>
                <a:lnTo>
                  <a:pt x="1310" y="838"/>
                </a:lnTo>
                <a:lnTo>
                  <a:pt x="1315" y="814"/>
                </a:lnTo>
                <a:lnTo>
                  <a:pt x="1318" y="791"/>
                </a:lnTo>
                <a:lnTo>
                  <a:pt x="1320" y="764"/>
                </a:lnTo>
                <a:lnTo>
                  <a:pt x="1322" y="738"/>
                </a:lnTo>
                <a:lnTo>
                  <a:pt x="1325" y="714"/>
                </a:lnTo>
                <a:lnTo>
                  <a:pt x="1329" y="691"/>
                </a:lnTo>
                <a:lnTo>
                  <a:pt x="1332" y="672"/>
                </a:lnTo>
                <a:lnTo>
                  <a:pt x="1334" y="653"/>
                </a:lnTo>
                <a:lnTo>
                  <a:pt x="1339" y="636"/>
                </a:lnTo>
                <a:lnTo>
                  <a:pt x="1344" y="619"/>
                </a:lnTo>
                <a:lnTo>
                  <a:pt x="1346" y="607"/>
                </a:lnTo>
                <a:lnTo>
                  <a:pt x="1351" y="595"/>
                </a:lnTo>
                <a:lnTo>
                  <a:pt x="1356" y="584"/>
                </a:lnTo>
                <a:lnTo>
                  <a:pt x="1360" y="576"/>
                </a:lnTo>
                <a:lnTo>
                  <a:pt x="1365" y="569"/>
                </a:lnTo>
                <a:lnTo>
                  <a:pt x="1370" y="564"/>
                </a:lnTo>
                <a:lnTo>
                  <a:pt x="1375" y="560"/>
                </a:lnTo>
                <a:lnTo>
                  <a:pt x="1380" y="557"/>
                </a:lnTo>
                <a:lnTo>
                  <a:pt x="1384" y="557"/>
                </a:lnTo>
                <a:lnTo>
                  <a:pt x="1387" y="557"/>
                </a:lnTo>
                <a:lnTo>
                  <a:pt x="1389" y="560"/>
                </a:lnTo>
                <a:lnTo>
                  <a:pt x="1391" y="564"/>
                </a:lnTo>
                <a:lnTo>
                  <a:pt x="1396" y="569"/>
                </a:lnTo>
                <a:lnTo>
                  <a:pt x="1399" y="576"/>
                </a:lnTo>
                <a:lnTo>
                  <a:pt x="1401" y="584"/>
                </a:lnTo>
                <a:lnTo>
                  <a:pt x="1406" y="593"/>
                </a:lnTo>
                <a:lnTo>
                  <a:pt x="1408" y="603"/>
                </a:lnTo>
                <a:lnTo>
                  <a:pt x="1413" y="617"/>
                </a:lnTo>
                <a:lnTo>
                  <a:pt x="1415" y="629"/>
                </a:lnTo>
                <a:lnTo>
                  <a:pt x="1420" y="643"/>
                </a:lnTo>
                <a:lnTo>
                  <a:pt x="1422" y="660"/>
                </a:lnTo>
                <a:lnTo>
                  <a:pt x="1427" y="679"/>
                </a:lnTo>
                <a:lnTo>
                  <a:pt x="1430" y="695"/>
                </a:lnTo>
                <a:lnTo>
                  <a:pt x="1432" y="717"/>
                </a:lnTo>
                <a:lnTo>
                  <a:pt x="1434" y="738"/>
                </a:lnTo>
                <a:lnTo>
                  <a:pt x="1437" y="762"/>
                </a:lnTo>
                <a:lnTo>
                  <a:pt x="1441" y="783"/>
                </a:lnTo>
                <a:lnTo>
                  <a:pt x="1444" y="805"/>
                </a:lnTo>
                <a:lnTo>
                  <a:pt x="1449" y="824"/>
                </a:lnTo>
                <a:lnTo>
                  <a:pt x="1453" y="843"/>
                </a:lnTo>
                <a:lnTo>
                  <a:pt x="1458" y="862"/>
                </a:lnTo>
                <a:lnTo>
                  <a:pt x="1465" y="879"/>
                </a:lnTo>
                <a:lnTo>
                  <a:pt x="1470" y="893"/>
                </a:lnTo>
                <a:lnTo>
                  <a:pt x="1477" y="910"/>
                </a:lnTo>
                <a:lnTo>
                  <a:pt x="1484" y="921"/>
                </a:lnTo>
                <a:lnTo>
                  <a:pt x="1494" y="936"/>
                </a:lnTo>
                <a:lnTo>
                  <a:pt x="1501" y="945"/>
                </a:lnTo>
                <a:lnTo>
                  <a:pt x="1508" y="957"/>
                </a:lnTo>
                <a:lnTo>
                  <a:pt x="1518" y="967"/>
                </a:lnTo>
                <a:lnTo>
                  <a:pt x="1527" y="976"/>
                </a:lnTo>
                <a:lnTo>
                  <a:pt x="1537" y="983"/>
                </a:lnTo>
                <a:lnTo>
                  <a:pt x="1544" y="991"/>
                </a:lnTo>
                <a:lnTo>
                  <a:pt x="1549" y="998"/>
                </a:lnTo>
                <a:lnTo>
                  <a:pt x="1553" y="1007"/>
                </a:lnTo>
                <a:lnTo>
                  <a:pt x="1558" y="1014"/>
                </a:lnTo>
                <a:lnTo>
                  <a:pt x="1561" y="1024"/>
                </a:lnTo>
                <a:lnTo>
                  <a:pt x="1561" y="1031"/>
                </a:lnTo>
                <a:lnTo>
                  <a:pt x="1563" y="1040"/>
                </a:lnTo>
                <a:lnTo>
                  <a:pt x="1561" y="1050"/>
                </a:lnTo>
                <a:lnTo>
                  <a:pt x="1561" y="1060"/>
                </a:lnTo>
                <a:lnTo>
                  <a:pt x="1556" y="1067"/>
                </a:lnTo>
                <a:lnTo>
                  <a:pt x="1553" y="1076"/>
                </a:lnTo>
                <a:lnTo>
                  <a:pt x="1546" y="1086"/>
                </a:lnTo>
                <a:lnTo>
                  <a:pt x="1539" y="1095"/>
                </a:lnTo>
                <a:lnTo>
                  <a:pt x="1532" y="1105"/>
                </a:lnTo>
                <a:lnTo>
                  <a:pt x="1522" y="1114"/>
                </a:lnTo>
                <a:lnTo>
                  <a:pt x="1511" y="1126"/>
                </a:lnTo>
                <a:lnTo>
                  <a:pt x="1499" y="1133"/>
                </a:lnTo>
                <a:lnTo>
                  <a:pt x="1484" y="1140"/>
                </a:lnTo>
                <a:lnTo>
                  <a:pt x="1472" y="1148"/>
                </a:lnTo>
                <a:lnTo>
                  <a:pt x="1456" y="1155"/>
                </a:lnTo>
                <a:lnTo>
                  <a:pt x="1441" y="1162"/>
                </a:lnTo>
                <a:lnTo>
                  <a:pt x="1425" y="1169"/>
                </a:lnTo>
                <a:lnTo>
                  <a:pt x="1408" y="1176"/>
                </a:lnTo>
                <a:lnTo>
                  <a:pt x="1389" y="1183"/>
                </a:lnTo>
                <a:lnTo>
                  <a:pt x="1372" y="1190"/>
                </a:lnTo>
                <a:lnTo>
                  <a:pt x="1353" y="1198"/>
                </a:lnTo>
                <a:lnTo>
                  <a:pt x="1315" y="1212"/>
                </a:lnTo>
                <a:lnTo>
                  <a:pt x="1272" y="1226"/>
                </a:lnTo>
                <a:lnTo>
                  <a:pt x="1232" y="1240"/>
                </a:lnTo>
                <a:lnTo>
                  <a:pt x="1186" y="1250"/>
                </a:lnTo>
                <a:lnTo>
                  <a:pt x="1144" y="1259"/>
                </a:lnTo>
                <a:lnTo>
                  <a:pt x="1098" y="1267"/>
                </a:lnTo>
                <a:lnTo>
                  <a:pt x="1053" y="1271"/>
                </a:lnTo>
                <a:lnTo>
                  <a:pt x="1008" y="1278"/>
                </a:lnTo>
                <a:lnTo>
                  <a:pt x="963" y="1283"/>
                </a:lnTo>
                <a:lnTo>
                  <a:pt x="917" y="1288"/>
                </a:lnTo>
                <a:lnTo>
                  <a:pt x="874" y="1293"/>
                </a:lnTo>
                <a:lnTo>
                  <a:pt x="831" y="1298"/>
                </a:lnTo>
                <a:lnTo>
                  <a:pt x="789" y="1300"/>
                </a:lnTo>
                <a:lnTo>
                  <a:pt x="748" y="1302"/>
                </a:lnTo>
                <a:lnTo>
                  <a:pt x="708" y="1302"/>
                </a:lnTo>
                <a:lnTo>
                  <a:pt x="667" y="1302"/>
                </a:lnTo>
                <a:lnTo>
                  <a:pt x="629" y="1300"/>
                </a:lnTo>
                <a:lnTo>
                  <a:pt x="591" y="1298"/>
                </a:lnTo>
                <a:lnTo>
                  <a:pt x="574" y="1295"/>
                </a:lnTo>
                <a:lnTo>
                  <a:pt x="557" y="1293"/>
                </a:lnTo>
                <a:lnTo>
                  <a:pt x="519" y="1288"/>
                </a:lnTo>
                <a:lnTo>
                  <a:pt x="484" y="1281"/>
                </a:lnTo>
                <a:lnTo>
                  <a:pt x="448" y="1274"/>
                </a:lnTo>
                <a:lnTo>
                  <a:pt x="414" y="1264"/>
                </a:lnTo>
                <a:lnTo>
                  <a:pt x="381" y="1255"/>
                </a:lnTo>
                <a:lnTo>
                  <a:pt x="350" y="1243"/>
                </a:lnTo>
                <a:lnTo>
                  <a:pt x="319" y="1231"/>
                </a:lnTo>
                <a:lnTo>
                  <a:pt x="291" y="121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2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7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2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2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7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2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83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88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Freeform 39"/>
          <p:cNvSpPr/>
          <p:nvPr/>
        </p:nvSpPr>
        <p:spPr>
          <a:xfrm>
            <a:off x="5756400" y="2860560"/>
            <a:ext cx="228600" cy="220680"/>
          </a:xfrm>
          <a:custGeom>
            <a:avLst/>
            <a:gdLst/>
            <a:ahLst/>
            <a:rect l="l" t="t" r="r" b="b"/>
            <a:pathLst>
              <a:path w="360" h="347">
                <a:moveTo>
                  <a:pt x="293" y="90"/>
                </a:moveTo>
                <a:lnTo>
                  <a:pt x="303" y="97"/>
                </a:lnTo>
                <a:lnTo>
                  <a:pt x="312" y="105"/>
                </a:lnTo>
                <a:lnTo>
                  <a:pt x="320" y="112"/>
                </a:lnTo>
                <a:lnTo>
                  <a:pt x="327" y="121"/>
                </a:lnTo>
                <a:lnTo>
                  <a:pt x="334" y="128"/>
                </a:lnTo>
                <a:lnTo>
                  <a:pt x="339" y="138"/>
                </a:lnTo>
                <a:lnTo>
                  <a:pt x="346" y="147"/>
                </a:lnTo>
                <a:lnTo>
                  <a:pt x="348" y="157"/>
                </a:lnTo>
                <a:lnTo>
                  <a:pt x="353" y="166"/>
                </a:lnTo>
                <a:lnTo>
                  <a:pt x="355" y="178"/>
                </a:lnTo>
                <a:lnTo>
                  <a:pt x="358" y="188"/>
                </a:lnTo>
                <a:lnTo>
                  <a:pt x="360" y="197"/>
                </a:lnTo>
                <a:lnTo>
                  <a:pt x="360" y="209"/>
                </a:lnTo>
                <a:lnTo>
                  <a:pt x="360" y="221"/>
                </a:lnTo>
                <a:lnTo>
                  <a:pt x="360" y="233"/>
                </a:lnTo>
                <a:lnTo>
                  <a:pt x="358" y="245"/>
                </a:lnTo>
                <a:lnTo>
                  <a:pt x="355" y="257"/>
                </a:lnTo>
                <a:lnTo>
                  <a:pt x="353" y="266"/>
                </a:lnTo>
                <a:lnTo>
                  <a:pt x="351" y="278"/>
                </a:lnTo>
                <a:lnTo>
                  <a:pt x="348" y="288"/>
                </a:lnTo>
                <a:lnTo>
                  <a:pt x="346" y="297"/>
                </a:lnTo>
                <a:lnTo>
                  <a:pt x="343" y="304"/>
                </a:lnTo>
                <a:lnTo>
                  <a:pt x="339" y="314"/>
                </a:lnTo>
                <a:lnTo>
                  <a:pt x="336" y="321"/>
                </a:lnTo>
                <a:lnTo>
                  <a:pt x="334" y="326"/>
                </a:lnTo>
                <a:lnTo>
                  <a:pt x="331" y="333"/>
                </a:lnTo>
                <a:lnTo>
                  <a:pt x="327" y="338"/>
                </a:lnTo>
                <a:lnTo>
                  <a:pt x="324" y="340"/>
                </a:lnTo>
                <a:lnTo>
                  <a:pt x="320" y="343"/>
                </a:lnTo>
                <a:lnTo>
                  <a:pt x="315" y="345"/>
                </a:lnTo>
                <a:lnTo>
                  <a:pt x="310" y="347"/>
                </a:lnTo>
                <a:lnTo>
                  <a:pt x="308" y="347"/>
                </a:lnTo>
                <a:lnTo>
                  <a:pt x="300" y="347"/>
                </a:lnTo>
                <a:lnTo>
                  <a:pt x="296" y="345"/>
                </a:lnTo>
                <a:lnTo>
                  <a:pt x="289" y="343"/>
                </a:lnTo>
                <a:lnTo>
                  <a:pt x="284" y="340"/>
                </a:lnTo>
                <a:lnTo>
                  <a:pt x="274" y="338"/>
                </a:lnTo>
                <a:lnTo>
                  <a:pt x="267" y="333"/>
                </a:lnTo>
                <a:lnTo>
                  <a:pt x="258" y="326"/>
                </a:lnTo>
                <a:lnTo>
                  <a:pt x="248" y="321"/>
                </a:lnTo>
                <a:lnTo>
                  <a:pt x="239" y="314"/>
                </a:lnTo>
                <a:lnTo>
                  <a:pt x="229" y="307"/>
                </a:lnTo>
                <a:lnTo>
                  <a:pt x="217" y="297"/>
                </a:lnTo>
                <a:lnTo>
                  <a:pt x="205" y="288"/>
                </a:lnTo>
                <a:lnTo>
                  <a:pt x="193" y="278"/>
                </a:lnTo>
                <a:lnTo>
                  <a:pt x="181" y="266"/>
                </a:lnTo>
                <a:lnTo>
                  <a:pt x="167" y="257"/>
                </a:lnTo>
                <a:lnTo>
                  <a:pt x="155" y="245"/>
                </a:lnTo>
                <a:lnTo>
                  <a:pt x="127" y="219"/>
                </a:lnTo>
                <a:lnTo>
                  <a:pt x="103" y="190"/>
                </a:lnTo>
                <a:lnTo>
                  <a:pt x="79" y="162"/>
                </a:lnTo>
                <a:lnTo>
                  <a:pt x="57" y="131"/>
                </a:lnTo>
                <a:lnTo>
                  <a:pt x="50" y="114"/>
                </a:lnTo>
                <a:lnTo>
                  <a:pt x="41" y="100"/>
                </a:lnTo>
                <a:lnTo>
                  <a:pt x="34" y="83"/>
                </a:lnTo>
                <a:lnTo>
                  <a:pt x="24" y="66"/>
                </a:lnTo>
                <a:lnTo>
                  <a:pt x="17" y="50"/>
                </a:lnTo>
                <a:lnTo>
                  <a:pt x="12" y="33"/>
                </a:lnTo>
                <a:lnTo>
                  <a:pt x="5" y="16"/>
                </a:lnTo>
                <a:lnTo>
                  <a:pt x="0" y="0"/>
                </a:lnTo>
                <a:lnTo>
                  <a:pt x="29" y="2"/>
                </a:lnTo>
                <a:lnTo>
                  <a:pt x="55" y="5"/>
                </a:lnTo>
                <a:lnTo>
                  <a:pt x="81" y="9"/>
                </a:lnTo>
                <a:lnTo>
                  <a:pt x="105" y="14"/>
                </a:lnTo>
                <a:lnTo>
                  <a:pt x="129" y="19"/>
                </a:lnTo>
                <a:lnTo>
                  <a:pt x="150" y="24"/>
                </a:lnTo>
                <a:lnTo>
                  <a:pt x="172" y="28"/>
                </a:lnTo>
                <a:lnTo>
                  <a:pt x="191" y="33"/>
                </a:lnTo>
                <a:lnTo>
                  <a:pt x="208" y="40"/>
                </a:lnTo>
                <a:lnTo>
                  <a:pt x="224" y="47"/>
                </a:lnTo>
                <a:lnTo>
                  <a:pt x="241" y="55"/>
                </a:lnTo>
                <a:lnTo>
                  <a:pt x="253" y="59"/>
                </a:lnTo>
                <a:lnTo>
                  <a:pt x="265" y="66"/>
                </a:lnTo>
                <a:lnTo>
                  <a:pt x="277" y="74"/>
                </a:lnTo>
                <a:lnTo>
                  <a:pt x="286" y="81"/>
                </a:lnTo>
                <a:lnTo>
                  <a:pt x="293" y="9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茫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TextBox 3"/>
          <p:cNvSpPr/>
          <p:nvPr/>
        </p:nvSpPr>
        <p:spPr>
          <a:xfrm>
            <a:off x="1384200" y="2027160"/>
            <a:ext cx="117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máng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9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900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1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2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3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4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5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6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7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8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9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10" name="TextBox 15"/>
          <p:cNvSpPr/>
          <p:nvPr/>
        </p:nvSpPr>
        <p:spPr>
          <a:xfrm>
            <a:off x="4619520" y="4857840"/>
            <a:ext cx="42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上下结构，不要写成左右结构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TextBox 16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TextBox 17"/>
          <p:cNvSpPr/>
          <p:nvPr/>
        </p:nvSpPr>
        <p:spPr>
          <a:xfrm>
            <a:off x="8985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茫然  野茫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TextBox 18"/>
          <p:cNvSpPr/>
          <p:nvPr/>
        </p:nvSpPr>
        <p:spPr>
          <a:xfrm>
            <a:off x="857160" y="4943520"/>
            <a:ext cx="364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牛羊在野茫茫的草原上悠闲地吃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  <a:ea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上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Rectangle 27"/>
          <p:cNvSpPr/>
          <p:nvPr/>
        </p:nvSpPr>
        <p:spPr>
          <a:xfrm>
            <a:off x="3276360" y="215424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Freeform 38"/>
          <p:cNvSpPr/>
          <p:nvPr/>
        </p:nvSpPr>
        <p:spPr>
          <a:xfrm>
            <a:off x="5562720" y="2428920"/>
            <a:ext cx="1576440" cy="258840"/>
          </a:xfrm>
          <a:custGeom>
            <a:avLst/>
            <a:gdLst/>
            <a:ahLst/>
            <a:rect l="l" t="t" r="r" b="b"/>
            <a:pathLst>
              <a:path w="2481" h="407">
                <a:moveTo>
                  <a:pt x="1935" y="46"/>
                </a:moveTo>
                <a:lnTo>
                  <a:pt x="1966" y="39"/>
                </a:lnTo>
                <a:lnTo>
                  <a:pt x="1999" y="31"/>
                </a:lnTo>
                <a:lnTo>
                  <a:pt x="2028" y="24"/>
                </a:lnTo>
                <a:lnTo>
                  <a:pt x="2057" y="20"/>
                </a:lnTo>
                <a:lnTo>
                  <a:pt x="2083" y="15"/>
                </a:lnTo>
                <a:lnTo>
                  <a:pt x="2109" y="12"/>
                </a:lnTo>
                <a:lnTo>
                  <a:pt x="2133" y="8"/>
                </a:lnTo>
                <a:lnTo>
                  <a:pt x="2154" y="5"/>
                </a:lnTo>
                <a:lnTo>
                  <a:pt x="2176" y="3"/>
                </a:lnTo>
                <a:lnTo>
                  <a:pt x="2197" y="3"/>
                </a:lnTo>
                <a:lnTo>
                  <a:pt x="2216" y="0"/>
                </a:lnTo>
                <a:lnTo>
                  <a:pt x="2233" y="0"/>
                </a:lnTo>
                <a:lnTo>
                  <a:pt x="2250" y="0"/>
                </a:lnTo>
                <a:lnTo>
                  <a:pt x="2264" y="3"/>
                </a:lnTo>
                <a:lnTo>
                  <a:pt x="2278" y="3"/>
                </a:lnTo>
                <a:lnTo>
                  <a:pt x="2290" y="5"/>
                </a:lnTo>
                <a:lnTo>
                  <a:pt x="2314" y="12"/>
                </a:lnTo>
                <a:lnTo>
                  <a:pt x="2333" y="17"/>
                </a:lnTo>
                <a:lnTo>
                  <a:pt x="2352" y="27"/>
                </a:lnTo>
                <a:lnTo>
                  <a:pt x="2371" y="34"/>
                </a:lnTo>
                <a:lnTo>
                  <a:pt x="2385" y="46"/>
                </a:lnTo>
                <a:lnTo>
                  <a:pt x="2402" y="58"/>
                </a:lnTo>
                <a:lnTo>
                  <a:pt x="2416" y="70"/>
                </a:lnTo>
                <a:lnTo>
                  <a:pt x="2431" y="84"/>
                </a:lnTo>
                <a:lnTo>
                  <a:pt x="2443" y="98"/>
                </a:lnTo>
                <a:lnTo>
                  <a:pt x="2455" y="110"/>
                </a:lnTo>
                <a:lnTo>
                  <a:pt x="2464" y="122"/>
                </a:lnTo>
                <a:lnTo>
                  <a:pt x="2471" y="131"/>
                </a:lnTo>
                <a:lnTo>
                  <a:pt x="2476" y="141"/>
                </a:lnTo>
                <a:lnTo>
                  <a:pt x="2478" y="148"/>
                </a:lnTo>
                <a:lnTo>
                  <a:pt x="2481" y="155"/>
                </a:lnTo>
                <a:lnTo>
                  <a:pt x="2481" y="160"/>
                </a:lnTo>
                <a:lnTo>
                  <a:pt x="2481" y="162"/>
                </a:lnTo>
                <a:lnTo>
                  <a:pt x="2481" y="165"/>
                </a:lnTo>
                <a:lnTo>
                  <a:pt x="2478" y="167"/>
                </a:lnTo>
                <a:lnTo>
                  <a:pt x="2476" y="169"/>
                </a:lnTo>
                <a:lnTo>
                  <a:pt x="2471" y="172"/>
                </a:lnTo>
                <a:lnTo>
                  <a:pt x="2469" y="174"/>
                </a:lnTo>
                <a:lnTo>
                  <a:pt x="2464" y="177"/>
                </a:lnTo>
                <a:lnTo>
                  <a:pt x="2457" y="179"/>
                </a:lnTo>
                <a:lnTo>
                  <a:pt x="2450" y="179"/>
                </a:lnTo>
                <a:lnTo>
                  <a:pt x="2443" y="181"/>
                </a:lnTo>
                <a:lnTo>
                  <a:pt x="2435" y="184"/>
                </a:lnTo>
                <a:lnTo>
                  <a:pt x="2426" y="184"/>
                </a:lnTo>
                <a:lnTo>
                  <a:pt x="2416" y="186"/>
                </a:lnTo>
                <a:lnTo>
                  <a:pt x="2407" y="189"/>
                </a:lnTo>
                <a:lnTo>
                  <a:pt x="2397" y="189"/>
                </a:lnTo>
                <a:lnTo>
                  <a:pt x="2385" y="191"/>
                </a:lnTo>
                <a:lnTo>
                  <a:pt x="2371" y="191"/>
                </a:lnTo>
                <a:lnTo>
                  <a:pt x="2359" y="193"/>
                </a:lnTo>
                <a:lnTo>
                  <a:pt x="2345" y="193"/>
                </a:lnTo>
                <a:lnTo>
                  <a:pt x="2328" y="193"/>
                </a:lnTo>
                <a:lnTo>
                  <a:pt x="2314" y="196"/>
                </a:lnTo>
                <a:lnTo>
                  <a:pt x="2297" y="196"/>
                </a:lnTo>
                <a:lnTo>
                  <a:pt x="2281" y="196"/>
                </a:lnTo>
                <a:lnTo>
                  <a:pt x="2262" y="198"/>
                </a:lnTo>
                <a:lnTo>
                  <a:pt x="2242" y="198"/>
                </a:lnTo>
                <a:lnTo>
                  <a:pt x="2223" y="198"/>
                </a:lnTo>
                <a:lnTo>
                  <a:pt x="2202" y="198"/>
                </a:lnTo>
                <a:lnTo>
                  <a:pt x="2181" y="198"/>
                </a:lnTo>
                <a:lnTo>
                  <a:pt x="2159" y="198"/>
                </a:lnTo>
                <a:lnTo>
                  <a:pt x="2135" y="200"/>
                </a:lnTo>
                <a:lnTo>
                  <a:pt x="2111" y="200"/>
                </a:lnTo>
                <a:lnTo>
                  <a:pt x="2088" y="200"/>
                </a:lnTo>
                <a:lnTo>
                  <a:pt x="1988" y="200"/>
                </a:lnTo>
                <a:lnTo>
                  <a:pt x="1890" y="203"/>
                </a:lnTo>
                <a:lnTo>
                  <a:pt x="1792" y="205"/>
                </a:lnTo>
                <a:lnTo>
                  <a:pt x="1697" y="210"/>
                </a:lnTo>
                <a:lnTo>
                  <a:pt x="1601" y="217"/>
                </a:lnTo>
                <a:lnTo>
                  <a:pt x="1509" y="227"/>
                </a:lnTo>
                <a:lnTo>
                  <a:pt x="1461" y="231"/>
                </a:lnTo>
                <a:lnTo>
                  <a:pt x="1416" y="238"/>
                </a:lnTo>
                <a:lnTo>
                  <a:pt x="1370" y="243"/>
                </a:lnTo>
                <a:lnTo>
                  <a:pt x="1325" y="250"/>
                </a:lnTo>
                <a:lnTo>
                  <a:pt x="1232" y="265"/>
                </a:lnTo>
                <a:lnTo>
                  <a:pt x="1142" y="279"/>
                </a:lnTo>
                <a:lnTo>
                  <a:pt x="1051" y="291"/>
                </a:lnTo>
                <a:lnTo>
                  <a:pt x="961" y="303"/>
                </a:lnTo>
                <a:lnTo>
                  <a:pt x="870" y="315"/>
                </a:lnTo>
                <a:lnTo>
                  <a:pt x="779" y="327"/>
                </a:lnTo>
                <a:lnTo>
                  <a:pt x="689" y="341"/>
                </a:lnTo>
                <a:lnTo>
                  <a:pt x="598" y="355"/>
                </a:lnTo>
                <a:lnTo>
                  <a:pt x="577" y="357"/>
                </a:lnTo>
                <a:lnTo>
                  <a:pt x="555" y="362"/>
                </a:lnTo>
                <a:lnTo>
                  <a:pt x="534" y="365"/>
                </a:lnTo>
                <a:lnTo>
                  <a:pt x="513" y="369"/>
                </a:lnTo>
                <a:lnTo>
                  <a:pt x="493" y="372"/>
                </a:lnTo>
                <a:lnTo>
                  <a:pt x="474" y="374"/>
                </a:lnTo>
                <a:lnTo>
                  <a:pt x="455" y="377"/>
                </a:lnTo>
                <a:lnTo>
                  <a:pt x="439" y="379"/>
                </a:lnTo>
                <a:lnTo>
                  <a:pt x="422" y="381"/>
                </a:lnTo>
                <a:lnTo>
                  <a:pt x="405" y="384"/>
                </a:lnTo>
                <a:lnTo>
                  <a:pt x="389" y="386"/>
                </a:lnTo>
                <a:lnTo>
                  <a:pt x="374" y="388"/>
                </a:lnTo>
                <a:lnTo>
                  <a:pt x="360" y="391"/>
                </a:lnTo>
                <a:lnTo>
                  <a:pt x="346" y="393"/>
                </a:lnTo>
                <a:lnTo>
                  <a:pt x="331" y="393"/>
                </a:lnTo>
                <a:lnTo>
                  <a:pt x="320" y="396"/>
                </a:lnTo>
                <a:lnTo>
                  <a:pt x="308" y="398"/>
                </a:lnTo>
                <a:lnTo>
                  <a:pt x="296" y="398"/>
                </a:lnTo>
                <a:lnTo>
                  <a:pt x="274" y="400"/>
                </a:lnTo>
                <a:lnTo>
                  <a:pt x="255" y="403"/>
                </a:lnTo>
                <a:lnTo>
                  <a:pt x="239" y="403"/>
                </a:lnTo>
                <a:lnTo>
                  <a:pt x="222" y="405"/>
                </a:lnTo>
                <a:lnTo>
                  <a:pt x="210" y="405"/>
                </a:lnTo>
                <a:lnTo>
                  <a:pt x="200" y="405"/>
                </a:lnTo>
                <a:lnTo>
                  <a:pt x="191" y="407"/>
                </a:lnTo>
                <a:lnTo>
                  <a:pt x="177" y="405"/>
                </a:lnTo>
                <a:lnTo>
                  <a:pt x="162" y="403"/>
                </a:lnTo>
                <a:lnTo>
                  <a:pt x="148" y="400"/>
                </a:lnTo>
                <a:lnTo>
                  <a:pt x="134" y="396"/>
                </a:lnTo>
                <a:lnTo>
                  <a:pt x="119" y="388"/>
                </a:lnTo>
                <a:lnTo>
                  <a:pt x="105" y="379"/>
                </a:lnTo>
                <a:lnTo>
                  <a:pt x="91" y="369"/>
                </a:lnTo>
                <a:lnTo>
                  <a:pt x="84" y="362"/>
                </a:lnTo>
                <a:lnTo>
                  <a:pt x="77" y="355"/>
                </a:lnTo>
                <a:lnTo>
                  <a:pt x="60" y="341"/>
                </a:lnTo>
                <a:lnTo>
                  <a:pt x="43" y="329"/>
                </a:lnTo>
                <a:lnTo>
                  <a:pt x="31" y="315"/>
                </a:lnTo>
                <a:lnTo>
                  <a:pt x="19" y="305"/>
                </a:lnTo>
                <a:lnTo>
                  <a:pt x="12" y="293"/>
                </a:lnTo>
                <a:lnTo>
                  <a:pt x="7" y="288"/>
                </a:lnTo>
                <a:lnTo>
                  <a:pt x="5" y="284"/>
                </a:lnTo>
                <a:lnTo>
                  <a:pt x="3" y="279"/>
                </a:lnTo>
                <a:lnTo>
                  <a:pt x="3" y="274"/>
                </a:lnTo>
                <a:lnTo>
                  <a:pt x="0" y="269"/>
                </a:lnTo>
                <a:lnTo>
                  <a:pt x="0" y="265"/>
                </a:lnTo>
                <a:lnTo>
                  <a:pt x="19" y="265"/>
                </a:lnTo>
                <a:lnTo>
                  <a:pt x="41" y="265"/>
                </a:lnTo>
                <a:lnTo>
                  <a:pt x="62" y="265"/>
                </a:lnTo>
                <a:lnTo>
                  <a:pt x="84" y="262"/>
                </a:lnTo>
                <a:lnTo>
                  <a:pt x="105" y="262"/>
                </a:lnTo>
                <a:lnTo>
                  <a:pt x="129" y="262"/>
                </a:lnTo>
                <a:lnTo>
                  <a:pt x="153" y="260"/>
                </a:lnTo>
                <a:lnTo>
                  <a:pt x="177" y="260"/>
                </a:lnTo>
                <a:lnTo>
                  <a:pt x="203" y="258"/>
                </a:lnTo>
                <a:lnTo>
                  <a:pt x="229" y="258"/>
                </a:lnTo>
                <a:lnTo>
                  <a:pt x="255" y="255"/>
                </a:lnTo>
                <a:lnTo>
                  <a:pt x="284" y="253"/>
                </a:lnTo>
                <a:lnTo>
                  <a:pt x="312" y="250"/>
                </a:lnTo>
                <a:lnTo>
                  <a:pt x="341" y="248"/>
                </a:lnTo>
                <a:lnTo>
                  <a:pt x="372" y="246"/>
                </a:lnTo>
                <a:lnTo>
                  <a:pt x="401" y="243"/>
                </a:lnTo>
                <a:lnTo>
                  <a:pt x="434" y="241"/>
                </a:lnTo>
                <a:lnTo>
                  <a:pt x="465" y="238"/>
                </a:lnTo>
                <a:lnTo>
                  <a:pt x="498" y="234"/>
                </a:lnTo>
                <a:lnTo>
                  <a:pt x="532" y="231"/>
                </a:lnTo>
                <a:lnTo>
                  <a:pt x="565" y="229"/>
                </a:lnTo>
                <a:lnTo>
                  <a:pt x="601" y="224"/>
                </a:lnTo>
                <a:lnTo>
                  <a:pt x="636" y="219"/>
                </a:lnTo>
                <a:lnTo>
                  <a:pt x="675" y="215"/>
                </a:lnTo>
                <a:lnTo>
                  <a:pt x="710" y="212"/>
                </a:lnTo>
                <a:lnTo>
                  <a:pt x="748" y="208"/>
                </a:lnTo>
                <a:lnTo>
                  <a:pt x="787" y="203"/>
                </a:lnTo>
                <a:lnTo>
                  <a:pt x="827" y="196"/>
                </a:lnTo>
                <a:lnTo>
                  <a:pt x="868" y="191"/>
                </a:lnTo>
                <a:lnTo>
                  <a:pt x="908" y="186"/>
                </a:lnTo>
                <a:lnTo>
                  <a:pt x="951" y="179"/>
                </a:lnTo>
                <a:lnTo>
                  <a:pt x="994" y="174"/>
                </a:lnTo>
                <a:lnTo>
                  <a:pt x="1034" y="169"/>
                </a:lnTo>
                <a:lnTo>
                  <a:pt x="1075" y="165"/>
                </a:lnTo>
                <a:lnTo>
                  <a:pt x="1115" y="160"/>
                </a:lnTo>
                <a:lnTo>
                  <a:pt x="1154" y="155"/>
                </a:lnTo>
                <a:lnTo>
                  <a:pt x="1192" y="150"/>
                </a:lnTo>
                <a:lnTo>
                  <a:pt x="1230" y="146"/>
                </a:lnTo>
                <a:lnTo>
                  <a:pt x="1268" y="141"/>
                </a:lnTo>
                <a:lnTo>
                  <a:pt x="1304" y="136"/>
                </a:lnTo>
                <a:lnTo>
                  <a:pt x="1339" y="134"/>
                </a:lnTo>
                <a:lnTo>
                  <a:pt x="1373" y="129"/>
                </a:lnTo>
                <a:lnTo>
                  <a:pt x="1406" y="124"/>
                </a:lnTo>
                <a:lnTo>
                  <a:pt x="1439" y="119"/>
                </a:lnTo>
                <a:lnTo>
                  <a:pt x="1473" y="117"/>
                </a:lnTo>
                <a:lnTo>
                  <a:pt x="1504" y="112"/>
                </a:lnTo>
                <a:lnTo>
                  <a:pt x="1535" y="108"/>
                </a:lnTo>
                <a:lnTo>
                  <a:pt x="1563" y="105"/>
                </a:lnTo>
                <a:lnTo>
                  <a:pt x="1592" y="100"/>
                </a:lnTo>
                <a:lnTo>
                  <a:pt x="1621" y="96"/>
                </a:lnTo>
                <a:lnTo>
                  <a:pt x="1649" y="93"/>
                </a:lnTo>
                <a:lnTo>
                  <a:pt x="1675" y="89"/>
                </a:lnTo>
                <a:lnTo>
                  <a:pt x="1702" y="86"/>
                </a:lnTo>
                <a:lnTo>
                  <a:pt x="1728" y="81"/>
                </a:lnTo>
                <a:lnTo>
                  <a:pt x="1752" y="77"/>
                </a:lnTo>
                <a:lnTo>
                  <a:pt x="1775" y="74"/>
                </a:lnTo>
                <a:lnTo>
                  <a:pt x="1797" y="70"/>
                </a:lnTo>
                <a:lnTo>
                  <a:pt x="1821" y="67"/>
                </a:lnTo>
                <a:lnTo>
                  <a:pt x="1840" y="62"/>
                </a:lnTo>
                <a:lnTo>
                  <a:pt x="1861" y="60"/>
                </a:lnTo>
                <a:lnTo>
                  <a:pt x="1880" y="55"/>
                </a:lnTo>
                <a:lnTo>
                  <a:pt x="1899" y="53"/>
                </a:lnTo>
                <a:lnTo>
                  <a:pt x="1918" y="48"/>
                </a:lnTo>
                <a:lnTo>
                  <a:pt x="1935" y="4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Freeform 40"/>
          <p:cNvSpPr/>
          <p:nvPr/>
        </p:nvSpPr>
        <p:spPr>
          <a:xfrm>
            <a:off x="5586480" y="3179880"/>
            <a:ext cx="257040" cy="222120"/>
          </a:xfrm>
          <a:custGeom>
            <a:avLst/>
            <a:gdLst/>
            <a:ahLst/>
            <a:rect l="l" t="t" r="r" b="b"/>
            <a:pathLst>
              <a:path w="403" h="350">
                <a:moveTo>
                  <a:pt x="382" y="297"/>
                </a:moveTo>
                <a:lnTo>
                  <a:pt x="377" y="305"/>
                </a:lnTo>
                <a:lnTo>
                  <a:pt x="372" y="312"/>
                </a:lnTo>
                <a:lnTo>
                  <a:pt x="365" y="321"/>
                </a:lnTo>
                <a:lnTo>
                  <a:pt x="355" y="331"/>
                </a:lnTo>
                <a:lnTo>
                  <a:pt x="346" y="338"/>
                </a:lnTo>
                <a:lnTo>
                  <a:pt x="339" y="343"/>
                </a:lnTo>
                <a:lnTo>
                  <a:pt x="332" y="347"/>
                </a:lnTo>
                <a:lnTo>
                  <a:pt x="324" y="350"/>
                </a:lnTo>
                <a:lnTo>
                  <a:pt x="320" y="350"/>
                </a:lnTo>
                <a:lnTo>
                  <a:pt x="317" y="350"/>
                </a:lnTo>
                <a:lnTo>
                  <a:pt x="315" y="347"/>
                </a:lnTo>
                <a:lnTo>
                  <a:pt x="313" y="347"/>
                </a:lnTo>
                <a:lnTo>
                  <a:pt x="310" y="345"/>
                </a:lnTo>
                <a:lnTo>
                  <a:pt x="305" y="343"/>
                </a:lnTo>
                <a:lnTo>
                  <a:pt x="301" y="338"/>
                </a:lnTo>
                <a:lnTo>
                  <a:pt x="296" y="336"/>
                </a:lnTo>
                <a:lnTo>
                  <a:pt x="291" y="331"/>
                </a:lnTo>
                <a:lnTo>
                  <a:pt x="284" y="326"/>
                </a:lnTo>
                <a:lnTo>
                  <a:pt x="277" y="319"/>
                </a:lnTo>
                <a:lnTo>
                  <a:pt x="270" y="312"/>
                </a:lnTo>
                <a:lnTo>
                  <a:pt x="262" y="305"/>
                </a:lnTo>
                <a:lnTo>
                  <a:pt x="255" y="297"/>
                </a:lnTo>
                <a:lnTo>
                  <a:pt x="246" y="290"/>
                </a:lnTo>
                <a:lnTo>
                  <a:pt x="236" y="281"/>
                </a:lnTo>
                <a:lnTo>
                  <a:pt x="227" y="271"/>
                </a:lnTo>
                <a:lnTo>
                  <a:pt x="215" y="262"/>
                </a:lnTo>
                <a:lnTo>
                  <a:pt x="205" y="250"/>
                </a:lnTo>
                <a:lnTo>
                  <a:pt x="193" y="238"/>
                </a:lnTo>
                <a:lnTo>
                  <a:pt x="181" y="226"/>
                </a:lnTo>
                <a:lnTo>
                  <a:pt x="170" y="214"/>
                </a:lnTo>
                <a:lnTo>
                  <a:pt x="155" y="200"/>
                </a:lnTo>
                <a:lnTo>
                  <a:pt x="143" y="186"/>
                </a:lnTo>
                <a:lnTo>
                  <a:pt x="129" y="171"/>
                </a:lnTo>
                <a:lnTo>
                  <a:pt x="115" y="155"/>
                </a:lnTo>
                <a:lnTo>
                  <a:pt x="100" y="138"/>
                </a:lnTo>
                <a:lnTo>
                  <a:pt x="84" y="121"/>
                </a:lnTo>
                <a:lnTo>
                  <a:pt x="69" y="105"/>
                </a:lnTo>
                <a:lnTo>
                  <a:pt x="53" y="86"/>
                </a:lnTo>
                <a:lnTo>
                  <a:pt x="36" y="67"/>
                </a:lnTo>
                <a:lnTo>
                  <a:pt x="19" y="48"/>
                </a:lnTo>
                <a:lnTo>
                  <a:pt x="0" y="26"/>
                </a:lnTo>
                <a:lnTo>
                  <a:pt x="12" y="21"/>
                </a:lnTo>
                <a:lnTo>
                  <a:pt x="22" y="17"/>
                </a:lnTo>
                <a:lnTo>
                  <a:pt x="36" y="12"/>
                </a:lnTo>
                <a:lnTo>
                  <a:pt x="50" y="10"/>
                </a:lnTo>
                <a:lnTo>
                  <a:pt x="67" y="5"/>
                </a:lnTo>
                <a:lnTo>
                  <a:pt x="86" y="2"/>
                </a:lnTo>
                <a:lnTo>
                  <a:pt x="105" y="2"/>
                </a:lnTo>
                <a:lnTo>
                  <a:pt x="129" y="0"/>
                </a:lnTo>
                <a:lnTo>
                  <a:pt x="150" y="5"/>
                </a:lnTo>
                <a:lnTo>
                  <a:pt x="174" y="10"/>
                </a:lnTo>
                <a:lnTo>
                  <a:pt x="196" y="17"/>
                </a:lnTo>
                <a:lnTo>
                  <a:pt x="215" y="21"/>
                </a:lnTo>
                <a:lnTo>
                  <a:pt x="236" y="29"/>
                </a:lnTo>
                <a:lnTo>
                  <a:pt x="255" y="36"/>
                </a:lnTo>
                <a:lnTo>
                  <a:pt x="274" y="43"/>
                </a:lnTo>
                <a:lnTo>
                  <a:pt x="293" y="52"/>
                </a:lnTo>
                <a:lnTo>
                  <a:pt x="308" y="62"/>
                </a:lnTo>
                <a:lnTo>
                  <a:pt x="322" y="74"/>
                </a:lnTo>
                <a:lnTo>
                  <a:pt x="336" y="86"/>
                </a:lnTo>
                <a:lnTo>
                  <a:pt x="348" y="100"/>
                </a:lnTo>
                <a:lnTo>
                  <a:pt x="363" y="112"/>
                </a:lnTo>
                <a:lnTo>
                  <a:pt x="374" y="126"/>
                </a:lnTo>
                <a:lnTo>
                  <a:pt x="386" y="140"/>
                </a:lnTo>
                <a:lnTo>
                  <a:pt x="396" y="155"/>
                </a:lnTo>
                <a:lnTo>
                  <a:pt x="398" y="176"/>
                </a:lnTo>
                <a:lnTo>
                  <a:pt x="403" y="195"/>
                </a:lnTo>
                <a:lnTo>
                  <a:pt x="403" y="214"/>
                </a:lnTo>
                <a:lnTo>
                  <a:pt x="403" y="231"/>
                </a:lnTo>
                <a:lnTo>
                  <a:pt x="401" y="250"/>
                </a:lnTo>
                <a:lnTo>
                  <a:pt x="396" y="267"/>
                </a:lnTo>
                <a:lnTo>
                  <a:pt x="391" y="283"/>
                </a:lnTo>
                <a:lnTo>
                  <a:pt x="382" y="29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Freeform 41"/>
          <p:cNvSpPr/>
          <p:nvPr/>
        </p:nvSpPr>
        <p:spPr>
          <a:xfrm>
            <a:off x="5634000" y="3254400"/>
            <a:ext cx="399960" cy="746280"/>
          </a:xfrm>
          <a:custGeom>
            <a:avLst/>
            <a:gdLst/>
            <a:ahLst/>
            <a:rect l="l" t="t" r="r" b="b"/>
            <a:pathLst>
              <a:path w="629" h="1175">
                <a:moveTo>
                  <a:pt x="219" y="1175"/>
                </a:moveTo>
                <a:lnTo>
                  <a:pt x="212" y="1175"/>
                </a:lnTo>
                <a:lnTo>
                  <a:pt x="205" y="1173"/>
                </a:lnTo>
                <a:lnTo>
                  <a:pt x="198" y="1171"/>
                </a:lnTo>
                <a:lnTo>
                  <a:pt x="191" y="1166"/>
                </a:lnTo>
                <a:lnTo>
                  <a:pt x="184" y="1161"/>
                </a:lnTo>
                <a:lnTo>
                  <a:pt x="174" y="1154"/>
                </a:lnTo>
                <a:lnTo>
                  <a:pt x="167" y="1147"/>
                </a:lnTo>
                <a:lnTo>
                  <a:pt x="160" y="1137"/>
                </a:lnTo>
                <a:lnTo>
                  <a:pt x="150" y="1128"/>
                </a:lnTo>
                <a:lnTo>
                  <a:pt x="141" y="1116"/>
                </a:lnTo>
                <a:lnTo>
                  <a:pt x="131" y="1104"/>
                </a:lnTo>
                <a:lnTo>
                  <a:pt x="122" y="1090"/>
                </a:lnTo>
                <a:lnTo>
                  <a:pt x="112" y="1073"/>
                </a:lnTo>
                <a:lnTo>
                  <a:pt x="103" y="1056"/>
                </a:lnTo>
                <a:lnTo>
                  <a:pt x="91" y="1040"/>
                </a:lnTo>
                <a:lnTo>
                  <a:pt x="79" y="1021"/>
                </a:lnTo>
                <a:lnTo>
                  <a:pt x="69" y="999"/>
                </a:lnTo>
                <a:lnTo>
                  <a:pt x="57" y="980"/>
                </a:lnTo>
                <a:lnTo>
                  <a:pt x="48" y="961"/>
                </a:lnTo>
                <a:lnTo>
                  <a:pt x="41" y="942"/>
                </a:lnTo>
                <a:lnTo>
                  <a:pt x="31" y="925"/>
                </a:lnTo>
                <a:lnTo>
                  <a:pt x="24" y="911"/>
                </a:lnTo>
                <a:lnTo>
                  <a:pt x="19" y="897"/>
                </a:lnTo>
                <a:lnTo>
                  <a:pt x="15" y="883"/>
                </a:lnTo>
                <a:lnTo>
                  <a:pt x="10" y="871"/>
                </a:lnTo>
                <a:lnTo>
                  <a:pt x="5" y="861"/>
                </a:lnTo>
                <a:lnTo>
                  <a:pt x="3" y="849"/>
                </a:lnTo>
                <a:lnTo>
                  <a:pt x="0" y="840"/>
                </a:lnTo>
                <a:lnTo>
                  <a:pt x="0" y="833"/>
                </a:lnTo>
                <a:lnTo>
                  <a:pt x="0" y="825"/>
                </a:lnTo>
                <a:lnTo>
                  <a:pt x="3" y="818"/>
                </a:lnTo>
                <a:lnTo>
                  <a:pt x="3" y="814"/>
                </a:lnTo>
                <a:lnTo>
                  <a:pt x="10" y="809"/>
                </a:lnTo>
                <a:lnTo>
                  <a:pt x="15" y="804"/>
                </a:lnTo>
                <a:lnTo>
                  <a:pt x="24" y="802"/>
                </a:lnTo>
                <a:lnTo>
                  <a:pt x="31" y="797"/>
                </a:lnTo>
                <a:lnTo>
                  <a:pt x="43" y="797"/>
                </a:lnTo>
                <a:lnTo>
                  <a:pt x="53" y="797"/>
                </a:lnTo>
                <a:lnTo>
                  <a:pt x="67" y="797"/>
                </a:lnTo>
                <a:lnTo>
                  <a:pt x="72" y="799"/>
                </a:lnTo>
                <a:lnTo>
                  <a:pt x="79" y="802"/>
                </a:lnTo>
                <a:lnTo>
                  <a:pt x="84" y="804"/>
                </a:lnTo>
                <a:lnTo>
                  <a:pt x="88" y="804"/>
                </a:lnTo>
                <a:lnTo>
                  <a:pt x="93" y="806"/>
                </a:lnTo>
                <a:lnTo>
                  <a:pt x="98" y="806"/>
                </a:lnTo>
                <a:lnTo>
                  <a:pt x="105" y="806"/>
                </a:lnTo>
                <a:lnTo>
                  <a:pt x="110" y="804"/>
                </a:lnTo>
                <a:lnTo>
                  <a:pt x="115" y="804"/>
                </a:lnTo>
                <a:lnTo>
                  <a:pt x="119" y="802"/>
                </a:lnTo>
                <a:lnTo>
                  <a:pt x="124" y="799"/>
                </a:lnTo>
                <a:lnTo>
                  <a:pt x="131" y="795"/>
                </a:lnTo>
                <a:lnTo>
                  <a:pt x="136" y="792"/>
                </a:lnTo>
                <a:lnTo>
                  <a:pt x="143" y="787"/>
                </a:lnTo>
                <a:lnTo>
                  <a:pt x="148" y="783"/>
                </a:lnTo>
                <a:lnTo>
                  <a:pt x="155" y="775"/>
                </a:lnTo>
                <a:lnTo>
                  <a:pt x="162" y="768"/>
                </a:lnTo>
                <a:lnTo>
                  <a:pt x="169" y="764"/>
                </a:lnTo>
                <a:lnTo>
                  <a:pt x="177" y="754"/>
                </a:lnTo>
                <a:lnTo>
                  <a:pt x="184" y="745"/>
                </a:lnTo>
                <a:lnTo>
                  <a:pt x="193" y="730"/>
                </a:lnTo>
                <a:lnTo>
                  <a:pt x="205" y="716"/>
                </a:lnTo>
                <a:lnTo>
                  <a:pt x="217" y="699"/>
                </a:lnTo>
                <a:lnTo>
                  <a:pt x="229" y="680"/>
                </a:lnTo>
                <a:lnTo>
                  <a:pt x="236" y="668"/>
                </a:lnTo>
                <a:lnTo>
                  <a:pt x="243" y="656"/>
                </a:lnTo>
                <a:lnTo>
                  <a:pt x="250" y="645"/>
                </a:lnTo>
                <a:lnTo>
                  <a:pt x="258" y="633"/>
                </a:lnTo>
                <a:lnTo>
                  <a:pt x="265" y="621"/>
                </a:lnTo>
                <a:lnTo>
                  <a:pt x="272" y="607"/>
                </a:lnTo>
                <a:lnTo>
                  <a:pt x="281" y="592"/>
                </a:lnTo>
                <a:lnTo>
                  <a:pt x="289" y="578"/>
                </a:lnTo>
                <a:lnTo>
                  <a:pt x="298" y="561"/>
                </a:lnTo>
                <a:lnTo>
                  <a:pt x="308" y="547"/>
                </a:lnTo>
                <a:lnTo>
                  <a:pt x="315" y="530"/>
                </a:lnTo>
                <a:lnTo>
                  <a:pt x="324" y="511"/>
                </a:lnTo>
                <a:lnTo>
                  <a:pt x="334" y="495"/>
                </a:lnTo>
                <a:lnTo>
                  <a:pt x="346" y="476"/>
                </a:lnTo>
                <a:lnTo>
                  <a:pt x="355" y="457"/>
                </a:lnTo>
                <a:lnTo>
                  <a:pt x="365" y="435"/>
                </a:lnTo>
                <a:lnTo>
                  <a:pt x="377" y="416"/>
                </a:lnTo>
                <a:lnTo>
                  <a:pt x="389" y="395"/>
                </a:lnTo>
                <a:lnTo>
                  <a:pt x="398" y="371"/>
                </a:lnTo>
                <a:lnTo>
                  <a:pt x="410" y="349"/>
                </a:lnTo>
                <a:lnTo>
                  <a:pt x="422" y="328"/>
                </a:lnTo>
                <a:lnTo>
                  <a:pt x="434" y="307"/>
                </a:lnTo>
                <a:lnTo>
                  <a:pt x="443" y="285"/>
                </a:lnTo>
                <a:lnTo>
                  <a:pt x="455" y="266"/>
                </a:lnTo>
                <a:lnTo>
                  <a:pt x="465" y="247"/>
                </a:lnTo>
                <a:lnTo>
                  <a:pt x="477" y="230"/>
                </a:lnTo>
                <a:lnTo>
                  <a:pt x="486" y="211"/>
                </a:lnTo>
                <a:lnTo>
                  <a:pt x="496" y="195"/>
                </a:lnTo>
                <a:lnTo>
                  <a:pt x="505" y="180"/>
                </a:lnTo>
                <a:lnTo>
                  <a:pt x="513" y="164"/>
                </a:lnTo>
                <a:lnTo>
                  <a:pt x="522" y="150"/>
                </a:lnTo>
                <a:lnTo>
                  <a:pt x="532" y="135"/>
                </a:lnTo>
                <a:lnTo>
                  <a:pt x="539" y="123"/>
                </a:lnTo>
                <a:lnTo>
                  <a:pt x="546" y="109"/>
                </a:lnTo>
                <a:lnTo>
                  <a:pt x="553" y="97"/>
                </a:lnTo>
                <a:lnTo>
                  <a:pt x="560" y="88"/>
                </a:lnTo>
                <a:lnTo>
                  <a:pt x="567" y="76"/>
                </a:lnTo>
                <a:lnTo>
                  <a:pt x="575" y="66"/>
                </a:lnTo>
                <a:lnTo>
                  <a:pt x="579" y="57"/>
                </a:lnTo>
                <a:lnTo>
                  <a:pt x="586" y="50"/>
                </a:lnTo>
                <a:lnTo>
                  <a:pt x="591" y="40"/>
                </a:lnTo>
                <a:lnTo>
                  <a:pt x="596" y="33"/>
                </a:lnTo>
                <a:lnTo>
                  <a:pt x="601" y="28"/>
                </a:lnTo>
                <a:lnTo>
                  <a:pt x="605" y="21"/>
                </a:lnTo>
                <a:lnTo>
                  <a:pt x="610" y="16"/>
                </a:lnTo>
                <a:lnTo>
                  <a:pt x="613" y="12"/>
                </a:lnTo>
                <a:lnTo>
                  <a:pt x="615" y="9"/>
                </a:lnTo>
                <a:lnTo>
                  <a:pt x="620" y="4"/>
                </a:lnTo>
                <a:lnTo>
                  <a:pt x="622" y="2"/>
                </a:lnTo>
                <a:lnTo>
                  <a:pt x="625" y="2"/>
                </a:lnTo>
                <a:lnTo>
                  <a:pt x="625" y="0"/>
                </a:lnTo>
                <a:lnTo>
                  <a:pt x="627" y="0"/>
                </a:lnTo>
                <a:lnTo>
                  <a:pt x="627" y="2"/>
                </a:lnTo>
                <a:lnTo>
                  <a:pt x="629" y="4"/>
                </a:lnTo>
                <a:lnTo>
                  <a:pt x="629" y="9"/>
                </a:lnTo>
                <a:lnTo>
                  <a:pt x="629" y="14"/>
                </a:lnTo>
                <a:lnTo>
                  <a:pt x="627" y="19"/>
                </a:lnTo>
                <a:lnTo>
                  <a:pt x="627" y="26"/>
                </a:lnTo>
                <a:lnTo>
                  <a:pt x="625" y="35"/>
                </a:lnTo>
                <a:lnTo>
                  <a:pt x="625" y="42"/>
                </a:lnTo>
                <a:lnTo>
                  <a:pt x="622" y="54"/>
                </a:lnTo>
                <a:lnTo>
                  <a:pt x="620" y="64"/>
                </a:lnTo>
                <a:lnTo>
                  <a:pt x="615" y="78"/>
                </a:lnTo>
                <a:lnTo>
                  <a:pt x="613" y="90"/>
                </a:lnTo>
                <a:lnTo>
                  <a:pt x="610" y="104"/>
                </a:lnTo>
                <a:lnTo>
                  <a:pt x="605" y="121"/>
                </a:lnTo>
                <a:lnTo>
                  <a:pt x="601" y="138"/>
                </a:lnTo>
                <a:lnTo>
                  <a:pt x="596" y="154"/>
                </a:lnTo>
                <a:lnTo>
                  <a:pt x="591" y="173"/>
                </a:lnTo>
                <a:lnTo>
                  <a:pt x="584" y="192"/>
                </a:lnTo>
                <a:lnTo>
                  <a:pt x="579" y="214"/>
                </a:lnTo>
                <a:lnTo>
                  <a:pt x="572" y="235"/>
                </a:lnTo>
                <a:lnTo>
                  <a:pt x="565" y="259"/>
                </a:lnTo>
                <a:lnTo>
                  <a:pt x="558" y="283"/>
                </a:lnTo>
                <a:lnTo>
                  <a:pt x="551" y="309"/>
                </a:lnTo>
                <a:lnTo>
                  <a:pt x="541" y="335"/>
                </a:lnTo>
                <a:lnTo>
                  <a:pt x="534" y="361"/>
                </a:lnTo>
                <a:lnTo>
                  <a:pt x="524" y="390"/>
                </a:lnTo>
                <a:lnTo>
                  <a:pt x="515" y="418"/>
                </a:lnTo>
                <a:lnTo>
                  <a:pt x="505" y="449"/>
                </a:lnTo>
                <a:lnTo>
                  <a:pt x="493" y="480"/>
                </a:lnTo>
                <a:lnTo>
                  <a:pt x="484" y="514"/>
                </a:lnTo>
                <a:lnTo>
                  <a:pt x="472" y="547"/>
                </a:lnTo>
                <a:lnTo>
                  <a:pt x="463" y="583"/>
                </a:lnTo>
                <a:lnTo>
                  <a:pt x="451" y="618"/>
                </a:lnTo>
                <a:lnTo>
                  <a:pt x="439" y="652"/>
                </a:lnTo>
                <a:lnTo>
                  <a:pt x="427" y="685"/>
                </a:lnTo>
                <a:lnTo>
                  <a:pt x="417" y="718"/>
                </a:lnTo>
                <a:lnTo>
                  <a:pt x="405" y="749"/>
                </a:lnTo>
                <a:lnTo>
                  <a:pt x="396" y="780"/>
                </a:lnTo>
                <a:lnTo>
                  <a:pt x="386" y="809"/>
                </a:lnTo>
                <a:lnTo>
                  <a:pt x="377" y="837"/>
                </a:lnTo>
                <a:lnTo>
                  <a:pt x="367" y="864"/>
                </a:lnTo>
                <a:lnTo>
                  <a:pt x="358" y="890"/>
                </a:lnTo>
                <a:lnTo>
                  <a:pt x="348" y="914"/>
                </a:lnTo>
                <a:lnTo>
                  <a:pt x="341" y="937"/>
                </a:lnTo>
                <a:lnTo>
                  <a:pt x="331" y="959"/>
                </a:lnTo>
                <a:lnTo>
                  <a:pt x="324" y="980"/>
                </a:lnTo>
                <a:lnTo>
                  <a:pt x="315" y="999"/>
                </a:lnTo>
                <a:lnTo>
                  <a:pt x="308" y="1018"/>
                </a:lnTo>
                <a:lnTo>
                  <a:pt x="300" y="1037"/>
                </a:lnTo>
                <a:lnTo>
                  <a:pt x="293" y="1054"/>
                </a:lnTo>
                <a:lnTo>
                  <a:pt x="286" y="1071"/>
                </a:lnTo>
                <a:lnTo>
                  <a:pt x="279" y="1085"/>
                </a:lnTo>
                <a:lnTo>
                  <a:pt x="274" y="1097"/>
                </a:lnTo>
                <a:lnTo>
                  <a:pt x="267" y="1111"/>
                </a:lnTo>
                <a:lnTo>
                  <a:pt x="262" y="1121"/>
                </a:lnTo>
                <a:lnTo>
                  <a:pt x="255" y="1132"/>
                </a:lnTo>
                <a:lnTo>
                  <a:pt x="250" y="1142"/>
                </a:lnTo>
                <a:lnTo>
                  <a:pt x="246" y="1149"/>
                </a:lnTo>
                <a:lnTo>
                  <a:pt x="241" y="1156"/>
                </a:lnTo>
                <a:lnTo>
                  <a:pt x="236" y="1163"/>
                </a:lnTo>
                <a:lnTo>
                  <a:pt x="231" y="1168"/>
                </a:lnTo>
                <a:lnTo>
                  <a:pt x="227" y="1171"/>
                </a:lnTo>
                <a:lnTo>
                  <a:pt x="224" y="1173"/>
                </a:lnTo>
                <a:lnTo>
                  <a:pt x="219" y="117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Freeform 42"/>
          <p:cNvSpPr/>
          <p:nvPr/>
        </p:nvSpPr>
        <p:spPr>
          <a:xfrm>
            <a:off x="6427800" y="2908440"/>
            <a:ext cx="282600" cy="222120"/>
          </a:xfrm>
          <a:custGeom>
            <a:avLst/>
            <a:gdLst/>
            <a:ahLst/>
            <a:rect l="l" t="t" r="r" b="b"/>
            <a:pathLst>
              <a:path w="443" h="350">
                <a:moveTo>
                  <a:pt x="267" y="26"/>
                </a:moveTo>
                <a:lnTo>
                  <a:pt x="284" y="31"/>
                </a:lnTo>
                <a:lnTo>
                  <a:pt x="303" y="36"/>
                </a:lnTo>
                <a:lnTo>
                  <a:pt x="320" y="43"/>
                </a:lnTo>
                <a:lnTo>
                  <a:pt x="334" y="48"/>
                </a:lnTo>
                <a:lnTo>
                  <a:pt x="350" y="57"/>
                </a:lnTo>
                <a:lnTo>
                  <a:pt x="365" y="67"/>
                </a:lnTo>
                <a:lnTo>
                  <a:pt x="379" y="76"/>
                </a:lnTo>
                <a:lnTo>
                  <a:pt x="386" y="83"/>
                </a:lnTo>
                <a:lnTo>
                  <a:pt x="393" y="90"/>
                </a:lnTo>
                <a:lnTo>
                  <a:pt x="405" y="105"/>
                </a:lnTo>
                <a:lnTo>
                  <a:pt x="417" y="121"/>
                </a:lnTo>
                <a:lnTo>
                  <a:pt x="427" y="136"/>
                </a:lnTo>
                <a:lnTo>
                  <a:pt x="434" y="150"/>
                </a:lnTo>
                <a:lnTo>
                  <a:pt x="439" y="167"/>
                </a:lnTo>
                <a:lnTo>
                  <a:pt x="441" y="183"/>
                </a:lnTo>
                <a:lnTo>
                  <a:pt x="443" y="202"/>
                </a:lnTo>
                <a:lnTo>
                  <a:pt x="443" y="219"/>
                </a:lnTo>
                <a:lnTo>
                  <a:pt x="443" y="231"/>
                </a:lnTo>
                <a:lnTo>
                  <a:pt x="443" y="243"/>
                </a:lnTo>
                <a:lnTo>
                  <a:pt x="443" y="252"/>
                </a:lnTo>
                <a:lnTo>
                  <a:pt x="443" y="262"/>
                </a:lnTo>
                <a:lnTo>
                  <a:pt x="443" y="269"/>
                </a:lnTo>
                <a:lnTo>
                  <a:pt x="443" y="278"/>
                </a:lnTo>
                <a:lnTo>
                  <a:pt x="443" y="286"/>
                </a:lnTo>
                <a:lnTo>
                  <a:pt x="443" y="290"/>
                </a:lnTo>
                <a:lnTo>
                  <a:pt x="441" y="297"/>
                </a:lnTo>
                <a:lnTo>
                  <a:pt x="441" y="302"/>
                </a:lnTo>
                <a:lnTo>
                  <a:pt x="439" y="312"/>
                </a:lnTo>
                <a:lnTo>
                  <a:pt x="436" y="319"/>
                </a:lnTo>
                <a:lnTo>
                  <a:pt x="432" y="324"/>
                </a:lnTo>
                <a:lnTo>
                  <a:pt x="427" y="328"/>
                </a:lnTo>
                <a:lnTo>
                  <a:pt x="420" y="333"/>
                </a:lnTo>
                <a:lnTo>
                  <a:pt x="412" y="338"/>
                </a:lnTo>
                <a:lnTo>
                  <a:pt x="405" y="340"/>
                </a:lnTo>
                <a:lnTo>
                  <a:pt x="398" y="345"/>
                </a:lnTo>
                <a:lnTo>
                  <a:pt x="393" y="347"/>
                </a:lnTo>
                <a:lnTo>
                  <a:pt x="386" y="350"/>
                </a:lnTo>
                <a:lnTo>
                  <a:pt x="381" y="350"/>
                </a:lnTo>
                <a:lnTo>
                  <a:pt x="379" y="350"/>
                </a:lnTo>
                <a:lnTo>
                  <a:pt x="374" y="347"/>
                </a:lnTo>
                <a:lnTo>
                  <a:pt x="372" y="347"/>
                </a:lnTo>
                <a:lnTo>
                  <a:pt x="367" y="345"/>
                </a:lnTo>
                <a:lnTo>
                  <a:pt x="360" y="343"/>
                </a:lnTo>
                <a:lnTo>
                  <a:pt x="355" y="338"/>
                </a:lnTo>
                <a:lnTo>
                  <a:pt x="348" y="336"/>
                </a:lnTo>
                <a:lnTo>
                  <a:pt x="343" y="331"/>
                </a:lnTo>
                <a:lnTo>
                  <a:pt x="334" y="326"/>
                </a:lnTo>
                <a:lnTo>
                  <a:pt x="327" y="319"/>
                </a:lnTo>
                <a:lnTo>
                  <a:pt x="317" y="314"/>
                </a:lnTo>
                <a:lnTo>
                  <a:pt x="308" y="307"/>
                </a:lnTo>
                <a:lnTo>
                  <a:pt x="298" y="300"/>
                </a:lnTo>
                <a:lnTo>
                  <a:pt x="289" y="290"/>
                </a:lnTo>
                <a:lnTo>
                  <a:pt x="277" y="281"/>
                </a:lnTo>
                <a:lnTo>
                  <a:pt x="265" y="274"/>
                </a:lnTo>
                <a:lnTo>
                  <a:pt x="253" y="262"/>
                </a:lnTo>
                <a:lnTo>
                  <a:pt x="241" y="252"/>
                </a:lnTo>
                <a:lnTo>
                  <a:pt x="227" y="240"/>
                </a:lnTo>
                <a:lnTo>
                  <a:pt x="212" y="228"/>
                </a:lnTo>
                <a:lnTo>
                  <a:pt x="198" y="217"/>
                </a:lnTo>
                <a:lnTo>
                  <a:pt x="184" y="205"/>
                </a:lnTo>
                <a:lnTo>
                  <a:pt x="167" y="190"/>
                </a:lnTo>
                <a:lnTo>
                  <a:pt x="150" y="176"/>
                </a:lnTo>
                <a:lnTo>
                  <a:pt x="134" y="162"/>
                </a:lnTo>
                <a:lnTo>
                  <a:pt x="117" y="145"/>
                </a:lnTo>
                <a:lnTo>
                  <a:pt x="98" y="128"/>
                </a:lnTo>
                <a:lnTo>
                  <a:pt x="79" y="112"/>
                </a:lnTo>
                <a:lnTo>
                  <a:pt x="60" y="95"/>
                </a:lnTo>
                <a:lnTo>
                  <a:pt x="41" y="76"/>
                </a:lnTo>
                <a:lnTo>
                  <a:pt x="19" y="57"/>
                </a:lnTo>
                <a:lnTo>
                  <a:pt x="0" y="38"/>
                </a:lnTo>
                <a:lnTo>
                  <a:pt x="15" y="31"/>
                </a:lnTo>
                <a:lnTo>
                  <a:pt x="29" y="21"/>
                </a:lnTo>
                <a:lnTo>
                  <a:pt x="45" y="14"/>
                </a:lnTo>
                <a:lnTo>
                  <a:pt x="65" y="9"/>
                </a:lnTo>
                <a:lnTo>
                  <a:pt x="81" y="5"/>
                </a:lnTo>
                <a:lnTo>
                  <a:pt x="100" y="2"/>
                </a:lnTo>
                <a:lnTo>
                  <a:pt x="119" y="0"/>
                </a:lnTo>
                <a:lnTo>
                  <a:pt x="138" y="0"/>
                </a:lnTo>
                <a:lnTo>
                  <a:pt x="155" y="0"/>
                </a:lnTo>
                <a:lnTo>
                  <a:pt x="169" y="2"/>
                </a:lnTo>
                <a:lnTo>
                  <a:pt x="186" y="5"/>
                </a:lnTo>
                <a:lnTo>
                  <a:pt x="203" y="7"/>
                </a:lnTo>
                <a:lnTo>
                  <a:pt x="219" y="12"/>
                </a:lnTo>
                <a:lnTo>
                  <a:pt x="236" y="17"/>
                </a:lnTo>
                <a:lnTo>
                  <a:pt x="250" y="21"/>
                </a:lnTo>
                <a:lnTo>
                  <a:pt x="267" y="2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Freeform 43"/>
          <p:cNvSpPr/>
          <p:nvPr/>
        </p:nvSpPr>
        <p:spPr>
          <a:xfrm>
            <a:off x="6080040" y="3122640"/>
            <a:ext cx="1074960" cy="220680"/>
          </a:xfrm>
          <a:custGeom>
            <a:avLst/>
            <a:gdLst/>
            <a:ahLst/>
            <a:rect l="l" t="t" r="r" b="b"/>
            <a:pathLst>
              <a:path w="1692" h="349">
                <a:moveTo>
                  <a:pt x="0" y="245"/>
                </a:moveTo>
                <a:lnTo>
                  <a:pt x="117" y="226"/>
                </a:lnTo>
                <a:lnTo>
                  <a:pt x="177" y="216"/>
                </a:lnTo>
                <a:lnTo>
                  <a:pt x="234" y="207"/>
                </a:lnTo>
                <a:lnTo>
                  <a:pt x="291" y="197"/>
                </a:lnTo>
                <a:lnTo>
                  <a:pt x="348" y="188"/>
                </a:lnTo>
                <a:lnTo>
                  <a:pt x="403" y="178"/>
                </a:lnTo>
                <a:lnTo>
                  <a:pt x="458" y="169"/>
                </a:lnTo>
                <a:lnTo>
                  <a:pt x="512" y="159"/>
                </a:lnTo>
                <a:lnTo>
                  <a:pt x="567" y="149"/>
                </a:lnTo>
                <a:lnTo>
                  <a:pt x="620" y="140"/>
                </a:lnTo>
                <a:lnTo>
                  <a:pt x="672" y="130"/>
                </a:lnTo>
                <a:lnTo>
                  <a:pt x="725" y="121"/>
                </a:lnTo>
                <a:lnTo>
                  <a:pt x="777" y="111"/>
                </a:lnTo>
                <a:lnTo>
                  <a:pt x="827" y="100"/>
                </a:lnTo>
                <a:lnTo>
                  <a:pt x="877" y="90"/>
                </a:lnTo>
                <a:lnTo>
                  <a:pt x="927" y="80"/>
                </a:lnTo>
                <a:lnTo>
                  <a:pt x="975" y="73"/>
                </a:lnTo>
                <a:lnTo>
                  <a:pt x="1018" y="64"/>
                </a:lnTo>
                <a:lnTo>
                  <a:pt x="1061" y="57"/>
                </a:lnTo>
                <a:lnTo>
                  <a:pt x="1101" y="50"/>
                </a:lnTo>
                <a:lnTo>
                  <a:pt x="1142" y="42"/>
                </a:lnTo>
                <a:lnTo>
                  <a:pt x="1177" y="35"/>
                </a:lnTo>
                <a:lnTo>
                  <a:pt x="1211" y="30"/>
                </a:lnTo>
                <a:lnTo>
                  <a:pt x="1244" y="26"/>
                </a:lnTo>
                <a:lnTo>
                  <a:pt x="1275" y="21"/>
                </a:lnTo>
                <a:lnTo>
                  <a:pt x="1304" y="16"/>
                </a:lnTo>
                <a:lnTo>
                  <a:pt x="1327" y="11"/>
                </a:lnTo>
                <a:lnTo>
                  <a:pt x="1354" y="9"/>
                </a:lnTo>
                <a:lnTo>
                  <a:pt x="1375" y="7"/>
                </a:lnTo>
                <a:lnTo>
                  <a:pt x="1394" y="2"/>
                </a:lnTo>
                <a:lnTo>
                  <a:pt x="1413" y="0"/>
                </a:lnTo>
                <a:lnTo>
                  <a:pt x="1439" y="2"/>
                </a:lnTo>
                <a:lnTo>
                  <a:pt x="1468" y="4"/>
                </a:lnTo>
                <a:lnTo>
                  <a:pt x="1494" y="11"/>
                </a:lnTo>
                <a:lnTo>
                  <a:pt x="1518" y="19"/>
                </a:lnTo>
                <a:lnTo>
                  <a:pt x="1544" y="28"/>
                </a:lnTo>
                <a:lnTo>
                  <a:pt x="1568" y="38"/>
                </a:lnTo>
                <a:lnTo>
                  <a:pt x="1592" y="50"/>
                </a:lnTo>
                <a:lnTo>
                  <a:pt x="1616" y="64"/>
                </a:lnTo>
                <a:lnTo>
                  <a:pt x="1625" y="73"/>
                </a:lnTo>
                <a:lnTo>
                  <a:pt x="1632" y="83"/>
                </a:lnTo>
                <a:lnTo>
                  <a:pt x="1649" y="100"/>
                </a:lnTo>
                <a:lnTo>
                  <a:pt x="1661" y="114"/>
                </a:lnTo>
                <a:lnTo>
                  <a:pt x="1673" y="126"/>
                </a:lnTo>
                <a:lnTo>
                  <a:pt x="1678" y="130"/>
                </a:lnTo>
                <a:lnTo>
                  <a:pt x="1680" y="135"/>
                </a:lnTo>
                <a:lnTo>
                  <a:pt x="1685" y="140"/>
                </a:lnTo>
                <a:lnTo>
                  <a:pt x="1687" y="142"/>
                </a:lnTo>
                <a:lnTo>
                  <a:pt x="1690" y="147"/>
                </a:lnTo>
                <a:lnTo>
                  <a:pt x="1692" y="149"/>
                </a:lnTo>
                <a:lnTo>
                  <a:pt x="1692" y="152"/>
                </a:lnTo>
                <a:lnTo>
                  <a:pt x="1692" y="154"/>
                </a:lnTo>
                <a:lnTo>
                  <a:pt x="1692" y="159"/>
                </a:lnTo>
                <a:lnTo>
                  <a:pt x="1690" y="164"/>
                </a:lnTo>
                <a:lnTo>
                  <a:pt x="1685" y="166"/>
                </a:lnTo>
                <a:lnTo>
                  <a:pt x="1680" y="169"/>
                </a:lnTo>
                <a:lnTo>
                  <a:pt x="1673" y="171"/>
                </a:lnTo>
                <a:lnTo>
                  <a:pt x="1666" y="173"/>
                </a:lnTo>
                <a:lnTo>
                  <a:pt x="1654" y="176"/>
                </a:lnTo>
                <a:lnTo>
                  <a:pt x="1642" y="180"/>
                </a:lnTo>
                <a:lnTo>
                  <a:pt x="1613" y="190"/>
                </a:lnTo>
                <a:lnTo>
                  <a:pt x="1597" y="195"/>
                </a:lnTo>
                <a:lnTo>
                  <a:pt x="1582" y="199"/>
                </a:lnTo>
                <a:lnTo>
                  <a:pt x="1566" y="202"/>
                </a:lnTo>
                <a:lnTo>
                  <a:pt x="1549" y="204"/>
                </a:lnTo>
                <a:lnTo>
                  <a:pt x="1532" y="207"/>
                </a:lnTo>
                <a:lnTo>
                  <a:pt x="1513" y="207"/>
                </a:lnTo>
                <a:lnTo>
                  <a:pt x="1501" y="207"/>
                </a:lnTo>
                <a:lnTo>
                  <a:pt x="1485" y="207"/>
                </a:lnTo>
                <a:lnTo>
                  <a:pt x="1468" y="209"/>
                </a:lnTo>
                <a:lnTo>
                  <a:pt x="1449" y="209"/>
                </a:lnTo>
                <a:lnTo>
                  <a:pt x="1427" y="211"/>
                </a:lnTo>
                <a:lnTo>
                  <a:pt x="1404" y="211"/>
                </a:lnTo>
                <a:lnTo>
                  <a:pt x="1377" y="214"/>
                </a:lnTo>
                <a:lnTo>
                  <a:pt x="1351" y="216"/>
                </a:lnTo>
                <a:lnTo>
                  <a:pt x="1320" y="216"/>
                </a:lnTo>
                <a:lnTo>
                  <a:pt x="1287" y="219"/>
                </a:lnTo>
                <a:lnTo>
                  <a:pt x="1251" y="221"/>
                </a:lnTo>
                <a:lnTo>
                  <a:pt x="1215" y="223"/>
                </a:lnTo>
                <a:lnTo>
                  <a:pt x="1175" y="226"/>
                </a:lnTo>
                <a:lnTo>
                  <a:pt x="1134" y="228"/>
                </a:lnTo>
                <a:lnTo>
                  <a:pt x="1089" y="230"/>
                </a:lnTo>
                <a:lnTo>
                  <a:pt x="1068" y="233"/>
                </a:lnTo>
                <a:lnTo>
                  <a:pt x="1044" y="233"/>
                </a:lnTo>
                <a:lnTo>
                  <a:pt x="994" y="238"/>
                </a:lnTo>
                <a:lnTo>
                  <a:pt x="946" y="242"/>
                </a:lnTo>
                <a:lnTo>
                  <a:pt x="901" y="247"/>
                </a:lnTo>
                <a:lnTo>
                  <a:pt x="858" y="252"/>
                </a:lnTo>
                <a:lnTo>
                  <a:pt x="815" y="257"/>
                </a:lnTo>
                <a:lnTo>
                  <a:pt x="775" y="261"/>
                </a:lnTo>
                <a:lnTo>
                  <a:pt x="736" y="266"/>
                </a:lnTo>
                <a:lnTo>
                  <a:pt x="698" y="271"/>
                </a:lnTo>
                <a:lnTo>
                  <a:pt x="663" y="276"/>
                </a:lnTo>
                <a:lnTo>
                  <a:pt x="629" y="280"/>
                </a:lnTo>
                <a:lnTo>
                  <a:pt x="596" y="285"/>
                </a:lnTo>
                <a:lnTo>
                  <a:pt x="565" y="290"/>
                </a:lnTo>
                <a:lnTo>
                  <a:pt x="536" y="295"/>
                </a:lnTo>
                <a:lnTo>
                  <a:pt x="508" y="302"/>
                </a:lnTo>
                <a:lnTo>
                  <a:pt x="482" y="307"/>
                </a:lnTo>
                <a:lnTo>
                  <a:pt x="458" y="311"/>
                </a:lnTo>
                <a:lnTo>
                  <a:pt x="434" y="316"/>
                </a:lnTo>
                <a:lnTo>
                  <a:pt x="412" y="321"/>
                </a:lnTo>
                <a:lnTo>
                  <a:pt x="391" y="323"/>
                </a:lnTo>
                <a:lnTo>
                  <a:pt x="372" y="328"/>
                </a:lnTo>
                <a:lnTo>
                  <a:pt x="353" y="330"/>
                </a:lnTo>
                <a:lnTo>
                  <a:pt x="336" y="335"/>
                </a:lnTo>
                <a:lnTo>
                  <a:pt x="319" y="338"/>
                </a:lnTo>
                <a:lnTo>
                  <a:pt x="305" y="340"/>
                </a:lnTo>
                <a:lnTo>
                  <a:pt x="291" y="342"/>
                </a:lnTo>
                <a:lnTo>
                  <a:pt x="279" y="345"/>
                </a:lnTo>
                <a:lnTo>
                  <a:pt x="267" y="345"/>
                </a:lnTo>
                <a:lnTo>
                  <a:pt x="258" y="347"/>
                </a:lnTo>
                <a:lnTo>
                  <a:pt x="248" y="347"/>
                </a:lnTo>
                <a:lnTo>
                  <a:pt x="241" y="349"/>
                </a:lnTo>
                <a:lnTo>
                  <a:pt x="234" y="349"/>
                </a:lnTo>
                <a:lnTo>
                  <a:pt x="229" y="349"/>
                </a:lnTo>
                <a:lnTo>
                  <a:pt x="215" y="349"/>
                </a:lnTo>
                <a:lnTo>
                  <a:pt x="200" y="347"/>
                </a:lnTo>
                <a:lnTo>
                  <a:pt x="186" y="345"/>
                </a:lnTo>
                <a:lnTo>
                  <a:pt x="169" y="342"/>
                </a:lnTo>
                <a:lnTo>
                  <a:pt x="155" y="338"/>
                </a:lnTo>
                <a:lnTo>
                  <a:pt x="138" y="333"/>
                </a:lnTo>
                <a:lnTo>
                  <a:pt x="119" y="328"/>
                </a:lnTo>
                <a:lnTo>
                  <a:pt x="103" y="323"/>
                </a:lnTo>
                <a:lnTo>
                  <a:pt x="84" y="318"/>
                </a:lnTo>
                <a:lnTo>
                  <a:pt x="67" y="311"/>
                </a:lnTo>
                <a:lnTo>
                  <a:pt x="50" y="304"/>
                </a:lnTo>
                <a:lnTo>
                  <a:pt x="36" y="295"/>
                </a:lnTo>
                <a:lnTo>
                  <a:pt x="24" y="283"/>
                </a:lnTo>
                <a:lnTo>
                  <a:pt x="14" y="273"/>
                </a:lnTo>
                <a:lnTo>
                  <a:pt x="5" y="259"/>
                </a:lnTo>
                <a:lnTo>
                  <a:pt x="3" y="252"/>
                </a:lnTo>
                <a:lnTo>
                  <a:pt x="0" y="24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Freeform 44"/>
          <p:cNvSpPr/>
          <p:nvPr/>
        </p:nvSpPr>
        <p:spPr>
          <a:xfrm>
            <a:off x="6215040" y="3303720"/>
            <a:ext cx="874800" cy="679320"/>
          </a:xfrm>
          <a:custGeom>
            <a:avLst/>
            <a:gdLst/>
            <a:ahLst/>
            <a:rect l="l" t="t" r="r" b="b"/>
            <a:pathLst>
              <a:path w="1378" h="1071">
                <a:moveTo>
                  <a:pt x="5" y="957"/>
                </a:moveTo>
                <a:lnTo>
                  <a:pt x="0" y="940"/>
                </a:lnTo>
                <a:lnTo>
                  <a:pt x="0" y="926"/>
                </a:lnTo>
                <a:lnTo>
                  <a:pt x="0" y="912"/>
                </a:lnTo>
                <a:lnTo>
                  <a:pt x="5" y="900"/>
                </a:lnTo>
                <a:lnTo>
                  <a:pt x="10" y="886"/>
                </a:lnTo>
                <a:lnTo>
                  <a:pt x="19" y="874"/>
                </a:lnTo>
                <a:lnTo>
                  <a:pt x="29" y="862"/>
                </a:lnTo>
                <a:lnTo>
                  <a:pt x="43" y="852"/>
                </a:lnTo>
                <a:lnTo>
                  <a:pt x="53" y="843"/>
                </a:lnTo>
                <a:lnTo>
                  <a:pt x="62" y="831"/>
                </a:lnTo>
                <a:lnTo>
                  <a:pt x="69" y="819"/>
                </a:lnTo>
                <a:lnTo>
                  <a:pt x="79" y="805"/>
                </a:lnTo>
                <a:lnTo>
                  <a:pt x="86" y="793"/>
                </a:lnTo>
                <a:lnTo>
                  <a:pt x="93" y="778"/>
                </a:lnTo>
                <a:lnTo>
                  <a:pt x="100" y="764"/>
                </a:lnTo>
                <a:lnTo>
                  <a:pt x="105" y="750"/>
                </a:lnTo>
                <a:lnTo>
                  <a:pt x="107" y="745"/>
                </a:lnTo>
                <a:lnTo>
                  <a:pt x="107" y="738"/>
                </a:lnTo>
                <a:lnTo>
                  <a:pt x="110" y="733"/>
                </a:lnTo>
                <a:lnTo>
                  <a:pt x="110" y="724"/>
                </a:lnTo>
                <a:lnTo>
                  <a:pt x="112" y="714"/>
                </a:lnTo>
                <a:lnTo>
                  <a:pt x="112" y="705"/>
                </a:lnTo>
                <a:lnTo>
                  <a:pt x="115" y="693"/>
                </a:lnTo>
                <a:lnTo>
                  <a:pt x="115" y="678"/>
                </a:lnTo>
                <a:lnTo>
                  <a:pt x="117" y="664"/>
                </a:lnTo>
                <a:lnTo>
                  <a:pt x="117" y="650"/>
                </a:lnTo>
                <a:lnTo>
                  <a:pt x="119" y="633"/>
                </a:lnTo>
                <a:lnTo>
                  <a:pt x="119" y="614"/>
                </a:lnTo>
                <a:lnTo>
                  <a:pt x="119" y="595"/>
                </a:lnTo>
                <a:lnTo>
                  <a:pt x="122" y="574"/>
                </a:lnTo>
                <a:lnTo>
                  <a:pt x="122" y="552"/>
                </a:lnTo>
                <a:lnTo>
                  <a:pt x="124" y="529"/>
                </a:lnTo>
                <a:lnTo>
                  <a:pt x="124" y="505"/>
                </a:lnTo>
                <a:lnTo>
                  <a:pt x="124" y="479"/>
                </a:lnTo>
                <a:lnTo>
                  <a:pt x="127" y="452"/>
                </a:lnTo>
                <a:lnTo>
                  <a:pt x="127" y="426"/>
                </a:lnTo>
                <a:lnTo>
                  <a:pt x="127" y="395"/>
                </a:lnTo>
                <a:lnTo>
                  <a:pt x="129" y="367"/>
                </a:lnTo>
                <a:lnTo>
                  <a:pt x="129" y="336"/>
                </a:lnTo>
                <a:lnTo>
                  <a:pt x="129" y="302"/>
                </a:lnTo>
                <a:lnTo>
                  <a:pt x="129" y="269"/>
                </a:lnTo>
                <a:lnTo>
                  <a:pt x="129" y="233"/>
                </a:lnTo>
                <a:lnTo>
                  <a:pt x="131" y="198"/>
                </a:lnTo>
                <a:lnTo>
                  <a:pt x="131" y="160"/>
                </a:lnTo>
                <a:lnTo>
                  <a:pt x="131" y="122"/>
                </a:lnTo>
                <a:lnTo>
                  <a:pt x="131" y="81"/>
                </a:lnTo>
                <a:lnTo>
                  <a:pt x="131" y="41"/>
                </a:lnTo>
                <a:lnTo>
                  <a:pt x="131" y="0"/>
                </a:lnTo>
                <a:lnTo>
                  <a:pt x="158" y="17"/>
                </a:lnTo>
                <a:lnTo>
                  <a:pt x="179" y="33"/>
                </a:lnTo>
                <a:lnTo>
                  <a:pt x="203" y="48"/>
                </a:lnTo>
                <a:lnTo>
                  <a:pt x="222" y="62"/>
                </a:lnTo>
                <a:lnTo>
                  <a:pt x="241" y="76"/>
                </a:lnTo>
                <a:lnTo>
                  <a:pt x="258" y="91"/>
                </a:lnTo>
                <a:lnTo>
                  <a:pt x="272" y="102"/>
                </a:lnTo>
                <a:lnTo>
                  <a:pt x="286" y="112"/>
                </a:lnTo>
                <a:lnTo>
                  <a:pt x="298" y="124"/>
                </a:lnTo>
                <a:lnTo>
                  <a:pt x="308" y="133"/>
                </a:lnTo>
                <a:lnTo>
                  <a:pt x="315" y="141"/>
                </a:lnTo>
                <a:lnTo>
                  <a:pt x="322" y="148"/>
                </a:lnTo>
                <a:lnTo>
                  <a:pt x="329" y="155"/>
                </a:lnTo>
                <a:lnTo>
                  <a:pt x="331" y="160"/>
                </a:lnTo>
                <a:lnTo>
                  <a:pt x="334" y="164"/>
                </a:lnTo>
                <a:lnTo>
                  <a:pt x="336" y="167"/>
                </a:lnTo>
                <a:lnTo>
                  <a:pt x="334" y="172"/>
                </a:lnTo>
                <a:lnTo>
                  <a:pt x="331" y="176"/>
                </a:lnTo>
                <a:lnTo>
                  <a:pt x="329" y="181"/>
                </a:lnTo>
                <a:lnTo>
                  <a:pt x="327" y="188"/>
                </a:lnTo>
                <a:lnTo>
                  <a:pt x="324" y="198"/>
                </a:lnTo>
                <a:lnTo>
                  <a:pt x="322" y="210"/>
                </a:lnTo>
                <a:lnTo>
                  <a:pt x="320" y="221"/>
                </a:lnTo>
                <a:lnTo>
                  <a:pt x="317" y="233"/>
                </a:lnTo>
                <a:lnTo>
                  <a:pt x="315" y="248"/>
                </a:lnTo>
                <a:lnTo>
                  <a:pt x="312" y="264"/>
                </a:lnTo>
                <a:lnTo>
                  <a:pt x="310" y="281"/>
                </a:lnTo>
                <a:lnTo>
                  <a:pt x="305" y="300"/>
                </a:lnTo>
                <a:lnTo>
                  <a:pt x="303" y="319"/>
                </a:lnTo>
                <a:lnTo>
                  <a:pt x="303" y="340"/>
                </a:lnTo>
                <a:lnTo>
                  <a:pt x="300" y="364"/>
                </a:lnTo>
                <a:lnTo>
                  <a:pt x="298" y="388"/>
                </a:lnTo>
                <a:lnTo>
                  <a:pt x="293" y="412"/>
                </a:lnTo>
                <a:lnTo>
                  <a:pt x="289" y="433"/>
                </a:lnTo>
                <a:lnTo>
                  <a:pt x="284" y="455"/>
                </a:lnTo>
                <a:lnTo>
                  <a:pt x="281" y="476"/>
                </a:lnTo>
                <a:lnTo>
                  <a:pt x="277" y="498"/>
                </a:lnTo>
                <a:lnTo>
                  <a:pt x="274" y="517"/>
                </a:lnTo>
                <a:lnTo>
                  <a:pt x="272" y="536"/>
                </a:lnTo>
                <a:lnTo>
                  <a:pt x="270" y="555"/>
                </a:lnTo>
                <a:lnTo>
                  <a:pt x="267" y="571"/>
                </a:lnTo>
                <a:lnTo>
                  <a:pt x="265" y="588"/>
                </a:lnTo>
                <a:lnTo>
                  <a:pt x="262" y="602"/>
                </a:lnTo>
                <a:lnTo>
                  <a:pt x="262" y="619"/>
                </a:lnTo>
                <a:lnTo>
                  <a:pt x="260" y="633"/>
                </a:lnTo>
                <a:lnTo>
                  <a:pt x="260" y="645"/>
                </a:lnTo>
                <a:lnTo>
                  <a:pt x="260" y="659"/>
                </a:lnTo>
                <a:lnTo>
                  <a:pt x="260" y="671"/>
                </a:lnTo>
                <a:lnTo>
                  <a:pt x="260" y="683"/>
                </a:lnTo>
                <a:lnTo>
                  <a:pt x="260" y="693"/>
                </a:lnTo>
                <a:lnTo>
                  <a:pt x="260" y="705"/>
                </a:lnTo>
                <a:lnTo>
                  <a:pt x="260" y="712"/>
                </a:lnTo>
                <a:lnTo>
                  <a:pt x="262" y="721"/>
                </a:lnTo>
                <a:lnTo>
                  <a:pt x="262" y="728"/>
                </a:lnTo>
                <a:lnTo>
                  <a:pt x="265" y="736"/>
                </a:lnTo>
                <a:lnTo>
                  <a:pt x="267" y="743"/>
                </a:lnTo>
                <a:lnTo>
                  <a:pt x="270" y="747"/>
                </a:lnTo>
                <a:lnTo>
                  <a:pt x="270" y="752"/>
                </a:lnTo>
                <a:lnTo>
                  <a:pt x="274" y="762"/>
                </a:lnTo>
                <a:lnTo>
                  <a:pt x="279" y="769"/>
                </a:lnTo>
                <a:lnTo>
                  <a:pt x="284" y="776"/>
                </a:lnTo>
                <a:lnTo>
                  <a:pt x="289" y="778"/>
                </a:lnTo>
                <a:lnTo>
                  <a:pt x="293" y="783"/>
                </a:lnTo>
                <a:lnTo>
                  <a:pt x="300" y="786"/>
                </a:lnTo>
                <a:lnTo>
                  <a:pt x="305" y="786"/>
                </a:lnTo>
                <a:lnTo>
                  <a:pt x="315" y="788"/>
                </a:lnTo>
                <a:lnTo>
                  <a:pt x="324" y="788"/>
                </a:lnTo>
                <a:lnTo>
                  <a:pt x="334" y="788"/>
                </a:lnTo>
                <a:lnTo>
                  <a:pt x="348" y="788"/>
                </a:lnTo>
                <a:lnTo>
                  <a:pt x="362" y="793"/>
                </a:lnTo>
                <a:lnTo>
                  <a:pt x="379" y="795"/>
                </a:lnTo>
                <a:lnTo>
                  <a:pt x="396" y="797"/>
                </a:lnTo>
                <a:lnTo>
                  <a:pt x="415" y="797"/>
                </a:lnTo>
                <a:lnTo>
                  <a:pt x="434" y="797"/>
                </a:lnTo>
                <a:lnTo>
                  <a:pt x="455" y="795"/>
                </a:lnTo>
                <a:lnTo>
                  <a:pt x="477" y="793"/>
                </a:lnTo>
                <a:lnTo>
                  <a:pt x="501" y="788"/>
                </a:lnTo>
                <a:lnTo>
                  <a:pt x="513" y="786"/>
                </a:lnTo>
                <a:lnTo>
                  <a:pt x="527" y="783"/>
                </a:lnTo>
                <a:lnTo>
                  <a:pt x="544" y="781"/>
                </a:lnTo>
                <a:lnTo>
                  <a:pt x="560" y="778"/>
                </a:lnTo>
                <a:lnTo>
                  <a:pt x="577" y="776"/>
                </a:lnTo>
                <a:lnTo>
                  <a:pt x="598" y="774"/>
                </a:lnTo>
                <a:lnTo>
                  <a:pt x="617" y="769"/>
                </a:lnTo>
                <a:lnTo>
                  <a:pt x="641" y="767"/>
                </a:lnTo>
                <a:lnTo>
                  <a:pt x="663" y="764"/>
                </a:lnTo>
                <a:lnTo>
                  <a:pt x="689" y="759"/>
                </a:lnTo>
                <a:lnTo>
                  <a:pt x="713" y="757"/>
                </a:lnTo>
                <a:lnTo>
                  <a:pt x="741" y="752"/>
                </a:lnTo>
                <a:lnTo>
                  <a:pt x="768" y="750"/>
                </a:lnTo>
                <a:lnTo>
                  <a:pt x="796" y="745"/>
                </a:lnTo>
                <a:lnTo>
                  <a:pt x="827" y="740"/>
                </a:lnTo>
                <a:lnTo>
                  <a:pt x="856" y="736"/>
                </a:lnTo>
                <a:lnTo>
                  <a:pt x="887" y="731"/>
                </a:lnTo>
                <a:lnTo>
                  <a:pt x="915" y="726"/>
                </a:lnTo>
                <a:lnTo>
                  <a:pt x="944" y="724"/>
                </a:lnTo>
                <a:lnTo>
                  <a:pt x="968" y="719"/>
                </a:lnTo>
                <a:lnTo>
                  <a:pt x="994" y="717"/>
                </a:lnTo>
                <a:lnTo>
                  <a:pt x="1015" y="712"/>
                </a:lnTo>
                <a:lnTo>
                  <a:pt x="1037" y="709"/>
                </a:lnTo>
                <a:lnTo>
                  <a:pt x="1056" y="707"/>
                </a:lnTo>
                <a:lnTo>
                  <a:pt x="1075" y="705"/>
                </a:lnTo>
                <a:lnTo>
                  <a:pt x="1092" y="702"/>
                </a:lnTo>
                <a:lnTo>
                  <a:pt x="1108" y="700"/>
                </a:lnTo>
                <a:lnTo>
                  <a:pt x="1123" y="700"/>
                </a:lnTo>
                <a:lnTo>
                  <a:pt x="1134" y="697"/>
                </a:lnTo>
                <a:lnTo>
                  <a:pt x="1144" y="697"/>
                </a:lnTo>
                <a:lnTo>
                  <a:pt x="1154" y="697"/>
                </a:lnTo>
                <a:lnTo>
                  <a:pt x="1163" y="697"/>
                </a:lnTo>
                <a:lnTo>
                  <a:pt x="1177" y="697"/>
                </a:lnTo>
                <a:lnTo>
                  <a:pt x="1192" y="702"/>
                </a:lnTo>
                <a:lnTo>
                  <a:pt x="1206" y="707"/>
                </a:lnTo>
                <a:lnTo>
                  <a:pt x="1223" y="714"/>
                </a:lnTo>
                <a:lnTo>
                  <a:pt x="1239" y="724"/>
                </a:lnTo>
                <a:lnTo>
                  <a:pt x="1258" y="736"/>
                </a:lnTo>
                <a:lnTo>
                  <a:pt x="1280" y="747"/>
                </a:lnTo>
                <a:lnTo>
                  <a:pt x="1301" y="762"/>
                </a:lnTo>
                <a:lnTo>
                  <a:pt x="1320" y="776"/>
                </a:lnTo>
                <a:lnTo>
                  <a:pt x="1335" y="788"/>
                </a:lnTo>
                <a:lnTo>
                  <a:pt x="1349" y="800"/>
                </a:lnTo>
                <a:lnTo>
                  <a:pt x="1358" y="809"/>
                </a:lnTo>
                <a:lnTo>
                  <a:pt x="1368" y="819"/>
                </a:lnTo>
                <a:lnTo>
                  <a:pt x="1370" y="824"/>
                </a:lnTo>
                <a:lnTo>
                  <a:pt x="1373" y="828"/>
                </a:lnTo>
                <a:lnTo>
                  <a:pt x="1375" y="831"/>
                </a:lnTo>
                <a:lnTo>
                  <a:pt x="1378" y="833"/>
                </a:lnTo>
                <a:lnTo>
                  <a:pt x="1378" y="838"/>
                </a:lnTo>
                <a:lnTo>
                  <a:pt x="1378" y="840"/>
                </a:lnTo>
                <a:lnTo>
                  <a:pt x="1378" y="845"/>
                </a:lnTo>
                <a:lnTo>
                  <a:pt x="1375" y="852"/>
                </a:lnTo>
                <a:lnTo>
                  <a:pt x="1373" y="857"/>
                </a:lnTo>
                <a:lnTo>
                  <a:pt x="1370" y="864"/>
                </a:lnTo>
                <a:lnTo>
                  <a:pt x="1366" y="871"/>
                </a:lnTo>
                <a:lnTo>
                  <a:pt x="1363" y="878"/>
                </a:lnTo>
                <a:lnTo>
                  <a:pt x="1358" y="886"/>
                </a:lnTo>
                <a:lnTo>
                  <a:pt x="1354" y="890"/>
                </a:lnTo>
                <a:lnTo>
                  <a:pt x="1347" y="895"/>
                </a:lnTo>
                <a:lnTo>
                  <a:pt x="1339" y="900"/>
                </a:lnTo>
                <a:lnTo>
                  <a:pt x="1332" y="902"/>
                </a:lnTo>
                <a:lnTo>
                  <a:pt x="1323" y="907"/>
                </a:lnTo>
                <a:lnTo>
                  <a:pt x="1311" y="909"/>
                </a:lnTo>
                <a:lnTo>
                  <a:pt x="1296" y="909"/>
                </a:lnTo>
                <a:lnTo>
                  <a:pt x="1282" y="912"/>
                </a:lnTo>
                <a:lnTo>
                  <a:pt x="1266" y="912"/>
                </a:lnTo>
                <a:lnTo>
                  <a:pt x="1246" y="912"/>
                </a:lnTo>
                <a:lnTo>
                  <a:pt x="1227" y="912"/>
                </a:lnTo>
                <a:lnTo>
                  <a:pt x="1206" y="912"/>
                </a:lnTo>
                <a:lnTo>
                  <a:pt x="1182" y="912"/>
                </a:lnTo>
                <a:lnTo>
                  <a:pt x="1158" y="909"/>
                </a:lnTo>
                <a:lnTo>
                  <a:pt x="1132" y="909"/>
                </a:lnTo>
                <a:lnTo>
                  <a:pt x="1103" y="907"/>
                </a:lnTo>
                <a:lnTo>
                  <a:pt x="1073" y="905"/>
                </a:lnTo>
                <a:lnTo>
                  <a:pt x="1011" y="900"/>
                </a:lnTo>
                <a:lnTo>
                  <a:pt x="951" y="897"/>
                </a:lnTo>
                <a:lnTo>
                  <a:pt x="894" y="895"/>
                </a:lnTo>
                <a:lnTo>
                  <a:pt x="865" y="895"/>
                </a:lnTo>
                <a:lnTo>
                  <a:pt x="837" y="895"/>
                </a:lnTo>
                <a:lnTo>
                  <a:pt x="810" y="895"/>
                </a:lnTo>
                <a:lnTo>
                  <a:pt x="784" y="895"/>
                </a:lnTo>
                <a:lnTo>
                  <a:pt x="758" y="895"/>
                </a:lnTo>
                <a:lnTo>
                  <a:pt x="732" y="897"/>
                </a:lnTo>
                <a:lnTo>
                  <a:pt x="708" y="897"/>
                </a:lnTo>
                <a:lnTo>
                  <a:pt x="684" y="900"/>
                </a:lnTo>
                <a:lnTo>
                  <a:pt x="663" y="902"/>
                </a:lnTo>
                <a:lnTo>
                  <a:pt x="641" y="905"/>
                </a:lnTo>
                <a:lnTo>
                  <a:pt x="598" y="909"/>
                </a:lnTo>
                <a:lnTo>
                  <a:pt x="558" y="916"/>
                </a:lnTo>
                <a:lnTo>
                  <a:pt x="517" y="924"/>
                </a:lnTo>
                <a:lnTo>
                  <a:pt x="501" y="926"/>
                </a:lnTo>
                <a:lnTo>
                  <a:pt x="482" y="931"/>
                </a:lnTo>
                <a:lnTo>
                  <a:pt x="465" y="933"/>
                </a:lnTo>
                <a:lnTo>
                  <a:pt x="446" y="938"/>
                </a:lnTo>
                <a:lnTo>
                  <a:pt x="432" y="940"/>
                </a:lnTo>
                <a:lnTo>
                  <a:pt x="415" y="945"/>
                </a:lnTo>
                <a:lnTo>
                  <a:pt x="401" y="947"/>
                </a:lnTo>
                <a:lnTo>
                  <a:pt x="386" y="950"/>
                </a:lnTo>
                <a:lnTo>
                  <a:pt x="372" y="952"/>
                </a:lnTo>
                <a:lnTo>
                  <a:pt x="360" y="957"/>
                </a:lnTo>
                <a:lnTo>
                  <a:pt x="336" y="962"/>
                </a:lnTo>
                <a:lnTo>
                  <a:pt x="312" y="969"/>
                </a:lnTo>
                <a:lnTo>
                  <a:pt x="291" y="976"/>
                </a:lnTo>
                <a:lnTo>
                  <a:pt x="267" y="985"/>
                </a:lnTo>
                <a:lnTo>
                  <a:pt x="248" y="995"/>
                </a:lnTo>
                <a:lnTo>
                  <a:pt x="229" y="1007"/>
                </a:lnTo>
                <a:lnTo>
                  <a:pt x="210" y="1019"/>
                </a:lnTo>
                <a:lnTo>
                  <a:pt x="203" y="1026"/>
                </a:lnTo>
                <a:lnTo>
                  <a:pt x="196" y="1033"/>
                </a:lnTo>
                <a:lnTo>
                  <a:pt x="181" y="1043"/>
                </a:lnTo>
                <a:lnTo>
                  <a:pt x="169" y="1050"/>
                </a:lnTo>
                <a:lnTo>
                  <a:pt x="158" y="1057"/>
                </a:lnTo>
                <a:lnTo>
                  <a:pt x="148" y="1062"/>
                </a:lnTo>
                <a:lnTo>
                  <a:pt x="138" y="1066"/>
                </a:lnTo>
                <a:lnTo>
                  <a:pt x="131" y="1069"/>
                </a:lnTo>
                <a:lnTo>
                  <a:pt x="124" y="1071"/>
                </a:lnTo>
                <a:lnTo>
                  <a:pt x="119" y="1071"/>
                </a:lnTo>
                <a:lnTo>
                  <a:pt x="115" y="1071"/>
                </a:lnTo>
                <a:lnTo>
                  <a:pt x="107" y="1069"/>
                </a:lnTo>
                <a:lnTo>
                  <a:pt x="100" y="1066"/>
                </a:lnTo>
                <a:lnTo>
                  <a:pt x="91" y="1064"/>
                </a:lnTo>
                <a:lnTo>
                  <a:pt x="84" y="1059"/>
                </a:lnTo>
                <a:lnTo>
                  <a:pt x="74" y="1057"/>
                </a:lnTo>
                <a:lnTo>
                  <a:pt x="55" y="1047"/>
                </a:lnTo>
                <a:lnTo>
                  <a:pt x="46" y="1035"/>
                </a:lnTo>
                <a:lnTo>
                  <a:pt x="38" y="1026"/>
                </a:lnTo>
                <a:lnTo>
                  <a:pt x="31" y="1016"/>
                </a:lnTo>
                <a:lnTo>
                  <a:pt x="24" y="1005"/>
                </a:lnTo>
                <a:lnTo>
                  <a:pt x="19" y="995"/>
                </a:lnTo>
                <a:lnTo>
                  <a:pt x="15" y="983"/>
                </a:lnTo>
                <a:lnTo>
                  <a:pt x="10" y="969"/>
                </a:lnTo>
                <a:lnTo>
                  <a:pt x="5" y="95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Freeform 45"/>
          <p:cNvSpPr/>
          <p:nvPr/>
        </p:nvSpPr>
        <p:spPr>
          <a:xfrm>
            <a:off x="6499080" y="2192400"/>
            <a:ext cx="252720" cy="660240"/>
          </a:xfrm>
          <a:custGeom>
            <a:avLst/>
            <a:gdLst/>
            <a:ahLst/>
            <a:rect l="l" t="t" r="r" b="b"/>
            <a:pathLst>
              <a:path w="396" h="1040">
                <a:moveTo>
                  <a:pt x="41" y="766"/>
                </a:moveTo>
                <a:lnTo>
                  <a:pt x="45" y="733"/>
                </a:lnTo>
                <a:lnTo>
                  <a:pt x="53" y="700"/>
                </a:lnTo>
                <a:lnTo>
                  <a:pt x="60" y="666"/>
                </a:lnTo>
                <a:lnTo>
                  <a:pt x="67" y="635"/>
                </a:lnTo>
                <a:lnTo>
                  <a:pt x="74" y="604"/>
                </a:lnTo>
                <a:lnTo>
                  <a:pt x="81" y="573"/>
                </a:lnTo>
                <a:lnTo>
                  <a:pt x="88" y="545"/>
                </a:lnTo>
                <a:lnTo>
                  <a:pt x="96" y="514"/>
                </a:lnTo>
                <a:lnTo>
                  <a:pt x="103" y="485"/>
                </a:lnTo>
                <a:lnTo>
                  <a:pt x="107" y="457"/>
                </a:lnTo>
                <a:lnTo>
                  <a:pt x="115" y="431"/>
                </a:lnTo>
                <a:lnTo>
                  <a:pt x="119" y="402"/>
                </a:lnTo>
                <a:lnTo>
                  <a:pt x="126" y="376"/>
                </a:lnTo>
                <a:lnTo>
                  <a:pt x="131" y="352"/>
                </a:lnTo>
                <a:lnTo>
                  <a:pt x="136" y="326"/>
                </a:lnTo>
                <a:lnTo>
                  <a:pt x="141" y="302"/>
                </a:lnTo>
                <a:lnTo>
                  <a:pt x="143" y="281"/>
                </a:lnTo>
                <a:lnTo>
                  <a:pt x="146" y="259"/>
                </a:lnTo>
                <a:lnTo>
                  <a:pt x="148" y="240"/>
                </a:lnTo>
                <a:lnTo>
                  <a:pt x="148" y="221"/>
                </a:lnTo>
                <a:lnTo>
                  <a:pt x="148" y="205"/>
                </a:lnTo>
                <a:lnTo>
                  <a:pt x="148" y="188"/>
                </a:lnTo>
                <a:lnTo>
                  <a:pt x="148" y="171"/>
                </a:lnTo>
                <a:lnTo>
                  <a:pt x="148" y="157"/>
                </a:lnTo>
                <a:lnTo>
                  <a:pt x="146" y="143"/>
                </a:lnTo>
                <a:lnTo>
                  <a:pt x="143" y="128"/>
                </a:lnTo>
                <a:lnTo>
                  <a:pt x="141" y="116"/>
                </a:lnTo>
                <a:lnTo>
                  <a:pt x="138" y="105"/>
                </a:lnTo>
                <a:lnTo>
                  <a:pt x="134" y="95"/>
                </a:lnTo>
                <a:lnTo>
                  <a:pt x="129" y="86"/>
                </a:lnTo>
                <a:lnTo>
                  <a:pt x="122" y="76"/>
                </a:lnTo>
                <a:lnTo>
                  <a:pt x="117" y="69"/>
                </a:lnTo>
                <a:lnTo>
                  <a:pt x="110" y="64"/>
                </a:lnTo>
                <a:lnTo>
                  <a:pt x="103" y="59"/>
                </a:lnTo>
                <a:lnTo>
                  <a:pt x="98" y="55"/>
                </a:lnTo>
                <a:lnTo>
                  <a:pt x="96" y="50"/>
                </a:lnTo>
                <a:lnTo>
                  <a:pt x="91" y="45"/>
                </a:lnTo>
                <a:lnTo>
                  <a:pt x="88" y="40"/>
                </a:lnTo>
                <a:lnTo>
                  <a:pt x="86" y="36"/>
                </a:lnTo>
                <a:lnTo>
                  <a:pt x="86" y="31"/>
                </a:lnTo>
                <a:lnTo>
                  <a:pt x="86" y="28"/>
                </a:lnTo>
                <a:lnTo>
                  <a:pt x="86" y="24"/>
                </a:lnTo>
                <a:lnTo>
                  <a:pt x="88" y="19"/>
                </a:lnTo>
                <a:lnTo>
                  <a:pt x="88" y="16"/>
                </a:lnTo>
                <a:lnTo>
                  <a:pt x="91" y="12"/>
                </a:lnTo>
                <a:lnTo>
                  <a:pt x="96" y="9"/>
                </a:lnTo>
                <a:lnTo>
                  <a:pt x="98" y="7"/>
                </a:lnTo>
                <a:lnTo>
                  <a:pt x="103" y="5"/>
                </a:lnTo>
                <a:lnTo>
                  <a:pt x="107" y="2"/>
                </a:lnTo>
                <a:lnTo>
                  <a:pt x="110" y="0"/>
                </a:lnTo>
                <a:lnTo>
                  <a:pt x="115" y="0"/>
                </a:lnTo>
                <a:lnTo>
                  <a:pt x="122" y="0"/>
                </a:lnTo>
                <a:lnTo>
                  <a:pt x="129" y="0"/>
                </a:lnTo>
                <a:lnTo>
                  <a:pt x="138" y="0"/>
                </a:lnTo>
                <a:lnTo>
                  <a:pt x="148" y="0"/>
                </a:lnTo>
                <a:lnTo>
                  <a:pt x="157" y="2"/>
                </a:lnTo>
                <a:lnTo>
                  <a:pt x="169" y="5"/>
                </a:lnTo>
                <a:lnTo>
                  <a:pt x="181" y="7"/>
                </a:lnTo>
                <a:lnTo>
                  <a:pt x="193" y="9"/>
                </a:lnTo>
                <a:lnTo>
                  <a:pt x="208" y="14"/>
                </a:lnTo>
                <a:lnTo>
                  <a:pt x="222" y="16"/>
                </a:lnTo>
                <a:lnTo>
                  <a:pt x="236" y="21"/>
                </a:lnTo>
                <a:lnTo>
                  <a:pt x="253" y="26"/>
                </a:lnTo>
                <a:lnTo>
                  <a:pt x="269" y="31"/>
                </a:lnTo>
                <a:lnTo>
                  <a:pt x="284" y="38"/>
                </a:lnTo>
                <a:lnTo>
                  <a:pt x="300" y="45"/>
                </a:lnTo>
                <a:lnTo>
                  <a:pt x="312" y="52"/>
                </a:lnTo>
                <a:lnTo>
                  <a:pt x="327" y="59"/>
                </a:lnTo>
                <a:lnTo>
                  <a:pt x="339" y="66"/>
                </a:lnTo>
                <a:lnTo>
                  <a:pt x="348" y="74"/>
                </a:lnTo>
                <a:lnTo>
                  <a:pt x="358" y="81"/>
                </a:lnTo>
                <a:lnTo>
                  <a:pt x="365" y="88"/>
                </a:lnTo>
                <a:lnTo>
                  <a:pt x="372" y="95"/>
                </a:lnTo>
                <a:lnTo>
                  <a:pt x="379" y="102"/>
                </a:lnTo>
                <a:lnTo>
                  <a:pt x="384" y="109"/>
                </a:lnTo>
                <a:lnTo>
                  <a:pt x="389" y="116"/>
                </a:lnTo>
                <a:lnTo>
                  <a:pt x="391" y="124"/>
                </a:lnTo>
                <a:lnTo>
                  <a:pt x="393" y="131"/>
                </a:lnTo>
                <a:lnTo>
                  <a:pt x="396" y="138"/>
                </a:lnTo>
                <a:lnTo>
                  <a:pt x="396" y="147"/>
                </a:lnTo>
                <a:lnTo>
                  <a:pt x="396" y="155"/>
                </a:lnTo>
                <a:lnTo>
                  <a:pt x="396" y="162"/>
                </a:lnTo>
                <a:lnTo>
                  <a:pt x="393" y="181"/>
                </a:lnTo>
                <a:lnTo>
                  <a:pt x="389" y="200"/>
                </a:lnTo>
                <a:lnTo>
                  <a:pt x="384" y="221"/>
                </a:lnTo>
                <a:lnTo>
                  <a:pt x="377" y="243"/>
                </a:lnTo>
                <a:lnTo>
                  <a:pt x="370" y="266"/>
                </a:lnTo>
                <a:lnTo>
                  <a:pt x="358" y="290"/>
                </a:lnTo>
                <a:lnTo>
                  <a:pt x="346" y="314"/>
                </a:lnTo>
                <a:lnTo>
                  <a:pt x="339" y="331"/>
                </a:lnTo>
                <a:lnTo>
                  <a:pt x="329" y="347"/>
                </a:lnTo>
                <a:lnTo>
                  <a:pt x="322" y="364"/>
                </a:lnTo>
                <a:lnTo>
                  <a:pt x="312" y="385"/>
                </a:lnTo>
                <a:lnTo>
                  <a:pt x="305" y="407"/>
                </a:lnTo>
                <a:lnTo>
                  <a:pt x="296" y="428"/>
                </a:lnTo>
                <a:lnTo>
                  <a:pt x="286" y="452"/>
                </a:lnTo>
                <a:lnTo>
                  <a:pt x="274" y="478"/>
                </a:lnTo>
                <a:lnTo>
                  <a:pt x="262" y="507"/>
                </a:lnTo>
                <a:lnTo>
                  <a:pt x="253" y="535"/>
                </a:lnTo>
                <a:lnTo>
                  <a:pt x="238" y="566"/>
                </a:lnTo>
                <a:lnTo>
                  <a:pt x="227" y="597"/>
                </a:lnTo>
                <a:lnTo>
                  <a:pt x="212" y="631"/>
                </a:lnTo>
                <a:lnTo>
                  <a:pt x="198" y="666"/>
                </a:lnTo>
                <a:lnTo>
                  <a:pt x="184" y="702"/>
                </a:lnTo>
                <a:lnTo>
                  <a:pt x="167" y="740"/>
                </a:lnTo>
                <a:lnTo>
                  <a:pt x="160" y="759"/>
                </a:lnTo>
                <a:lnTo>
                  <a:pt x="150" y="778"/>
                </a:lnTo>
                <a:lnTo>
                  <a:pt x="143" y="797"/>
                </a:lnTo>
                <a:lnTo>
                  <a:pt x="136" y="814"/>
                </a:lnTo>
                <a:lnTo>
                  <a:pt x="129" y="830"/>
                </a:lnTo>
                <a:lnTo>
                  <a:pt x="122" y="847"/>
                </a:lnTo>
                <a:lnTo>
                  <a:pt x="115" y="861"/>
                </a:lnTo>
                <a:lnTo>
                  <a:pt x="107" y="876"/>
                </a:lnTo>
                <a:lnTo>
                  <a:pt x="100" y="890"/>
                </a:lnTo>
                <a:lnTo>
                  <a:pt x="96" y="904"/>
                </a:lnTo>
                <a:lnTo>
                  <a:pt x="88" y="916"/>
                </a:lnTo>
                <a:lnTo>
                  <a:pt x="84" y="930"/>
                </a:lnTo>
                <a:lnTo>
                  <a:pt x="79" y="940"/>
                </a:lnTo>
                <a:lnTo>
                  <a:pt x="72" y="952"/>
                </a:lnTo>
                <a:lnTo>
                  <a:pt x="67" y="961"/>
                </a:lnTo>
                <a:lnTo>
                  <a:pt x="62" y="971"/>
                </a:lnTo>
                <a:lnTo>
                  <a:pt x="57" y="980"/>
                </a:lnTo>
                <a:lnTo>
                  <a:pt x="53" y="990"/>
                </a:lnTo>
                <a:lnTo>
                  <a:pt x="48" y="997"/>
                </a:lnTo>
                <a:lnTo>
                  <a:pt x="45" y="1004"/>
                </a:lnTo>
                <a:lnTo>
                  <a:pt x="41" y="1011"/>
                </a:lnTo>
                <a:lnTo>
                  <a:pt x="38" y="1016"/>
                </a:lnTo>
                <a:lnTo>
                  <a:pt x="34" y="1021"/>
                </a:lnTo>
                <a:lnTo>
                  <a:pt x="31" y="1026"/>
                </a:lnTo>
                <a:lnTo>
                  <a:pt x="29" y="1030"/>
                </a:lnTo>
                <a:lnTo>
                  <a:pt x="26" y="1033"/>
                </a:lnTo>
                <a:lnTo>
                  <a:pt x="24" y="1035"/>
                </a:lnTo>
                <a:lnTo>
                  <a:pt x="22" y="1038"/>
                </a:lnTo>
                <a:lnTo>
                  <a:pt x="19" y="1038"/>
                </a:lnTo>
                <a:lnTo>
                  <a:pt x="17" y="1040"/>
                </a:lnTo>
                <a:lnTo>
                  <a:pt x="15" y="1040"/>
                </a:lnTo>
                <a:lnTo>
                  <a:pt x="15" y="1038"/>
                </a:lnTo>
                <a:lnTo>
                  <a:pt x="10" y="1038"/>
                </a:lnTo>
                <a:lnTo>
                  <a:pt x="7" y="1033"/>
                </a:lnTo>
                <a:lnTo>
                  <a:pt x="5" y="1028"/>
                </a:lnTo>
                <a:lnTo>
                  <a:pt x="3" y="1021"/>
                </a:lnTo>
                <a:lnTo>
                  <a:pt x="0" y="1011"/>
                </a:lnTo>
                <a:lnTo>
                  <a:pt x="0" y="999"/>
                </a:lnTo>
                <a:lnTo>
                  <a:pt x="3" y="985"/>
                </a:lnTo>
                <a:lnTo>
                  <a:pt x="3" y="971"/>
                </a:lnTo>
                <a:lnTo>
                  <a:pt x="5" y="952"/>
                </a:lnTo>
                <a:lnTo>
                  <a:pt x="7" y="933"/>
                </a:lnTo>
                <a:lnTo>
                  <a:pt x="12" y="909"/>
                </a:lnTo>
                <a:lnTo>
                  <a:pt x="17" y="885"/>
                </a:lnTo>
                <a:lnTo>
                  <a:pt x="22" y="859"/>
                </a:lnTo>
                <a:lnTo>
                  <a:pt x="26" y="830"/>
                </a:lnTo>
                <a:lnTo>
                  <a:pt x="34" y="800"/>
                </a:lnTo>
                <a:lnTo>
                  <a:pt x="41" y="76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Freeform 37"/>
          <p:cNvSpPr/>
          <p:nvPr/>
        </p:nvSpPr>
        <p:spPr>
          <a:xfrm>
            <a:off x="5918040" y="2297160"/>
            <a:ext cx="227160" cy="571320"/>
          </a:xfrm>
          <a:custGeom>
            <a:avLst/>
            <a:gdLst/>
            <a:ahLst/>
            <a:rect l="l" t="t" r="r" b="b"/>
            <a:pathLst>
              <a:path w="358" h="900">
                <a:moveTo>
                  <a:pt x="179" y="395"/>
                </a:moveTo>
                <a:lnTo>
                  <a:pt x="172" y="359"/>
                </a:lnTo>
                <a:lnTo>
                  <a:pt x="165" y="326"/>
                </a:lnTo>
                <a:lnTo>
                  <a:pt x="155" y="295"/>
                </a:lnTo>
                <a:lnTo>
                  <a:pt x="148" y="264"/>
                </a:lnTo>
                <a:lnTo>
                  <a:pt x="141" y="238"/>
                </a:lnTo>
                <a:lnTo>
                  <a:pt x="131" y="212"/>
                </a:lnTo>
                <a:lnTo>
                  <a:pt x="124" y="188"/>
                </a:lnTo>
                <a:lnTo>
                  <a:pt x="115" y="167"/>
                </a:lnTo>
                <a:lnTo>
                  <a:pt x="107" y="148"/>
                </a:lnTo>
                <a:lnTo>
                  <a:pt x="98" y="129"/>
                </a:lnTo>
                <a:lnTo>
                  <a:pt x="91" y="114"/>
                </a:lnTo>
                <a:lnTo>
                  <a:pt x="81" y="102"/>
                </a:lnTo>
                <a:lnTo>
                  <a:pt x="74" y="90"/>
                </a:lnTo>
                <a:lnTo>
                  <a:pt x="67" y="83"/>
                </a:lnTo>
                <a:lnTo>
                  <a:pt x="60" y="76"/>
                </a:lnTo>
                <a:lnTo>
                  <a:pt x="55" y="74"/>
                </a:lnTo>
                <a:lnTo>
                  <a:pt x="53" y="74"/>
                </a:lnTo>
                <a:lnTo>
                  <a:pt x="43" y="69"/>
                </a:lnTo>
                <a:lnTo>
                  <a:pt x="34" y="67"/>
                </a:lnTo>
                <a:lnTo>
                  <a:pt x="26" y="64"/>
                </a:lnTo>
                <a:lnTo>
                  <a:pt x="22" y="62"/>
                </a:lnTo>
                <a:lnTo>
                  <a:pt x="15" y="60"/>
                </a:lnTo>
                <a:lnTo>
                  <a:pt x="10" y="57"/>
                </a:lnTo>
                <a:lnTo>
                  <a:pt x="7" y="55"/>
                </a:lnTo>
                <a:lnTo>
                  <a:pt x="5" y="52"/>
                </a:lnTo>
                <a:lnTo>
                  <a:pt x="3" y="48"/>
                </a:lnTo>
                <a:lnTo>
                  <a:pt x="0" y="45"/>
                </a:lnTo>
                <a:lnTo>
                  <a:pt x="0" y="43"/>
                </a:lnTo>
                <a:lnTo>
                  <a:pt x="3" y="38"/>
                </a:lnTo>
                <a:lnTo>
                  <a:pt x="3" y="33"/>
                </a:lnTo>
                <a:lnTo>
                  <a:pt x="5" y="31"/>
                </a:lnTo>
                <a:lnTo>
                  <a:pt x="10" y="26"/>
                </a:lnTo>
                <a:lnTo>
                  <a:pt x="15" y="21"/>
                </a:lnTo>
                <a:lnTo>
                  <a:pt x="17" y="17"/>
                </a:lnTo>
                <a:lnTo>
                  <a:pt x="19" y="12"/>
                </a:lnTo>
                <a:lnTo>
                  <a:pt x="24" y="10"/>
                </a:lnTo>
                <a:lnTo>
                  <a:pt x="29" y="7"/>
                </a:lnTo>
                <a:lnTo>
                  <a:pt x="36" y="5"/>
                </a:lnTo>
                <a:lnTo>
                  <a:pt x="43" y="2"/>
                </a:lnTo>
                <a:lnTo>
                  <a:pt x="53" y="0"/>
                </a:lnTo>
                <a:lnTo>
                  <a:pt x="62" y="0"/>
                </a:lnTo>
                <a:lnTo>
                  <a:pt x="72" y="0"/>
                </a:lnTo>
                <a:lnTo>
                  <a:pt x="81" y="0"/>
                </a:lnTo>
                <a:lnTo>
                  <a:pt x="93" y="0"/>
                </a:lnTo>
                <a:lnTo>
                  <a:pt x="107" y="0"/>
                </a:lnTo>
                <a:lnTo>
                  <a:pt x="119" y="2"/>
                </a:lnTo>
                <a:lnTo>
                  <a:pt x="134" y="5"/>
                </a:lnTo>
                <a:lnTo>
                  <a:pt x="150" y="5"/>
                </a:lnTo>
                <a:lnTo>
                  <a:pt x="167" y="7"/>
                </a:lnTo>
                <a:lnTo>
                  <a:pt x="179" y="10"/>
                </a:lnTo>
                <a:lnTo>
                  <a:pt x="193" y="14"/>
                </a:lnTo>
                <a:lnTo>
                  <a:pt x="205" y="17"/>
                </a:lnTo>
                <a:lnTo>
                  <a:pt x="219" y="19"/>
                </a:lnTo>
                <a:lnTo>
                  <a:pt x="229" y="24"/>
                </a:lnTo>
                <a:lnTo>
                  <a:pt x="241" y="26"/>
                </a:lnTo>
                <a:lnTo>
                  <a:pt x="253" y="31"/>
                </a:lnTo>
                <a:lnTo>
                  <a:pt x="262" y="33"/>
                </a:lnTo>
                <a:lnTo>
                  <a:pt x="272" y="38"/>
                </a:lnTo>
                <a:lnTo>
                  <a:pt x="279" y="41"/>
                </a:lnTo>
                <a:lnTo>
                  <a:pt x="289" y="45"/>
                </a:lnTo>
                <a:lnTo>
                  <a:pt x="296" y="48"/>
                </a:lnTo>
                <a:lnTo>
                  <a:pt x="303" y="52"/>
                </a:lnTo>
                <a:lnTo>
                  <a:pt x="308" y="55"/>
                </a:lnTo>
                <a:lnTo>
                  <a:pt x="315" y="57"/>
                </a:lnTo>
                <a:lnTo>
                  <a:pt x="320" y="60"/>
                </a:lnTo>
                <a:lnTo>
                  <a:pt x="324" y="67"/>
                </a:lnTo>
                <a:lnTo>
                  <a:pt x="327" y="74"/>
                </a:lnTo>
                <a:lnTo>
                  <a:pt x="331" y="83"/>
                </a:lnTo>
                <a:lnTo>
                  <a:pt x="336" y="93"/>
                </a:lnTo>
                <a:lnTo>
                  <a:pt x="339" y="107"/>
                </a:lnTo>
                <a:lnTo>
                  <a:pt x="341" y="121"/>
                </a:lnTo>
                <a:lnTo>
                  <a:pt x="346" y="138"/>
                </a:lnTo>
                <a:lnTo>
                  <a:pt x="348" y="157"/>
                </a:lnTo>
                <a:lnTo>
                  <a:pt x="350" y="176"/>
                </a:lnTo>
                <a:lnTo>
                  <a:pt x="350" y="200"/>
                </a:lnTo>
                <a:lnTo>
                  <a:pt x="353" y="224"/>
                </a:lnTo>
                <a:lnTo>
                  <a:pt x="355" y="250"/>
                </a:lnTo>
                <a:lnTo>
                  <a:pt x="355" y="276"/>
                </a:lnTo>
                <a:lnTo>
                  <a:pt x="355" y="305"/>
                </a:lnTo>
                <a:lnTo>
                  <a:pt x="358" y="338"/>
                </a:lnTo>
                <a:lnTo>
                  <a:pt x="358" y="369"/>
                </a:lnTo>
                <a:lnTo>
                  <a:pt x="358" y="405"/>
                </a:lnTo>
                <a:lnTo>
                  <a:pt x="358" y="440"/>
                </a:lnTo>
                <a:lnTo>
                  <a:pt x="358" y="471"/>
                </a:lnTo>
                <a:lnTo>
                  <a:pt x="358" y="502"/>
                </a:lnTo>
                <a:lnTo>
                  <a:pt x="358" y="533"/>
                </a:lnTo>
                <a:lnTo>
                  <a:pt x="358" y="562"/>
                </a:lnTo>
                <a:lnTo>
                  <a:pt x="358" y="588"/>
                </a:lnTo>
                <a:lnTo>
                  <a:pt x="358" y="612"/>
                </a:lnTo>
                <a:lnTo>
                  <a:pt x="358" y="636"/>
                </a:lnTo>
                <a:lnTo>
                  <a:pt x="358" y="657"/>
                </a:lnTo>
                <a:lnTo>
                  <a:pt x="358" y="678"/>
                </a:lnTo>
                <a:lnTo>
                  <a:pt x="358" y="697"/>
                </a:lnTo>
                <a:lnTo>
                  <a:pt x="358" y="714"/>
                </a:lnTo>
                <a:lnTo>
                  <a:pt x="358" y="731"/>
                </a:lnTo>
                <a:lnTo>
                  <a:pt x="358" y="745"/>
                </a:lnTo>
                <a:lnTo>
                  <a:pt x="358" y="757"/>
                </a:lnTo>
                <a:lnTo>
                  <a:pt x="358" y="769"/>
                </a:lnTo>
                <a:lnTo>
                  <a:pt x="358" y="781"/>
                </a:lnTo>
                <a:lnTo>
                  <a:pt x="358" y="790"/>
                </a:lnTo>
                <a:lnTo>
                  <a:pt x="358" y="802"/>
                </a:lnTo>
                <a:lnTo>
                  <a:pt x="355" y="812"/>
                </a:lnTo>
                <a:lnTo>
                  <a:pt x="355" y="819"/>
                </a:lnTo>
                <a:lnTo>
                  <a:pt x="355" y="828"/>
                </a:lnTo>
                <a:lnTo>
                  <a:pt x="355" y="835"/>
                </a:lnTo>
                <a:lnTo>
                  <a:pt x="355" y="843"/>
                </a:lnTo>
                <a:lnTo>
                  <a:pt x="353" y="847"/>
                </a:lnTo>
                <a:lnTo>
                  <a:pt x="353" y="854"/>
                </a:lnTo>
                <a:lnTo>
                  <a:pt x="350" y="859"/>
                </a:lnTo>
                <a:lnTo>
                  <a:pt x="350" y="864"/>
                </a:lnTo>
                <a:lnTo>
                  <a:pt x="348" y="869"/>
                </a:lnTo>
                <a:lnTo>
                  <a:pt x="346" y="871"/>
                </a:lnTo>
                <a:lnTo>
                  <a:pt x="343" y="874"/>
                </a:lnTo>
                <a:lnTo>
                  <a:pt x="341" y="878"/>
                </a:lnTo>
                <a:lnTo>
                  <a:pt x="336" y="883"/>
                </a:lnTo>
                <a:lnTo>
                  <a:pt x="334" y="888"/>
                </a:lnTo>
                <a:lnTo>
                  <a:pt x="331" y="893"/>
                </a:lnTo>
                <a:lnTo>
                  <a:pt x="329" y="895"/>
                </a:lnTo>
                <a:lnTo>
                  <a:pt x="327" y="897"/>
                </a:lnTo>
                <a:lnTo>
                  <a:pt x="322" y="900"/>
                </a:lnTo>
                <a:lnTo>
                  <a:pt x="320" y="900"/>
                </a:lnTo>
                <a:lnTo>
                  <a:pt x="317" y="900"/>
                </a:lnTo>
                <a:lnTo>
                  <a:pt x="312" y="897"/>
                </a:lnTo>
                <a:lnTo>
                  <a:pt x="310" y="895"/>
                </a:lnTo>
                <a:lnTo>
                  <a:pt x="308" y="893"/>
                </a:lnTo>
                <a:lnTo>
                  <a:pt x="303" y="888"/>
                </a:lnTo>
                <a:lnTo>
                  <a:pt x="300" y="883"/>
                </a:lnTo>
                <a:lnTo>
                  <a:pt x="296" y="878"/>
                </a:lnTo>
                <a:lnTo>
                  <a:pt x="293" y="871"/>
                </a:lnTo>
                <a:lnTo>
                  <a:pt x="289" y="866"/>
                </a:lnTo>
                <a:lnTo>
                  <a:pt x="286" y="857"/>
                </a:lnTo>
                <a:lnTo>
                  <a:pt x="281" y="850"/>
                </a:lnTo>
                <a:lnTo>
                  <a:pt x="279" y="840"/>
                </a:lnTo>
                <a:lnTo>
                  <a:pt x="277" y="831"/>
                </a:lnTo>
                <a:lnTo>
                  <a:pt x="272" y="819"/>
                </a:lnTo>
                <a:lnTo>
                  <a:pt x="269" y="807"/>
                </a:lnTo>
                <a:lnTo>
                  <a:pt x="267" y="797"/>
                </a:lnTo>
                <a:lnTo>
                  <a:pt x="265" y="783"/>
                </a:lnTo>
                <a:lnTo>
                  <a:pt x="262" y="769"/>
                </a:lnTo>
                <a:lnTo>
                  <a:pt x="258" y="752"/>
                </a:lnTo>
                <a:lnTo>
                  <a:pt x="253" y="733"/>
                </a:lnTo>
                <a:lnTo>
                  <a:pt x="248" y="714"/>
                </a:lnTo>
                <a:lnTo>
                  <a:pt x="243" y="693"/>
                </a:lnTo>
                <a:lnTo>
                  <a:pt x="238" y="669"/>
                </a:lnTo>
                <a:lnTo>
                  <a:pt x="234" y="645"/>
                </a:lnTo>
                <a:lnTo>
                  <a:pt x="227" y="619"/>
                </a:lnTo>
                <a:lnTo>
                  <a:pt x="219" y="590"/>
                </a:lnTo>
                <a:lnTo>
                  <a:pt x="212" y="562"/>
                </a:lnTo>
                <a:lnTo>
                  <a:pt x="208" y="531"/>
                </a:lnTo>
                <a:lnTo>
                  <a:pt x="200" y="500"/>
                </a:lnTo>
                <a:lnTo>
                  <a:pt x="193" y="467"/>
                </a:lnTo>
                <a:lnTo>
                  <a:pt x="186" y="431"/>
                </a:lnTo>
                <a:lnTo>
                  <a:pt x="179" y="39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6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1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6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1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6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1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6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41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46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1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6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67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2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阴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TextBox 2"/>
          <p:cNvSpPr/>
          <p:nvPr/>
        </p:nvSpPr>
        <p:spPr>
          <a:xfrm>
            <a:off x="1384200" y="2027160"/>
            <a:ext cx="95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yī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7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928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9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0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1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2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3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4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5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6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7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38" name="TextBox 14"/>
          <p:cNvSpPr/>
          <p:nvPr/>
        </p:nvSpPr>
        <p:spPr>
          <a:xfrm>
            <a:off x="4619520" y="4857840"/>
            <a:ext cx="42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双耳在月字的左边，不要写在右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TextBox 15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TextBox 16"/>
          <p:cNvSpPr/>
          <p:nvPr/>
        </p:nvSpPr>
        <p:spPr>
          <a:xfrm>
            <a:off x="8985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阴山  阴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TextBox 17"/>
          <p:cNvSpPr/>
          <p:nvPr/>
        </p:nvSpPr>
        <p:spPr>
          <a:xfrm>
            <a:off x="857160" y="4943520"/>
            <a:ext cx="364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阴山是我国北部的一座主要山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  <a:ea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Rectangle 27"/>
          <p:cNvSpPr/>
          <p:nvPr/>
        </p:nvSpPr>
        <p:spPr>
          <a:xfrm>
            <a:off x="3254040" y="221760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Freeform 42"/>
          <p:cNvSpPr/>
          <p:nvPr/>
        </p:nvSpPr>
        <p:spPr>
          <a:xfrm>
            <a:off x="5730840" y="2305080"/>
            <a:ext cx="517680" cy="942840"/>
          </a:xfrm>
          <a:custGeom>
            <a:avLst/>
            <a:gdLst/>
            <a:ahLst/>
            <a:rect l="l" t="t" r="r" b="b"/>
            <a:pathLst>
              <a:path w="815" h="1483">
                <a:moveTo>
                  <a:pt x="460" y="1402"/>
                </a:moveTo>
                <a:lnTo>
                  <a:pt x="456" y="1390"/>
                </a:lnTo>
                <a:lnTo>
                  <a:pt x="453" y="1381"/>
                </a:lnTo>
                <a:lnTo>
                  <a:pt x="448" y="1371"/>
                </a:lnTo>
                <a:lnTo>
                  <a:pt x="444" y="1362"/>
                </a:lnTo>
                <a:lnTo>
                  <a:pt x="439" y="1350"/>
                </a:lnTo>
                <a:lnTo>
                  <a:pt x="434" y="1340"/>
                </a:lnTo>
                <a:lnTo>
                  <a:pt x="427" y="1331"/>
                </a:lnTo>
                <a:lnTo>
                  <a:pt x="420" y="1321"/>
                </a:lnTo>
                <a:lnTo>
                  <a:pt x="410" y="1312"/>
                </a:lnTo>
                <a:lnTo>
                  <a:pt x="403" y="1302"/>
                </a:lnTo>
                <a:lnTo>
                  <a:pt x="394" y="1293"/>
                </a:lnTo>
                <a:lnTo>
                  <a:pt x="384" y="1283"/>
                </a:lnTo>
                <a:lnTo>
                  <a:pt x="372" y="1276"/>
                </a:lnTo>
                <a:lnTo>
                  <a:pt x="363" y="1267"/>
                </a:lnTo>
                <a:lnTo>
                  <a:pt x="351" y="1259"/>
                </a:lnTo>
                <a:lnTo>
                  <a:pt x="339" y="1250"/>
                </a:lnTo>
                <a:lnTo>
                  <a:pt x="322" y="1243"/>
                </a:lnTo>
                <a:lnTo>
                  <a:pt x="310" y="1236"/>
                </a:lnTo>
                <a:lnTo>
                  <a:pt x="296" y="1228"/>
                </a:lnTo>
                <a:lnTo>
                  <a:pt x="284" y="1219"/>
                </a:lnTo>
                <a:lnTo>
                  <a:pt x="275" y="1212"/>
                </a:lnTo>
                <a:lnTo>
                  <a:pt x="265" y="1205"/>
                </a:lnTo>
                <a:lnTo>
                  <a:pt x="255" y="1198"/>
                </a:lnTo>
                <a:lnTo>
                  <a:pt x="248" y="1193"/>
                </a:lnTo>
                <a:lnTo>
                  <a:pt x="241" y="1186"/>
                </a:lnTo>
                <a:lnTo>
                  <a:pt x="236" y="1181"/>
                </a:lnTo>
                <a:lnTo>
                  <a:pt x="232" y="1174"/>
                </a:lnTo>
                <a:lnTo>
                  <a:pt x="229" y="1169"/>
                </a:lnTo>
                <a:lnTo>
                  <a:pt x="227" y="1164"/>
                </a:lnTo>
                <a:lnTo>
                  <a:pt x="227" y="1162"/>
                </a:lnTo>
                <a:lnTo>
                  <a:pt x="227" y="1157"/>
                </a:lnTo>
                <a:lnTo>
                  <a:pt x="229" y="1155"/>
                </a:lnTo>
                <a:lnTo>
                  <a:pt x="236" y="1150"/>
                </a:lnTo>
                <a:lnTo>
                  <a:pt x="244" y="1148"/>
                </a:lnTo>
                <a:lnTo>
                  <a:pt x="251" y="1145"/>
                </a:lnTo>
                <a:lnTo>
                  <a:pt x="258" y="1145"/>
                </a:lnTo>
                <a:lnTo>
                  <a:pt x="263" y="1143"/>
                </a:lnTo>
                <a:lnTo>
                  <a:pt x="270" y="1145"/>
                </a:lnTo>
                <a:lnTo>
                  <a:pt x="277" y="1145"/>
                </a:lnTo>
                <a:lnTo>
                  <a:pt x="286" y="1145"/>
                </a:lnTo>
                <a:lnTo>
                  <a:pt x="294" y="1148"/>
                </a:lnTo>
                <a:lnTo>
                  <a:pt x="303" y="1148"/>
                </a:lnTo>
                <a:lnTo>
                  <a:pt x="315" y="1150"/>
                </a:lnTo>
                <a:lnTo>
                  <a:pt x="325" y="1152"/>
                </a:lnTo>
                <a:lnTo>
                  <a:pt x="339" y="1155"/>
                </a:lnTo>
                <a:lnTo>
                  <a:pt x="351" y="1157"/>
                </a:lnTo>
                <a:lnTo>
                  <a:pt x="363" y="1159"/>
                </a:lnTo>
                <a:lnTo>
                  <a:pt x="384" y="1164"/>
                </a:lnTo>
                <a:lnTo>
                  <a:pt x="403" y="1169"/>
                </a:lnTo>
                <a:lnTo>
                  <a:pt x="420" y="1171"/>
                </a:lnTo>
                <a:lnTo>
                  <a:pt x="437" y="1174"/>
                </a:lnTo>
                <a:lnTo>
                  <a:pt x="451" y="1174"/>
                </a:lnTo>
                <a:lnTo>
                  <a:pt x="463" y="1171"/>
                </a:lnTo>
                <a:lnTo>
                  <a:pt x="468" y="1171"/>
                </a:lnTo>
                <a:lnTo>
                  <a:pt x="472" y="1169"/>
                </a:lnTo>
                <a:lnTo>
                  <a:pt x="475" y="1164"/>
                </a:lnTo>
                <a:lnTo>
                  <a:pt x="477" y="1162"/>
                </a:lnTo>
                <a:lnTo>
                  <a:pt x="479" y="1157"/>
                </a:lnTo>
                <a:lnTo>
                  <a:pt x="482" y="1152"/>
                </a:lnTo>
                <a:lnTo>
                  <a:pt x="484" y="1148"/>
                </a:lnTo>
                <a:lnTo>
                  <a:pt x="487" y="1140"/>
                </a:lnTo>
                <a:lnTo>
                  <a:pt x="489" y="1133"/>
                </a:lnTo>
                <a:lnTo>
                  <a:pt x="489" y="1126"/>
                </a:lnTo>
                <a:lnTo>
                  <a:pt x="491" y="1119"/>
                </a:lnTo>
                <a:lnTo>
                  <a:pt x="491" y="1109"/>
                </a:lnTo>
                <a:lnTo>
                  <a:pt x="491" y="1100"/>
                </a:lnTo>
                <a:lnTo>
                  <a:pt x="491" y="1090"/>
                </a:lnTo>
                <a:lnTo>
                  <a:pt x="491" y="1081"/>
                </a:lnTo>
                <a:lnTo>
                  <a:pt x="491" y="1069"/>
                </a:lnTo>
                <a:lnTo>
                  <a:pt x="489" y="1057"/>
                </a:lnTo>
                <a:lnTo>
                  <a:pt x="487" y="1045"/>
                </a:lnTo>
                <a:lnTo>
                  <a:pt x="482" y="1019"/>
                </a:lnTo>
                <a:lnTo>
                  <a:pt x="477" y="993"/>
                </a:lnTo>
                <a:lnTo>
                  <a:pt x="470" y="967"/>
                </a:lnTo>
                <a:lnTo>
                  <a:pt x="463" y="940"/>
                </a:lnTo>
                <a:lnTo>
                  <a:pt x="456" y="912"/>
                </a:lnTo>
                <a:lnTo>
                  <a:pt x="444" y="883"/>
                </a:lnTo>
                <a:lnTo>
                  <a:pt x="432" y="855"/>
                </a:lnTo>
                <a:lnTo>
                  <a:pt x="420" y="824"/>
                </a:lnTo>
                <a:lnTo>
                  <a:pt x="406" y="800"/>
                </a:lnTo>
                <a:lnTo>
                  <a:pt x="391" y="776"/>
                </a:lnTo>
                <a:lnTo>
                  <a:pt x="379" y="755"/>
                </a:lnTo>
                <a:lnTo>
                  <a:pt x="370" y="733"/>
                </a:lnTo>
                <a:lnTo>
                  <a:pt x="363" y="714"/>
                </a:lnTo>
                <a:lnTo>
                  <a:pt x="356" y="700"/>
                </a:lnTo>
                <a:lnTo>
                  <a:pt x="353" y="693"/>
                </a:lnTo>
                <a:lnTo>
                  <a:pt x="353" y="686"/>
                </a:lnTo>
                <a:lnTo>
                  <a:pt x="351" y="679"/>
                </a:lnTo>
                <a:lnTo>
                  <a:pt x="351" y="674"/>
                </a:lnTo>
                <a:lnTo>
                  <a:pt x="351" y="669"/>
                </a:lnTo>
                <a:lnTo>
                  <a:pt x="353" y="664"/>
                </a:lnTo>
                <a:lnTo>
                  <a:pt x="353" y="660"/>
                </a:lnTo>
                <a:lnTo>
                  <a:pt x="356" y="650"/>
                </a:lnTo>
                <a:lnTo>
                  <a:pt x="360" y="641"/>
                </a:lnTo>
                <a:lnTo>
                  <a:pt x="363" y="631"/>
                </a:lnTo>
                <a:lnTo>
                  <a:pt x="367" y="619"/>
                </a:lnTo>
                <a:lnTo>
                  <a:pt x="372" y="605"/>
                </a:lnTo>
                <a:lnTo>
                  <a:pt x="377" y="591"/>
                </a:lnTo>
                <a:lnTo>
                  <a:pt x="384" y="574"/>
                </a:lnTo>
                <a:lnTo>
                  <a:pt x="389" y="557"/>
                </a:lnTo>
                <a:lnTo>
                  <a:pt x="398" y="538"/>
                </a:lnTo>
                <a:lnTo>
                  <a:pt x="406" y="519"/>
                </a:lnTo>
                <a:lnTo>
                  <a:pt x="413" y="498"/>
                </a:lnTo>
                <a:lnTo>
                  <a:pt x="422" y="476"/>
                </a:lnTo>
                <a:lnTo>
                  <a:pt x="432" y="455"/>
                </a:lnTo>
                <a:lnTo>
                  <a:pt x="439" y="431"/>
                </a:lnTo>
                <a:lnTo>
                  <a:pt x="446" y="410"/>
                </a:lnTo>
                <a:lnTo>
                  <a:pt x="453" y="391"/>
                </a:lnTo>
                <a:lnTo>
                  <a:pt x="460" y="372"/>
                </a:lnTo>
                <a:lnTo>
                  <a:pt x="465" y="355"/>
                </a:lnTo>
                <a:lnTo>
                  <a:pt x="470" y="338"/>
                </a:lnTo>
                <a:lnTo>
                  <a:pt x="475" y="324"/>
                </a:lnTo>
                <a:lnTo>
                  <a:pt x="479" y="310"/>
                </a:lnTo>
                <a:lnTo>
                  <a:pt x="484" y="298"/>
                </a:lnTo>
                <a:lnTo>
                  <a:pt x="487" y="286"/>
                </a:lnTo>
                <a:lnTo>
                  <a:pt x="489" y="276"/>
                </a:lnTo>
                <a:lnTo>
                  <a:pt x="489" y="269"/>
                </a:lnTo>
                <a:lnTo>
                  <a:pt x="489" y="262"/>
                </a:lnTo>
                <a:lnTo>
                  <a:pt x="489" y="255"/>
                </a:lnTo>
                <a:lnTo>
                  <a:pt x="489" y="250"/>
                </a:lnTo>
                <a:lnTo>
                  <a:pt x="487" y="248"/>
                </a:lnTo>
                <a:lnTo>
                  <a:pt x="484" y="246"/>
                </a:lnTo>
                <a:lnTo>
                  <a:pt x="479" y="243"/>
                </a:lnTo>
                <a:lnTo>
                  <a:pt x="475" y="243"/>
                </a:lnTo>
                <a:lnTo>
                  <a:pt x="470" y="243"/>
                </a:lnTo>
                <a:lnTo>
                  <a:pt x="463" y="243"/>
                </a:lnTo>
                <a:lnTo>
                  <a:pt x="453" y="243"/>
                </a:lnTo>
                <a:lnTo>
                  <a:pt x="446" y="243"/>
                </a:lnTo>
                <a:lnTo>
                  <a:pt x="437" y="243"/>
                </a:lnTo>
                <a:lnTo>
                  <a:pt x="425" y="246"/>
                </a:lnTo>
                <a:lnTo>
                  <a:pt x="413" y="248"/>
                </a:lnTo>
                <a:lnTo>
                  <a:pt x="401" y="250"/>
                </a:lnTo>
                <a:lnTo>
                  <a:pt x="389" y="253"/>
                </a:lnTo>
                <a:lnTo>
                  <a:pt x="372" y="255"/>
                </a:lnTo>
                <a:lnTo>
                  <a:pt x="358" y="257"/>
                </a:lnTo>
                <a:lnTo>
                  <a:pt x="341" y="260"/>
                </a:lnTo>
                <a:lnTo>
                  <a:pt x="325" y="262"/>
                </a:lnTo>
                <a:lnTo>
                  <a:pt x="289" y="272"/>
                </a:lnTo>
                <a:lnTo>
                  <a:pt x="251" y="279"/>
                </a:lnTo>
                <a:lnTo>
                  <a:pt x="213" y="286"/>
                </a:lnTo>
                <a:lnTo>
                  <a:pt x="172" y="293"/>
                </a:lnTo>
                <a:lnTo>
                  <a:pt x="132" y="298"/>
                </a:lnTo>
                <a:lnTo>
                  <a:pt x="89" y="300"/>
                </a:lnTo>
                <a:lnTo>
                  <a:pt x="43" y="303"/>
                </a:lnTo>
                <a:lnTo>
                  <a:pt x="0" y="303"/>
                </a:lnTo>
                <a:lnTo>
                  <a:pt x="0" y="193"/>
                </a:lnTo>
                <a:lnTo>
                  <a:pt x="31" y="193"/>
                </a:lnTo>
                <a:lnTo>
                  <a:pt x="62" y="193"/>
                </a:lnTo>
                <a:lnTo>
                  <a:pt x="93" y="191"/>
                </a:lnTo>
                <a:lnTo>
                  <a:pt x="122" y="191"/>
                </a:lnTo>
                <a:lnTo>
                  <a:pt x="148" y="188"/>
                </a:lnTo>
                <a:lnTo>
                  <a:pt x="174" y="186"/>
                </a:lnTo>
                <a:lnTo>
                  <a:pt x="201" y="184"/>
                </a:lnTo>
                <a:lnTo>
                  <a:pt x="224" y="181"/>
                </a:lnTo>
                <a:lnTo>
                  <a:pt x="248" y="176"/>
                </a:lnTo>
                <a:lnTo>
                  <a:pt x="270" y="174"/>
                </a:lnTo>
                <a:lnTo>
                  <a:pt x="291" y="169"/>
                </a:lnTo>
                <a:lnTo>
                  <a:pt x="310" y="165"/>
                </a:lnTo>
                <a:lnTo>
                  <a:pt x="329" y="157"/>
                </a:lnTo>
                <a:lnTo>
                  <a:pt x="346" y="153"/>
                </a:lnTo>
                <a:lnTo>
                  <a:pt x="363" y="146"/>
                </a:lnTo>
                <a:lnTo>
                  <a:pt x="379" y="138"/>
                </a:lnTo>
                <a:lnTo>
                  <a:pt x="394" y="131"/>
                </a:lnTo>
                <a:lnTo>
                  <a:pt x="408" y="122"/>
                </a:lnTo>
                <a:lnTo>
                  <a:pt x="422" y="115"/>
                </a:lnTo>
                <a:lnTo>
                  <a:pt x="434" y="110"/>
                </a:lnTo>
                <a:lnTo>
                  <a:pt x="446" y="103"/>
                </a:lnTo>
                <a:lnTo>
                  <a:pt x="458" y="96"/>
                </a:lnTo>
                <a:lnTo>
                  <a:pt x="468" y="91"/>
                </a:lnTo>
                <a:lnTo>
                  <a:pt x="477" y="84"/>
                </a:lnTo>
                <a:lnTo>
                  <a:pt x="487" y="79"/>
                </a:lnTo>
                <a:lnTo>
                  <a:pt x="496" y="74"/>
                </a:lnTo>
                <a:lnTo>
                  <a:pt x="503" y="67"/>
                </a:lnTo>
                <a:lnTo>
                  <a:pt x="510" y="62"/>
                </a:lnTo>
                <a:lnTo>
                  <a:pt x="515" y="57"/>
                </a:lnTo>
                <a:lnTo>
                  <a:pt x="520" y="53"/>
                </a:lnTo>
                <a:lnTo>
                  <a:pt x="525" y="48"/>
                </a:lnTo>
                <a:lnTo>
                  <a:pt x="527" y="41"/>
                </a:lnTo>
                <a:lnTo>
                  <a:pt x="532" y="31"/>
                </a:lnTo>
                <a:lnTo>
                  <a:pt x="537" y="24"/>
                </a:lnTo>
                <a:lnTo>
                  <a:pt x="544" y="17"/>
                </a:lnTo>
                <a:lnTo>
                  <a:pt x="551" y="10"/>
                </a:lnTo>
                <a:lnTo>
                  <a:pt x="558" y="5"/>
                </a:lnTo>
                <a:lnTo>
                  <a:pt x="570" y="3"/>
                </a:lnTo>
                <a:lnTo>
                  <a:pt x="582" y="0"/>
                </a:lnTo>
                <a:lnTo>
                  <a:pt x="587" y="0"/>
                </a:lnTo>
                <a:lnTo>
                  <a:pt x="596" y="0"/>
                </a:lnTo>
                <a:lnTo>
                  <a:pt x="610" y="5"/>
                </a:lnTo>
                <a:lnTo>
                  <a:pt x="625" y="12"/>
                </a:lnTo>
                <a:lnTo>
                  <a:pt x="641" y="22"/>
                </a:lnTo>
                <a:lnTo>
                  <a:pt x="661" y="31"/>
                </a:lnTo>
                <a:lnTo>
                  <a:pt x="677" y="43"/>
                </a:lnTo>
                <a:lnTo>
                  <a:pt x="699" y="55"/>
                </a:lnTo>
                <a:lnTo>
                  <a:pt x="720" y="67"/>
                </a:lnTo>
                <a:lnTo>
                  <a:pt x="732" y="74"/>
                </a:lnTo>
                <a:lnTo>
                  <a:pt x="744" y="84"/>
                </a:lnTo>
                <a:lnTo>
                  <a:pt x="753" y="93"/>
                </a:lnTo>
                <a:lnTo>
                  <a:pt x="763" y="103"/>
                </a:lnTo>
                <a:lnTo>
                  <a:pt x="770" y="112"/>
                </a:lnTo>
                <a:lnTo>
                  <a:pt x="780" y="122"/>
                </a:lnTo>
                <a:lnTo>
                  <a:pt x="787" y="131"/>
                </a:lnTo>
                <a:lnTo>
                  <a:pt x="792" y="138"/>
                </a:lnTo>
                <a:lnTo>
                  <a:pt x="799" y="146"/>
                </a:lnTo>
                <a:lnTo>
                  <a:pt x="803" y="153"/>
                </a:lnTo>
                <a:lnTo>
                  <a:pt x="806" y="160"/>
                </a:lnTo>
                <a:lnTo>
                  <a:pt x="811" y="167"/>
                </a:lnTo>
                <a:lnTo>
                  <a:pt x="813" y="172"/>
                </a:lnTo>
                <a:lnTo>
                  <a:pt x="813" y="176"/>
                </a:lnTo>
                <a:lnTo>
                  <a:pt x="815" y="181"/>
                </a:lnTo>
                <a:lnTo>
                  <a:pt x="815" y="186"/>
                </a:lnTo>
                <a:lnTo>
                  <a:pt x="813" y="191"/>
                </a:lnTo>
                <a:lnTo>
                  <a:pt x="811" y="193"/>
                </a:lnTo>
                <a:lnTo>
                  <a:pt x="801" y="212"/>
                </a:lnTo>
                <a:lnTo>
                  <a:pt x="796" y="224"/>
                </a:lnTo>
                <a:lnTo>
                  <a:pt x="789" y="231"/>
                </a:lnTo>
                <a:lnTo>
                  <a:pt x="782" y="241"/>
                </a:lnTo>
                <a:lnTo>
                  <a:pt x="775" y="248"/>
                </a:lnTo>
                <a:lnTo>
                  <a:pt x="768" y="255"/>
                </a:lnTo>
                <a:lnTo>
                  <a:pt x="758" y="262"/>
                </a:lnTo>
                <a:lnTo>
                  <a:pt x="749" y="265"/>
                </a:lnTo>
                <a:lnTo>
                  <a:pt x="742" y="269"/>
                </a:lnTo>
                <a:lnTo>
                  <a:pt x="732" y="276"/>
                </a:lnTo>
                <a:lnTo>
                  <a:pt x="725" y="284"/>
                </a:lnTo>
                <a:lnTo>
                  <a:pt x="715" y="293"/>
                </a:lnTo>
                <a:lnTo>
                  <a:pt x="706" y="305"/>
                </a:lnTo>
                <a:lnTo>
                  <a:pt x="694" y="317"/>
                </a:lnTo>
                <a:lnTo>
                  <a:pt x="684" y="331"/>
                </a:lnTo>
                <a:lnTo>
                  <a:pt x="672" y="345"/>
                </a:lnTo>
                <a:lnTo>
                  <a:pt x="661" y="360"/>
                </a:lnTo>
                <a:lnTo>
                  <a:pt x="649" y="379"/>
                </a:lnTo>
                <a:lnTo>
                  <a:pt x="637" y="395"/>
                </a:lnTo>
                <a:lnTo>
                  <a:pt x="625" y="417"/>
                </a:lnTo>
                <a:lnTo>
                  <a:pt x="610" y="436"/>
                </a:lnTo>
                <a:lnTo>
                  <a:pt x="596" y="457"/>
                </a:lnTo>
                <a:lnTo>
                  <a:pt x="582" y="481"/>
                </a:lnTo>
                <a:lnTo>
                  <a:pt x="568" y="505"/>
                </a:lnTo>
                <a:lnTo>
                  <a:pt x="553" y="526"/>
                </a:lnTo>
                <a:lnTo>
                  <a:pt x="541" y="545"/>
                </a:lnTo>
                <a:lnTo>
                  <a:pt x="529" y="564"/>
                </a:lnTo>
                <a:lnTo>
                  <a:pt x="518" y="581"/>
                </a:lnTo>
                <a:lnTo>
                  <a:pt x="508" y="598"/>
                </a:lnTo>
                <a:lnTo>
                  <a:pt x="498" y="612"/>
                </a:lnTo>
                <a:lnTo>
                  <a:pt x="491" y="626"/>
                </a:lnTo>
                <a:lnTo>
                  <a:pt x="484" y="638"/>
                </a:lnTo>
                <a:lnTo>
                  <a:pt x="477" y="648"/>
                </a:lnTo>
                <a:lnTo>
                  <a:pt x="472" y="660"/>
                </a:lnTo>
                <a:lnTo>
                  <a:pt x="468" y="667"/>
                </a:lnTo>
                <a:lnTo>
                  <a:pt x="463" y="674"/>
                </a:lnTo>
                <a:lnTo>
                  <a:pt x="460" y="679"/>
                </a:lnTo>
                <a:lnTo>
                  <a:pt x="460" y="683"/>
                </a:lnTo>
                <a:lnTo>
                  <a:pt x="460" y="688"/>
                </a:lnTo>
                <a:lnTo>
                  <a:pt x="460" y="691"/>
                </a:lnTo>
                <a:lnTo>
                  <a:pt x="460" y="695"/>
                </a:lnTo>
                <a:lnTo>
                  <a:pt x="463" y="700"/>
                </a:lnTo>
                <a:lnTo>
                  <a:pt x="465" y="705"/>
                </a:lnTo>
                <a:lnTo>
                  <a:pt x="468" y="712"/>
                </a:lnTo>
                <a:lnTo>
                  <a:pt x="472" y="719"/>
                </a:lnTo>
                <a:lnTo>
                  <a:pt x="475" y="726"/>
                </a:lnTo>
                <a:lnTo>
                  <a:pt x="479" y="736"/>
                </a:lnTo>
                <a:lnTo>
                  <a:pt x="487" y="745"/>
                </a:lnTo>
                <a:lnTo>
                  <a:pt x="491" y="755"/>
                </a:lnTo>
                <a:lnTo>
                  <a:pt x="498" y="764"/>
                </a:lnTo>
                <a:lnTo>
                  <a:pt x="506" y="776"/>
                </a:lnTo>
                <a:lnTo>
                  <a:pt x="513" y="788"/>
                </a:lnTo>
                <a:lnTo>
                  <a:pt x="522" y="800"/>
                </a:lnTo>
                <a:lnTo>
                  <a:pt x="532" y="812"/>
                </a:lnTo>
                <a:lnTo>
                  <a:pt x="541" y="824"/>
                </a:lnTo>
                <a:lnTo>
                  <a:pt x="560" y="852"/>
                </a:lnTo>
                <a:lnTo>
                  <a:pt x="580" y="879"/>
                </a:lnTo>
                <a:lnTo>
                  <a:pt x="596" y="907"/>
                </a:lnTo>
                <a:lnTo>
                  <a:pt x="613" y="938"/>
                </a:lnTo>
                <a:lnTo>
                  <a:pt x="627" y="969"/>
                </a:lnTo>
                <a:lnTo>
                  <a:pt x="639" y="1002"/>
                </a:lnTo>
                <a:lnTo>
                  <a:pt x="651" y="1036"/>
                </a:lnTo>
                <a:lnTo>
                  <a:pt x="663" y="1071"/>
                </a:lnTo>
                <a:lnTo>
                  <a:pt x="668" y="1090"/>
                </a:lnTo>
                <a:lnTo>
                  <a:pt x="672" y="1107"/>
                </a:lnTo>
                <a:lnTo>
                  <a:pt x="675" y="1124"/>
                </a:lnTo>
                <a:lnTo>
                  <a:pt x="677" y="1143"/>
                </a:lnTo>
                <a:lnTo>
                  <a:pt x="680" y="1159"/>
                </a:lnTo>
                <a:lnTo>
                  <a:pt x="680" y="1176"/>
                </a:lnTo>
                <a:lnTo>
                  <a:pt x="682" y="1193"/>
                </a:lnTo>
                <a:lnTo>
                  <a:pt x="682" y="1209"/>
                </a:lnTo>
                <a:lnTo>
                  <a:pt x="680" y="1226"/>
                </a:lnTo>
                <a:lnTo>
                  <a:pt x="677" y="1243"/>
                </a:lnTo>
                <a:lnTo>
                  <a:pt x="675" y="1259"/>
                </a:lnTo>
                <a:lnTo>
                  <a:pt x="672" y="1276"/>
                </a:lnTo>
                <a:lnTo>
                  <a:pt x="668" y="1293"/>
                </a:lnTo>
                <a:lnTo>
                  <a:pt x="663" y="1312"/>
                </a:lnTo>
                <a:lnTo>
                  <a:pt x="656" y="1328"/>
                </a:lnTo>
                <a:lnTo>
                  <a:pt x="649" y="1347"/>
                </a:lnTo>
                <a:lnTo>
                  <a:pt x="641" y="1364"/>
                </a:lnTo>
                <a:lnTo>
                  <a:pt x="634" y="1381"/>
                </a:lnTo>
                <a:lnTo>
                  <a:pt x="627" y="1395"/>
                </a:lnTo>
                <a:lnTo>
                  <a:pt x="620" y="1409"/>
                </a:lnTo>
                <a:lnTo>
                  <a:pt x="615" y="1421"/>
                </a:lnTo>
                <a:lnTo>
                  <a:pt x="608" y="1433"/>
                </a:lnTo>
                <a:lnTo>
                  <a:pt x="601" y="1443"/>
                </a:lnTo>
                <a:lnTo>
                  <a:pt x="596" y="1452"/>
                </a:lnTo>
                <a:lnTo>
                  <a:pt x="589" y="1459"/>
                </a:lnTo>
                <a:lnTo>
                  <a:pt x="582" y="1466"/>
                </a:lnTo>
                <a:lnTo>
                  <a:pt x="575" y="1471"/>
                </a:lnTo>
                <a:lnTo>
                  <a:pt x="570" y="1476"/>
                </a:lnTo>
                <a:lnTo>
                  <a:pt x="563" y="1481"/>
                </a:lnTo>
                <a:lnTo>
                  <a:pt x="556" y="1483"/>
                </a:lnTo>
                <a:lnTo>
                  <a:pt x="549" y="1483"/>
                </a:lnTo>
                <a:lnTo>
                  <a:pt x="541" y="1483"/>
                </a:lnTo>
                <a:lnTo>
                  <a:pt x="534" y="1483"/>
                </a:lnTo>
                <a:lnTo>
                  <a:pt x="527" y="1483"/>
                </a:lnTo>
                <a:lnTo>
                  <a:pt x="520" y="1481"/>
                </a:lnTo>
                <a:lnTo>
                  <a:pt x="513" y="1478"/>
                </a:lnTo>
                <a:lnTo>
                  <a:pt x="506" y="1476"/>
                </a:lnTo>
                <a:lnTo>
                  <a:pt x="501" y="1474"/>
                </a:lnTo>
                <a:lnTo>
                  <a:pt x="496" y="1469"/>
                </a:lnTo>
                <a:lnTo>
                  <a:pt x="489" y="1464"/>
                </a:lnTo>
                <a:lnTo>
                  <a:pt x="484" y="1457"/>
                </a:lnTo>
                <a:lnTo>
                  <a:pt x="479" y="1452"/>
                </a:lnTo>
                <a:lnTo>
                  <a:pt x="477" y="1445"/>
                </a:lnTo>
                <a:lnTo>
                  <a:pt x="472" y="1438"/>
                </a:lnTo>
                <a:lnTo>
                  <a:pt x="468" y="1431"/>
                </a:lnTo>
                <a:lnTo>
                  <a:pt x="465" y="1421"/>
                </a:lnTo>
                <a:lnTo>
                  <a:pt x="463" y="1412"/>
                </a:lnTo>
                <a:lnTo>
                  <a:pt x="460" y="140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Freeform 41"/>
          <p:cNvSpPr/>
          <p:nvPr/>
        </p:nvSpPr>
        <p:spPr>
          <a:xfrm>
            <a:off x="5653080" y="2405160"/>
            <a:ext cx="149400" cy="1584360"/>
          </a:xfrm>
          <a:custGeom>
            <a:avLst/>
            <a:gdLst/>
            <a:ahLst/>
            <a:rect l="l" t="t" r="r" b="b"/>
            <a:pathLst>
              <a:path w="235" h="2495">
                <a:moveTo>
                  <a:pt x="40" y="160"/>
                </a:moveTo>
                <a:lnTo>
                  <a:pt x="38" y="143"/>
                </a:lnTo>
                <a:lnTo>
                  <a:pt x="38" y="129"/>
                </a:lnTo>
                <a:lnTo>
                  <a:pt x="35" y="117"/>
                </a:lnTo>
                <a:lnTo>
                  <a:pt x="33" y="103"/>
                </a:lnTo>
                <a:lnTo>
                  <a:pt x="33" y="91"/>
                </a:lnTo>
                <a:lnTo>
                  <a:pt x="33" y="79"/>
                </a:lnTo>
                <a:lnTo>
                  <a:pt x="33" y="67"/>
                </a:lnTo>
                <a:lnTo>
                  <a:pt x="33" y="58"/>
                </a:lnTo>
                <a:lnTo>
                  <a:pt x="33" y="48"/>
                </a:lnTo>
                <a:lnTo>
                  <a:pt x="35" y="41"/>
                </a:lnTo>
                <a:lnTo>
                  <a:pt x="38" y="34"/>
                </a:lnTo>
                <a:lnTo>
                  <a:pt x="40" y="27"/>
                </a:lnTo>
                <a:lnTo>
                  <a:pt x="42" y="19"/>
                </a:lnTo>
                <a:lnTo>
                  <a:pt x="45" y="15"/>
                </a:lnTo>
                <a:lnTo>
                  <a:pt x="50" y="12"/>
                </a:lnTo>
                <a:lnTo>
                  <a:pt x="54" y="8"/>
                </a:lnTo>
                <a:lnTo>
                  <a:pt x="57" y="5"/>
                </a:lnTo>
                <a:lnTo>
                  <a:pt x="62" y="3"/>
                </a:lnTo>
                <a:lnTo>
                  <a:pt x="69" y="3"/>
                </a:lnTo>
                <a:lnTo>
                  <a:pt x="73" y="0"/>
                </a:lnTo>
                <a:lnTo>
                  <a:pt x="83" y="0"/>
                </a:lnTo>
                <a:lnTo>
                  <a:pt x="90" y="0"/>
                </a:lnTo>
                <a:lnTo>
                  <a:pt x="102" y="0"/>
                </a:lnTo>
                <a:lnTo>
                  <a:pt x="112" y="0"/>
                </a:lnTo>
                <a:lnTo>
                  <a:pt x="123" y="3"/>
                </a:lnTo>
                <a:lnTo>
                  <a:pt x="138" y="5"/>
                </a:lnTo>
                <a:lnTo>
                  <a:pt x="150" y="8"/>
                </a:lnTo>
                <a:lnTo>
                  <a:pt x="164" y="12"/>
                </a:lnTo>
                <a:lnTo>
                  <a:pt x="181" y="17"/>
                </a:lnTo>
                <a:lnTo>
                  <a:pt x="197" y="22"/>
                </a:lnTo>
                <a:lnTo>
                  <a:pt x="214" y="29"/>
                </a:lnTo>
                <a:lnTo>
                  <a:pt x="231" y="36"/>
                </a:lnTo>
                <a:lnTo>
                  <a:pt x="231" y="146"/>
                </a:lnTo>
                <a:lnTo>
                  <a:pt x="233" y="255"/>
                </a:lnTo>
                <a:lnTo>
                  <a:pt x="233" y="360"/>
                </a:lnTo>
                <a:lnTo>
                  <a:pt x="233" y="462"/>
                </a:lnTo>
                <a:lnTo>
                  <a:pt x="235" y="560"/>
                </a:lnTo>
                <a:lnTo>
                  <a:pt x="235" y="657"/>
                </a:lnTo>
                <a:lnTo>
                  <a:pt x="235" y="750"/>
                </a:lnTo>
                <a:lnTo>
                  <a:pt x="235" y="843"/>
                </a:lnTo>
                <a:lnTo>
                  <a:pt x="235" y="929"/>
                </a:lnTo>
                <a:lnTo>
                  <a:pt x="235" y="1014"/>
                </a:lnTo>
                <a:lnTo>
                  <a:pt x="235" y="1098"/>
                </a:lnTo>
                <a:lnTo>
                  <a:pt x="235" y="1176"/>
                </a:lnTo>
                <a:lnTo>
                  <a:pt x="235" y="1252"/>
                </a:lnTo>
                <a:lnTo>
                  <a:pt x="235" y="1326"/>
                </a:lnTo>
                <a:lnTo>
                  <a:pt x="235" y="1398"/>
                </a:lnTo>
                <a:lnTo>
                  <a:pt x="233" y="1467"/>
                </a:lnTo>
                <a:lnTo>
                  <a:pt x="233" y="1531"/>
                </a:lnTo>
                <a:lnTo>
                  <a:pt x="233" y="1593"/>
                </a:lnTo>
                <a:lnTo>
                  <a:pt x="231" y="1652"/>
                </a:lnTo>
                <a:lnTo>
                  <a:pt x="231" y="1709"/>
                </a:lnTo>
                <a:lnTo>
                  <a:pt x="231" y="1764"/>
                </a:lnTo>
                <a:lnTo>
                  <a:pt x="228" y="1814"/>
                </a:lnTo>
                <a:lnTo>
                  <a:pt x="228" y="1862"/>
                </a:lnTo>
                <a:lnTo>
                  <a:pt x="226" y="1907"/>
                </a:lnTo>
                <a:lnTo>
                  <a:pt x="226" y="1950"/>
                </a:lnTo>
                <a:lnTo>
                  <a:pt x="224" y="1990"/>
                </a:lnTo>
                <a:lnTo>
                  <a:pt x="224" y="2026"/>
                </a:lnTo>
                <a:lnTo>
                  <a:pt x="221" y="2059"/>
                </a:lnTo>
                <a:lnTo>
                  <a:pt x="221" y="2090"/>
                </a:lnTo>
                <a:lnTo>
                  <a:pt x="219" y="2119"/>
                </a:lnTo>
                <a:lnTo>
                  <a:pt x="219" y="2142"/>
                </a:lnTo>
                <a:lnTo>
                  <a:pt x="216" y="2164"/>
                </a:lnTo>
                <a:lnTo>
                  <a:pt x="214" y="2185"/>
                </a:lnTo>
                <a:lnTo>
                  <a:pt x="212" y="2204"/>
                </a:lnTo>
                <a:lnTo>
                  <a:pt x="209" y="2223"/>
                </a:lnTo>
                <a:lnTo>
                  <a:pt x="207" y="2242"/>
                </a:lnTo>
                <a:lnTo>
                  <a:pt x="205" y="2259"/>
                </a:lnTo>
                <a:lnTo>
                  <a:pt x="202" y="2276"/>
                </a:lnTo>
                <a:lnTo>
                  <a:pt x="200" y="2292"/>
                </a:lnTo>
                <a:lnTo>
                  <a:pt x="197" y="2309"/>
                </a:lnTo>
                <a:lnTo>
                  <a:pt x="195" y="2323"/>
                </a:lnTo>
                <a:lnTo>
                  <a:pt x="193" y="2338"/>
                </a:lnTo>
                <a:lnTo>
                  <a:pt x="190" y="2352"/>
                </a:lnTo>
                <a:lnTo>
                  <a:pt x="188" y="2366"/>
                </a:lnTo>
                <a:lnTo>
                  <a:pt x="185" y="2378"/>
                </a:lnTo>
                <a:lnTo>
                  <a:pt x="183" y="2390"/>
                </a:lnTo>
                <a:lnTo>
                  <a:pt x="181" y="2402"/>
                </a:lnTo>
                <a:lnTo>
                  <a:pt x="178" y="2411"/>
                </a:lnTo>
                <a:lnTo>
                  <a:pt x="176" y="2421"/>
                </a:lnTo>
                <a:lnTo>
                  <a:pt x="174" y="2430"/>
                </a:lnTo>
                <a:lnTo>
                  <a:pt x="171" y="2440"/>
                </a:lnTo>
                <a:lnTo>
                  <a:pt x="169" y="2447"/>
                </a:lnTo>
                <a:lnTo>
                  <a:pt x="169" y="2457"/>
                </a:lnTo>
                <a:lnTo>
                  <a:pt x="166" y="2461"/>
                </a:lnTo>
                <a:lnTo>
                  <a:pt x="164" y="2469"/>
                </a:lnTo>
                <a:lnTo>
                  <a:pt x="162" y="2473"/>
                </a:lnTo>
                <a:lnTo>
                  <a:pt x="159" y="2478"/>
                </a:lnTo>
                <a:lnTo>
                  <a:pt x="159" y="2483"/>
                </a:lnTo>
                <a:lnTo>
                  <a:pt x="157" y="2488"/>
                </a:lnTo>
                <a:lnTo>
                  <a:pt x="154" y="2490"/>
                </a:lnTo>
                <a:lnTo>
                  <a:pt x="154" y="2492"/>
                </a:lnTo>
                <a:lnTo>
                  <a:pt x="152" y="2492"/>
                </a:lnTo>
                <a:lnTo>
                  <a:pt x="150" y="2495"/>
                </a:lnTo>
                <a:lnTo>
                  <a:pt x="145" y="2495"/>
                </a:lnTo>
                <a:lnTo>
                  <a:pt x="140" y="2492"/>
                </a:lnTo>
                <a:lnTo>
                  <a:pt x="133" y="2490"/>
                </a:lnTo>
                <a:lnTo>
                  <a:pt x="128" y="2488"/>
                </a:lnTo>
                <a:lnTo>
                  <a:pt x="123" y="2483"/>
                </a:lnTo>
                <a:lnTo>
                  <a:pt x="119" y="2478"/>
                </a:lnTo>
                <a:lnTo>
                  <a:pt x="112" y="2471"/>
                </a:lnTo>
                <a:lnTo>
                  <a:pt x="107" y="2464"/>
                </a:lnTo>
                <a:lnTo>
                  <a:pt x="102" y="2457"/>
                </a:lnTo>
                <a:lnTo>
                  <a:pt x="95" y="2447"/>
                </a:lnTo>
                <a:lnTo>
                  <a:pt x="88" y="2435"/>
                </a:lnTo>
                <a:lnTo>
                  <a:pt x="83" y="2426"/>
                </a:lnTo>
                <a:lnTo>
                  <a:pt x="76" y="2414"/>
                </a:lnTo>
                <a:lnTo>
                  <a:pt x="69" y="2400"/>
                </a:lnTo>
                <a:lnTo>
                  <a:pt x="62" y="2385"/>
                </a:lnTo>
                <a:lnTo>
                  <a:pt x="54" y="2371"/>
                </a:lnTo>
                <a:lnTo>
                  <a:pt x="47" y="2359"/>
                </a:lnTo>
                <a:lnTo>
                  <a:pt x="40" y="2345"/>
                </a:lnTo>
                <a:lnTo>
                  <a:pt x="28" y="2319"/>
                </a:lnTo>
                <a:lnTo>
                  <a:pt x="21" y="2295"/>
                </a:lnTo>
                <a:lnTo>
                  <a:pt x="11" y="2271"/>
                </a:lnTo>
                <a:lnTo>
                  <a:pt x="7" y="2250"/>
                </a:lnTo>
                <a:lnTo>
                  <a:pt x="4" y="2228"/>
                </a:lnTo>
                <a:lnTo>
                  <a:pt x="2" y="2209"/>
                </a:lnTo>
                <a:lnTo>
                  <a:pt x="0" y="2200"/>
                </a:lnTo>
                <a:lnTo>
                  <a:pt x="0" y="2192"/>
                </a:lnTo>
                <a:lnTo>
                  <a:pt x="0" y="2183"/>
                </a:lnTo>
                <a:lnTo>
                  <a:pt x="2" y="2173"/>
                </a:lnTo>
                <a:lnTo>
                  <a:pt x="2" y="2162"/>
                </a:lnTo>
                <a:lnTo>
                  <a:pt x="2" y="2150"/>
                </a:lnTo>
                <a:lnTo>
                  <a:pt x="4" y="2133"/>
                </a:lnTo>
                <a:lnTo>
                  <a:pt x="7" y="2116"/>
                </a:lnTo>
                <a:lnTo>
                  <a:pt x="9" y="2100"/>
                </a:lnTo>
                <a:lnTo>
                  <a:pt x="11" y="2078"/>
                </a:lnTo>
                <a:lnTo>
                  <a:pt x="14" y="2057"/>
                </a:lnTo>
                <a:lnTo>
                  <a:pt x="16" y="2035"/>
                </a:lnTo>
                <a:lnTo>
                  <a:pt x="21" y="2009"/>
                </a:lnTo>
                <a:lnTo>
                  <a:pt x="23" y="1983"/>
                </a:lnTo>
                <a:lnTo>
                  <a:pt x="28" y="1957"/>
                </a:lnTo>
                <a:lnTo>
                  <a:pt x="31" y="1926"/>
                </a:lnTo>
                <a:lnTo>
                  <a:pt x="35" y="1895"/>
                </a:lnTo>
                <a:lnTo>
                  <a:pt x="40" y="1862"/>
                </a:lnTo>
                <a:lnTo>
                  <a:pt x="50" y="1795"/>
                </a:lnTo>
                <a:lnTo>
                  <a:pt x="59" y="1728"/>
                </a:lnTo>
                <a:lnTo>
                  <a:pt x="66" y="1662"/>
                </a:lnTo>
                <a:lnTo>
                  <a:pt x="71" y="1593"/>
                </a:lnTo>
                <a:lnTo>
                  <a:pt x="76" y="1524"/>
                </a:lnTo>
                <a:lnTo>
                  <a:pt x="78" y="1455"/>
                </a:lnTo>
                <a:lnTo>
                  <a:pt x="81" y="1386"/>
                </a:lnTo>
                <a:lnTo>
                  <a:pt x="81" y="1314"/>
                </a:lnTo>
                <a:lnTo>
                  <a:pt x="81" y="1276"/>
                </a:lnTo>
                <a:lnTo>
                  <a:pt x="81" y="1240"/>
                </a:lnTo>
                <a:lnTo>
                  <a:pt x="81" y="1202"/>
                </a:lnTo>
                <a:lnTo>
                  <a:pt x="81" y="1164"/>
                </a:lnTo>
                <a:lnTo>
                  <a:pt x="81" y="1124"/>
                </a:lnTo>
                <a:lnTo>
                  <a:pt x="81" y="1086"/>
                </a:lnTo>
                <a:lnTo>
                  <a:pt x="81" y="1045"/>
                </a:lnTo>
                <a:lnTo>
                  <a:pt x="81" y="1005"/>
                </a:lnTo>
                <a:lnTo>
                  <a:pt x="81" y="962"/>
                </a:lnTo>
                <a:lnTo>
                  <a:pt x="81" y="922"/>
                </a:lnTo>
                <a:lnTo>
                  <a:pt x="81" y="879"/>
                </a:lnTo>
                <a:lnTo>
                  <a:pt x="81" y="833"/>
                </a:lnTo>
                <a:lnTo>
                  <a:pt x="81" y="791"/>
                </a:lnTo>
                <a:lnTo>
                  <a:pt x="81" y="745"/>
                </a:lnTo>
                <a:lnTo>
                  <a:pt x="81" y="700"/>
                </a:lnTo>
                <a:lnTo>
                  <a:pt x="81" y="655"/>
                </a:lnTo>
                <a:lnTo>
                  <a:pt x="81" y="607"/>
                </a:lnTo>
                <a:lnTo>
                  <a:pt x="81" y="565"/>
                </a:lnTo>
                <a:lnTo>
                  <a:pt x="81" y="524"/>
                </a:lnTo>
                <a:lnTo>
                  <a:pt x="78" y="484"/>
                </a:lnTo>
                <a:lnTo>
                  <a:pt x="78" y="446"/>
                </a:lnTo>
                <a:lnTo>
                  <a:pt x="76" y="410"/>
                </a:lnTo>
                <a:lnTo>
                  <a:pt x="73" y="376"/>
                </a:lnTo>
                <a:lnTo>
                  <a:pt x="71" y="346"/>
                </a:lnTo>
                <a:lnTo>
                  <a:pt x="69" y="315"/>
                </a:lnTo>
                <a:lnTo>
                  <a:pt x="66" y="286"/>
                </a:lnTo>
                <a:lnTo>
                  <a:pt x="62" y="260"/>
                </a:lnTo>
                <a:lnTo>
                  <a:pt x="59" y="236"/>
                </a:lnTo>
                <a:lnTo>
                  <a:pt x="54" y="215"/>
                </a:lnTo>
                <a:lnTo>
                  <a:pt x="50" y="193"/>
                </a:lnTo>
                <a:lnTo>
                  <a:pt x="45" y="177"/>
                </a:lnTo>
                <a:lnTo>
                  <a:pt x="40" y="16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Freeform 43"/>
          <p:cNvSpPr/>
          <p:nvPr/>
        </p:nvSpPr>
        <p:spPr>
          <a:xfrm>
            <a:off x="5951520" y="2438280"/>
            <a:ext cx="565200" cy="1592280"/>
          </a:xfrm>
          <a:custGeom>
            <a:avLst/>
            <a:gdLst/>
            <a:ahLst/>
            <a:rect l="l" t="t" r="r" b="b"/>
            <a:pathLst>
              <a:path w="889" h="2506">
                <a:moveTo>
                  <a:pt x="789" y="1549"/>
                </a:moveTo>
                <a:lnTo>
                  <a:pt x="782" y="1583"/>
                </a:lnTo>
                <a:lnTo>
                  <a:pt x="772" y="1613"/>
                </a:lnTo>
                <a:lnTo>
                  <a:pt x="765" y="1644"/>
                </a:lnTo>
                <a:lnTo>
                  <a:pt x="756" y="1675"/>
                </a:lnTo>
                <a:lnTo>
                  <a:pt x="746" y="1704"/>
                </a:lnTo>
                <a:lnTo>
                  <a:pt x="737" y="1732"/>
                </a:lnTo>
                <a:lnTo>
                  <a:pt x="727" y="1761"/>
                </a:lnTo>
                <a:lnTo>
                  <a:pt x="718" y="1787"/>
                </a:lnTo>
                <a:lnTo>
                  <a:pt x="708" y="1813"/>
                </a:lnTo>
                <a:lnTo>
                  <a:pt x="696" y="1840"/>
                </a:lnTo>
                <a:lnTo>
                  <a:pt x="684" y="1863"/>
                </a:lnTo>
                <a:lnTo>
                  <a:pt x="675" y="1887"/>
                </a:lnTo>
                <a:lnTo>
                  <a:pt x="663" y="1909"/>
                </a:lnTo>
                <a:lnTo>
                  <a:pt x="651" y="1932"/>
                </a:lnTo>
                <a:lnTo>
                  <a:pt x="639" y="1954"/>
                </a:lnTo>
                <a:lnTo>
                  <a:pt x="627" y="1975"/>
                </a:lnTo>
                <a:lnTo>
                  <a:pt x="613" y="1997"/>
                </a:lnTo>
                <a:lnTo>
                  <a:pt x="601" y="2020"/>
                </a:lnTo>
                <a:lnTo>
                  <a:pt x="587" y="2042"/>
                </a:lnTo>
                <a:lnTo>
                  <a:pt x="572" y="2063"/>
                </a:lnTo>
                <a:lnTo>
                  <a:pt x="544" y="2104"/>
                </a:lnTo>
                <a:lnTo>
                  <a:pt x="515" y="2142"/>
                </a:lnTo>
                <a:lnTo>
                  <a:pt x="484" y="2178"/>
                </a:lnTo>
                <a:lnTo>
                  <a:pt x="451" y="2211"/>
                </a:lnTo>
                <a:lnTo>
                  <a:pt x="417" y="2244"/>
                </a:lnTo>
                <a:lnTo>
                  <a:pt x="382" y="2277"/>
                </a:lnTo>
                <a:lnTo>
                  <a:pt x="365" y="2294"/>
                </a:lnTo>
                <a:lnTo>
                  <a:pt x="346" y="2311"/>
                </a:lnTo>
                <a:lnTo>
                  <a:pt x="329" y="2327"/>
                </a:lnTo>
                <a:lnTo>
                  <a:pt x="313" y="2342"/>
                </a:lnTo>
                <a:lnTo>
                  <a:pt x="293" y="2356"/>
                </a:lnTo>
                <a:lnTo>
                  <a:pt x="277" y="2370"/>
                </a:lnTo>
                <a:lnTo>
                  <a:pt x="260" y="2382"/>
                </a:lnTo>
                <a:lnTo>
                  <a:pt x="243" y="2394"/>
                </a:lnTo>
                <a:lnTo>
                  <a:pt x="227" y="2406"/>
                </a:lnTo>
                <a:lnTo>
                  <a:pt x="212" y="2416"/>
                </a:lnTo>
                <a:lnTo>
                  <a:pt x="181" y="2435"/>
                </a:lnTo>
                <a:lnTo>
                  <a:pt x="153" y="2454"/>
                </a:lnTo>
                <a:lnTo>
                  <a:pt x="139" y="2461"/>
                </a:lnTo>
                <a:lnTo>
                  <a:pt x="124" y="2470"/>
                </a:lnTo>
                <a:lnTo>
                  <a:pt x="112" y="2477"/>
                </a:lnTo>
                <a:lnTo>
                  <a:pt x="100" y="2482"/>
                </a:lnTo>
                <a:lnTo>
                  <a:pt x="91" y="2489"/>
                </a:lnTo>
                <a:lnTo>
                  <a:pt x="79" y="2494"/>
                </a:lnTo>
                <a:lnTo>
                  <a:pt x="69" y="2496"/>
                </a:lnTo>
                <a:lnTo>
                  <a:pt x="60" y="2499"/>
                </a:lnTo>
                <a:lnTo>
                  <a:pt x="53" y="2501"/>
                </a:lnTo>
                <a:lnTo>
                  <a:pt x="43" y="2504"/>
                </a:lnTo>
                <a:lnTo>
                  <a:pt x="36" y="2504"/>
                </a:lnTo>
                <a:lnTo>
                  <a:pt x="29" y="2506"/>
                </a:lnTo>
                <a:lnTo>
                  <a:pt x="24" y="2504"/>
                </a:lnTo>
                <a:lnTo>
                  <a:pt x="19" y="2504"/>
                </a:lnTo>
                <a:lnTo>
                  <a:pt x="15" y="2504"/>
                </a:lnTo>
                <a:lnTo>
                  <a:pt x="10" y="2501"/>
                </a:lnTo>
                <a:lnTo>
                  <a:pt x="5" y="2499"/>
                </a:lnTo>
                <a:lnTo>
                  <a:pt x="3" y="2496"/>
                </a:lnTo>
                <a:lnTo>
                  <a:pt x="0" y="2494"/>
                </a:lnTo>
                <a:lnTo>
                  <a:pt x="0" y="2489"/>
                </a:lnTo>
                <a:lnTo>
                  <a:pt x="0" y="2485"/>
                </a:lnTo>
                <a:lnTo>
                  <a:pt x="0" y="2480"/>
                </a:lnTo>
                <a:lnTo>
                  <a:pt x="3" y="2473"/>
                </a:lnTo>
                <a:lnTo>
                  <a:pt x="8" y="2466"/>
                </a:lnTo>
                <a:lnTo>
                  <a:pt x="12" y="2458"/>
                </a:lnTo>
                <a:lnTo>
                  <a:pt x="17" y="2449"/>
                </a:lnTo>
                <a:lnTo>
                  <a:pt x="24" y="2439"/>
                </a:lnTo>
                <a:lnTo>
                  <a:pt x="31" y="2430"/>
                </a:lnTo>
                <a:lnTo>
                  <a:pt x="41" y="2418"/>
                </a:lnTo>
                <a:lnTo>
                  <a:pt x="53" y="2408"/>
                </a:lnTo>
                <a:lnTo>
                  <a:pt x="65" y="2396"/>
                </a:lnTo>
                <a:lnTo>
                  <a:pt x="79" y="2385"/>
                </a:lnTo>
                <a:lnTo>
                  <a:pt x="96" y="2373"/>
                </a:lnTo>
                <a:lnTo>
                  <a:pt x="112" y="2358"/>
                </a:lnTo>
                <a:lnTo>
                  <a:pt x="129" y="2347"/>
                </a:lnTo>
                <a:lnTo>
                  <a:pt x="146" y="2332"/>
                </a:lnTo>
                <a:lnTo>
                  <a:pt x="162" y="2318"/>
                </a:lnTo>
                <a:lnTo>
                  <a:pt x="181" y="2301"/>
                </a:lnTo>
                <a:lnTo>
                  <a:pt x="198" y="2287"/>
                </a:lnTo>
                <a:lnTo>
                  <a:pt x="215" y="2270"/>
                </a:lnTo>
                <a:lnTo>
                  <a:pt x="232" y="2254"/>
                </a:lnTo>
                <a:lnTo>
                  <a:pt x="248" y="2235"/>
                </a:lnTo>
                <a:lnTo>
                  <a:pt x="265" y="2218"/>
                </a:lnTo>
                <a:lnTo>
                  <a:pt x="279" y="2199"/>
                </a:lnTo>
                <a:lnTo>
                  <a:pt x="296" y="2180"/>
                </a:lnTo>
                <a:lnTo>
                  <a:pt x="315" y="2158"/>
                </a:lnTo>
                <a:lnTo>
                  <a:pt x="332" y="2137"/>
                </a:lnTo>
                <a:lnTo>
                  <a:pt x="348" y="2116"/>
                </a:lnTo>
                <a:lnTo>
                  <a:pt x="365" y="2094"/>
                </a:lnTo>
                <a:lnTo>
                  <a:pt x="382" y="2070"/>
                </a:lnTo>
                <a:lnTo>
                  <a:pt x="398" y="2047"/>
                </a:lnTo>
                <a:lnTo>
                  <a:pt x="413" y="2023"/>
                </a:lnTo>
                <a:lnTo>
                  <a:pt x="427" y="1999"/>
                </a:lnTo>
                <a:lnTo>
                  <a:pt x="441" y="1973"/>
                </a:lnTo>
                <a:lnTo>
                  <a:pt x="453" y="1947"/>
                </a:lnTo>
                <a:lnTo>
                  <a:pt x="467" y="1920"/>
                </a:lnTo>
                <a:lnTo>
                  <a:pt x="482" y="1892"/>
                </a:lnTo>
                <a:lnTo>
                  <a:pt x="494" y="1863"/>
                </a:lnTo>
                <a:lnTo>
                  <a:pt x="506" y="1835"/>
                </a:lnTo>
                <a:lnTo>
                  <a:pt x="520" y="1806"/>
                </a:lnTo>
                <a:lnTo>
                  <a:pt x="532" y="1778"/>
                </a:lnTo>
                <a:lnTo>
                  <a:pt x="544" y="1747"/>
                </a:lnTo>
                <a:lnTo>
                  <a:pt x="553" y="1716"/>
                </a:lnTo>
                <a:lnTo>
                  <a:pt x="565" y="1682"/>
                </a:lnTo>
                <a:lnTo>
                  <a:pt x="575" y="1652"/>
                </a:lnTo>
                <a:lnTo>
                  <a:pt x="587" y="1618"/>
                </a:lnTo>
                <a:lnTo>
                  <a:pt x="606" y="1549"/>
                </a:lnTo>
                <a:lnTo>
                  <a:pt x="622" y="1483"/>
                </a:lnTo>
                <a:lnTo>
                  <a:pt x="639" y="1418"/>
                </a:lnTo>
                <a:lnTo>
                  <a:pt x="656" y="1352"/>
                </a:lnTo>
                <a:lnTo>
                  <a:pt x="668" y="1285"/>
                </a:lnTo>
                <a:lnTo>
                  <a:pt x="679" y="1221"/>
                </a:lnTo>
                <a:lnTo>
                  <a:pt x="684" y="1190"/>
                </a:lnTo>
                <a:lnTo>
                  <a:pt x="687" y="1159"/>
                </a:lnTo>
                <a:lnTo>
                  <a:pt x="691" y="1126"/>
                </a:lnTo>
                <a:lnTo>
                  <a:pt x="694" y="1095"/>
                </a:lnTo>
                <a:lnTo>
                  <a:pt x="696" y="1066"/>
                </a:lnTo>
                <a:lnTo>
                  <a:pt x="699" y="1037"/>
                </a:lnTo>
                <a:lnTo>
                  <a:pt x="701" y="1007"/>
                </a:lnTo>
                <a:lnTo>
                  <a:pt x="703" y="976"/>
                </a:lnTo>
                <a:lnTo>
                  <a:pt x="706" y="942"/>
                </a:lnTo>
                <a:lnTo>
                  <a:pt x="708" y="909"/>
                </a:lnTo>
                <a:lnTo>
                  <a:pt x="710" y="876"/>
                </a:lnTo>
                <a:lnTo>
                  <a:pt x="713" y="840"/>
                </a:lnTo>
                <a:lnTo>
                  <a:pt x="715" y="804"/>
                </a:lnTo>
                <a:lnTo>
                  <a:pt x="715" y="766"/>
                </a:lnTo>
                <a:lnTo>
                  <a:pt x="718" y="730"/>
                </a:lnTo>
                <a:lnTo>
                  <a:pt x="718" y="692"/>
                </a:lnTo>
                <a:lnTo>
                  <a:pt x="720" y="652"/>
                </a:lnTo>
                <a:lnTo>
                  <a:pt x="720" y="614"/>
                </a:lnTo>
                <a:lnTo>
                  <a:pt x="720" y="573"/>
                </a:lnTo>
                <a:lnTo>
                  <a:pt x="720" y="533"/>
                </a:lnTo>
                <a:lnTo>
                  <a:pt x="718" y="495"/>
                </a:lnTo>
                <a:lnTo>
                  <a:pt x="715" y="459"/>
                </a:lnTo>
                <a:lnTo>
                  <a:pt x="713" y="423"/>
                </a:lnTo>
                <a:lnTo>
                  <a:pt x="710" y="390"/>
                </a:lnTo>
                <a:lnTo>
                  <a:pt x="708" y="359"/>
                </a:lnTo>
                <a:lnTo>
                  <a:pt x="706" y="331"/>
                </a:lnTo>
                <a:lnTo>
                  <a:pt x="703" y="302"/>
                </a:lnTo>
                <a:lnTo>
                  <a:pt x="701" y="276"/>
                </a:lnTo>
                <a:lnTo>
                  <a:pt x="699" y="252"/>
                </a:lnTo>
                <a:lnTo>
                  <a:pt x="696" y="231"/>
                </a:lnTo>
                <a:lnTo>
                  <a:pt x="694" y="209"/>
                </a:lnTo>
                <a:lnTo>
                  <a:pt x="691" y="190"/>
                </a:lnTo>
                <a:lnTo>
                  <a:pt x="687" y="174"/>
                </a:lnTo>
                <a:lnTo>
                  <a:pt x="684" y="159"/>
                </a:lnTo>
                <a:lnTo>
                  <a:pt x="682" y="145"/>
                </a:lnTo>
                <a:lnTo>
                  <a:pt x="679" y="133"/>
                </a:lnTo>
                <a:lnTo>
                  <a:pt x="670" y="114"/>
                </a:lnTo>
                <a:lnTo>
                  <a:pt x="663" y="95"/>
                </a:lnTo>
                <a:lnTo>
                  <a:pt x="656" y="78"/>
                </a:lnTo>
                <a:lnTo>
                  <a:pt x="651" y="62"/>
                </a:lnTo>
                <a:lnTo>
                  <a:pt x="649" y="47"/>
                </a:lnTo>
                <a:lnTo>
                  <a:pt x="649" y="33"/>
                </a:lnTo>
                <a:lnTo>
                  <a:pt x="649" y="21"/>
                </a:lnTo>
                <a:lnTo>
                  <a:pt x="651" y="16"/>
                </a:lnTo>
                <a:lnTo>
                  <a:pt x="653" y="9"/>
                </a:lnTo>
                <a:lnTo>
                  <a:pt x="656" y="7"/>
                </a:lnTo>
                <a:lnTo>
                  <a:pt x="660" y="5"/>
                </a:lnTo>
                <a:lnTo>
                  <a:pt x="668" y="5"/>
                </a:lnTo>
                <a:lnTo>
                  <a:pt x="672" y="2"/>
                </a:lnTo>
                <a:lnTo>
                  <a:pt x="682" y="2"/>
                </a:lnTo>
                <a:lnTo>
                  <a:pt x="691" y="2"/>
                </a:lnTo>
                <a:lnTo>
                  <a:pt x="703" y="0"/>
                </a:lnTo>
                <a:lnTo>
                  <a:pt x="715" y="2"/>
                </a:lnTo>
                <a:lnTo>
                  <a:pt x="730" y="2"/>
                </a:lnTo>
                <a:lnTo>
                  <a:pt x="746" y="5"/>
                </a:lnTo>
                <a:lnTo>
                  <a:pt x="763" y="5"/>
                </a:lnTo>
                <a:lnTo>
                  <a:pt x="780" y="7"/>
                </a:lnTo>
                <a:lnTo>
                  <a:pt x="801" y="12"/>
                </a:lnTo>
                <a:lnTo>
                  <a:pt x="822" y="14"/>
                </a:lnTo>
                <a:lnTo>
                  <a:pt x="846" y="19"/>
                </a:lnTo>
                <a:lnTo>
                  <a:pt x="870" y="24"/>
                </a:lnTo>
                <a:lnTo>
                  <a:pt x="872" y="59"/>
                </a:lnTo>
                <a:lnTo>
                  <a:pt x="875" y="95"/>
                </a:lnTo>
                <a:lnTo>
                  <a:pt x="877" y="133"/>
                </a:lnTo>
                <a:lnTo>
                  <a:pt x="880" y="174"/>
                </a:lnTo>
                <a:lnTo>
                  <a:pt x="882" y="214"/>
                </a:lnTo>
                <a:lnTo>
                  <a:pt x="884" y="259"/>
                </a:lnTo>
                <a:lnTo>
                  <a:pt x="884" y="304"/>
                </a:lnTo>
                <a:lnTo>
                  <a:pt x="887" y="350"/>
                </a:lnTo>
                <a:lnTo>
                  <a:pt x="887" y="400"/>
                </a:lnTo>
                <a:lnTo>
                  <a:pt x="889" y="450"/>
                </a:lnTo>
                <a:lnTo>
                  <a:pt x="889" y="500"/>
                </a:lnTo>
                <a:lnTo>
                  <a:pt x="889" y="554"/>
                </a:lnTo>
                <a:lnTo>
                  <a:pt x="889" y="607"/>
                </a:lnTo>
                <a:lnTo>
                  <a:pt x="887" y="664"/>
                </a:lnTo>
                <a:lnTo>
                  <a:pt x="884" y="721"/>
                </a:lnTo>
                <a:lnTo>
                  <a:pt x="884" y="780"/>
                </a:lnTo>
                <a:lnTo>
                  <a:pt x="880" y="840"/>
                </a:lnTo>
                <a:lnTo>
                  <a:pt x="877" y="899"/>
                </a:lnTo>
                <a:lnTo>
                  <a:pt x="872" y="957"/>
                </a:lnTo>
                <a:lnTo>
                  <a:pt x="868" y="1014"/>
                </a:lnTo>
                <a:lnTo>
                  <a:pt x="863" y="1068"/>
                </a:lnTo>
                <a:lnTo>
                  <a:pt x="858" y="1121"/>
                </a:lnTo>
                <a:lnTo>
                  <a:pt x="851" y="1171"/>
                </a:lnTo>
                <a:lnTo>
                  <a:pt x="846" y="1221"/>
                </a:lnTo>
                <a:lnTo>
                  <a:pt x="839" y="1268"/>
                </a:lnTo>
                <a:lnTo>
                  <a:pt x="832" y="1314"/>
                </a:lnTo>
                <a:lnTo>
                  <a:pt x="825" y="1356"/>
                </a:lnTo>
                <a:lnTo>
                  <a:pt x="818" y="1399"/>
                </a:lnTo>
                <a:lnTo>
                  <a:pt x="811" y="1440"/>
                </a:lnTo>
                <a:lnTo>
                  <a:pt x="803" y="1478"/>
                </a:lnTo>
                <a:lnTo>
                  <a:pt x="796" y="1514"/>
                </a:lnTo>
                <a:lnTo>
                  <a:pt x="789" y="154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Freeform 44"/>
          <p:cNvSpPr/>
          <p:nvPr/>
        </p:nvSpPr>
        <p:spPr>
          <a:xfrm>
            <a:off x="6443640" y="2332080"/>
            <a:ext cx="689040" cy="1701720"/>
          </a:xfrm>
          <a:custGeom>
            <a:avLst/>
            <a:gdLst/>
            <a:ahLst/>
            <a:rect l="l" t="t" r="r" b="b"/>
            <a:pathLst>
              <a:path w="1084" h="2680">
                <a:moveTo>
                  <a:pt x="665" y="207"/>
                </a:moveTo>
                <a:lnTo>
                  <a:pt x="648" y="207"/>
                </a:lnTo>
                <a:lnTo>
                  <a:pt x="631" y="209"/>
                </a:lnTo>
                <a:lnTo>
                  <a:pt x="612" y="212"/>
                </a:lnTo>
                <a:lnTo>
                  <a:pt x="591" y="216"/>
                </a:lnTo>
                <a:lnTo>
                  <a:pt x="567" y="219"/>
                </a:lnTo>
                <a:lnTo>
                  <a:pt x="543" y="224"/>
                </a:lnTo>
                <a:lnTo>
                  <a:pt x="517" y="228"/>
                </a:lnTo>
                <a:lnTo>
                  <a:pt x="503" y="231"/>
                </a:lnTo>
                <a:lnTo>
                  <a:pt x="488" y="235"/>
                </a:lnTo>
                <a:lnTo>
                  <a:pt x="472" y="238"/>
                </a:lnTo>
                <a:lnTo>
                  <a:pt x="453" y="240"/>
                </a:lnTo>
                <a:lnTo>
                  <a:pt x="433" y="243"/>
                </a:lnTo>
                <a:lnTo>
                  <a:pt x="412" y="247"/>
                </a:lnTo>
                <a:lnTo>
                  <a:pt x="388" y="250"/>
                </a:lnTo>
                <a:lnTo>
                  <a:pt x="362" y="254"/>
                </a:lnTo>
                <a:lnTo>
                  <a:pt x="336" y="259"/>
                </a:lnTo>
                <a:lnTo>
                  <a:pt x="307" y="264"/>
                </a:lnTo>
                <a:lnTo>
                  <a:pt x="276" y="269"/>
                </a:lnTo>
                <a:lnTo>
                  <a:pt x="243" y="274"/>
                </a:lnTo>
                <a:lnTo>
                  <a:pt x="209" y="278"/>
                </a:lnTo>
                <a:lnTo>
                  <a:pt x="174" y="283"/>
                </a:lnTo>
                <a:lnTo>
                  <a:pt x="136" y="288"/>
                </a:lnTo>
                <a:lnTo>
                  <a:pt x="97" y="293"/>
                </a:lnTo>
                <a:lnTo>
                  <a:pt x="57" y="297"/>
                </a:lnTo>
                <a:lnTo>
                  <a:pt x="14" y="302"/>
                </a:lnTo>
                <a:lnTo>
                  <a:pt x="7" y="247"/>
                </a:lnTo>
                <a:lnTo>
                  <a:pt x="0" y="193"/>
                </a:lnTo>
                <a:lnTo>
                  <a:pt x="19" y="193"/>
                </a:lnTo>
                <a:lnTo>
                  <a:pt x="38" y="193"/>
                </a:lnTo>
                <a:lnTo>
                  <a:pt x="57" y="193"/>
                </a:lnTo>
                <a:lnTo>
                  <a:pt x="78" y="190"/>
                </a:lnTo>
                <a:lnTo>
                  <a:pt x="100" y="188"/>
                </a:lnTo>
                <a:lnTo>
                  <a:pt x="124" y="188"/>
                </a:lnTo>
                <a:lnTo>
                  <a:pt x="148" y="183"/>
                </a:lnTo>
                <a:lnTo>
                  <a:pt x="174" y="181"/>
                </a:lnTo>
                <a:lnTo>
                  <a:pt x="198" y="178"/>
                </a:lnTo>
                <a:lnTo>
                  <a:pt x="226" y="174"/>
                </a:lnTo>
                <a:lnTo>
                  <a:pt x="252" y="169"/>
                </a:lnTo>
                <a:lnTo>
                  <a:pt x="281" y="164"/>
                </a:lnTo>
                <a:lnTo>
                  <a:pt x="312" y="159"/>
                </a:lnTo>
                <a:lnTo>
                  <a:pt x="343" y="152"/>
                </a:lnTo>
                <a:lnTo>
                  <a:pt x="374" y="145"/>
                </a:lnTo>
                <a:lnTo>
                  <a:pt x="407" y="138"/>
                </a:lnTo>
                <a:lnTo>
                  <a:pt x="436" y="131"/>
                </a:lnTo>
                <a:lnTo>
                  <a:pt x="464" y="124"/>
                </a:lnTo>
                <a:lnTo>
                  <a:pt x="491" y="116"/>
                </a:lnTo>
                <a:lnTo>
                  <a:pt x="514" y="109"/>
                </a:lnTo>
                <a:lnTo>
                  <a:pt x="538" y="102"/>
                </a:lnTo>
                <a:lnTo>
                  <a:pt x="562" y="97"/>
                </a:lnTo>
                <a:lnTo>
                  <a:pt x="581" y="90"/>
                </a:lnTo>
                <a:lnTo>
                  <a:pt x="600" y="86"/>
                </a:lnTo>
                <a:lnTo>
                  <a:pt x="619" y="78"/>
                </a:lnTo>
                <a:lnTo>
                  <a:pt x="636" y="74"/>
                </a:lnTo>
                <a:lnTo>
                  <a:pt x="650" y="69"/>
                </a:lnTo>
                <a:lnTo>
                  <a:pt x="662" y="62"/>
                </a:lnTo>
                <a:lnTo>
                  <a:pt x="677" y="57"/>
                </a:lnTo>
                <a:lnTo>
                  <a:pt x="686" y="52"/>
                </a:lnTo>
                <a:lnTo>
                  <a:pt x="696" y="47"/>
                </a:lnTo>
                <a:lnTo>
                  <a:pt x="705" y="43"/>
                </a:lnTo>
                <a:lnTo>
                  <a:pt x="715" y="33"/>
                </a:lnTo>
                <a:lnTo>
                  <a:pt x="724" y="24"/>
                </a:lnTo>
                <a:lnTo>
                  <a:pt x="734" y="16"/>
                </a:lnTo>
                <a:lnTo>
                  <a:pt x="746" y="12"/>
                </a:lnTo>
                <a:lnTo>
                  <a:pt x="755" y="7"/>
                </a:lnTo>
                <a:lnTo>
                  <a:pt x="765" y="2"/>
                </a:lnTo>
                <a:lnTo>
                  <a:pt x="774" y="2"/>
                </a:lnTo>
                <a:lnTo>
                  <a:pt x="786" y="0"/>
                </a:lnTo>
                <a:lnTo>
                  <a:pt x="791" y="5"/>
                </a:lnTo>
                <a:lnTo>
                  <a:pt x="796" y="7"/>
                </a:lnTo>
                <a:lnTo>
                  <a:pt x="803" y="9"/>
                </a:lnTo>
                <a:lnTo>
                  <a:pt x="810" y="14"/>
                </a:lnTo>
                <a:lnTo>
                  <a:pt x="819" y="19"/>
                </a:lnTo>
                <a:lnTo>
                  <a:pt x="829" y="24"/>
                </a:lnTo>
                <a:lnTo>
                  <a:pt x="839" y="28"/>
                </a:lnTo>
                <a:lnTo>
                  <a:pt x="848" y="33"/>
                </a:lnTo>
                <a:lnTo>
                  <a:pt x="860" y="38"/>
                </a:lnTo>
                <a:lnTo>
                  <a:pt x="872" y="45"/>
                </a:lnTo>
                <a:lnTo>
                  <a:pt x="884" y="52"/>
                </a:lnTo>
                <a:lnTo>
                  <a:pt x="898" y="59"/>
                </a:lnTo>
                <a:lnTo>
                  <a:pt x="912" y="69"/>
                </a:lnTo>
                <a:lnTo>
                  <a:pt x="927" y="78"/>
                </a:lnTo>
                <a:lnTo>
                  <a:pt x="943" y="88"/>
                </a:lnTo>
                <a:lnTo>
                  <a:pt x="962" y="97"/>
                </a:lnTo>
                <a:lnTo>
                  <a:pt x="977" y="109"/>
                </a:lnTo>
                <a:lnTo>
                  <a:pt x="989" y="121"/>
                </a:lnTo>
                <a:lnTo>
                  <a:pt x="1003" y="133"/>
                </a:lnTo>
                <a:lnTo>
                  <a:pt x="1015" y="143"/>
                </a:lnTo>
                <a:lnTo>
                  <a:pt x="1024" y="155"/>
                </a:lnTo>
                <a:lnTo>
                  <a:pt x="1036" y="164"/>
                </a:lnTo>
                <a:lnTo>
                  <a:pt x="1043" y="171"/>
                </a:lnTo>
                <a:lnTo>
                  <a:pt x="1053" y="181"/>
                </a:lnTo>
                <a:lnTo>
                  <a:pt x="1060" y="188"/>
                </a:lnTo>
                <a:lnTo>
                  <a:pt x="1065" y="193"/>
                </a:lnTo>
                <a:lnTo>
                  <a:pt x="1072" y="200"/>
                </a:lnTo>
                <a:lnTo>
                  <a:pt x="1074" y="205"/>
                </a:lnTo>
                <a:lnTo>
                  <a:pt x="1079" y="209"/>
                </a:lnTo>
                <a:lnTo>
                  <a:pt x="1082" y="214"/>
                </a:lnTo>
                <a:lnTo>
                  <a:pt x="1082" y="219"/>
                </a:lnTo>
                <a:lnTo>
                  <a:pt x="1084" y="221"/>
                </a:lnTo>
                <a:lnTo>
                  <a:pt x="1082" y="231"/>
                </a:lnTo>
                <a:lnTo>
                  <a:pt x="1079" y="240"/>
                </a:lnTo>
                <a:lnTo>
                  <a:pt x="1077" y="252"/>
                </a:lnTo>
                <a:lnTo>
                  <a:pt x="1072" y="262"/>
                </a:lnTo>
                <a:lnTo>
                  <a:pt x="1065" y="271"/>
                </a:lnTo>
                <a:lnTo>
                  <a:pt x="1055" y="283"/>
                </a:lnTo>
                <a:lnTo>
                  <a:pt x="1043" y="293"/>
                </a:lnTo>
                <a:lnTo>
                  <a:pt x="1036" y="297"/>
                </a:lnTo>
                <a:lnTo>
                  <a:pt x="1029" y="302"/>
                </a:lnTo>
                <a:lnTo>
                  <a:pt x="1022" y="309"/>
                </a:lnTo>
                <a:lnTo>
                  <a:pt x="1015" y="316"/>
                </a:lnTo>
                <a:lnTo>
                  <a:pt x="1010" y="326"/>
                </a:lnTo>
                <a:lnTo>
                  <a:pt x="1003" y="335"/>
                </a:lnTo>
                <a:lnTo>
                  <a:pt x="998" y="350"/>
                </a:lnTo>
                <a:lnTo>
                  <a:pt x="993" y="362"/>
                </a:lnTo>
                <a:lnTo>
                  <a:pt x="991" y="378"/>
                </a:lnTo>
                <a:lnTo>
                  <a:pt x="986" y="395"/>
                </a:lnTo>
                <a:lnTo>
                  <a:pt x="984" y="412"/>
                </a:lnTo>
                <a:lnTo>
                  <a:pt x="982" y="431"/>
                </a:lnTo>
                <a:lnTo>
                  <a:pt x="979" y="452"/>
                </a:lnTo>
                <a:lnTo>
                  <a:pt x="977" y="476"/>
                </a:lnTo>
                <a:lnTo>
                  <a:pt x="977" y="500"/>
                </a:lnTo>
                <a:lnTo>
                  <a:pt x="974" y="523"/>
                </a:lnTo>
                <a:lnTo>
                  <a:pt x="974" y="550"/>
                </a:lnTo>
                <a:lnTo>
                  <a:pt x="974" y="578"/>
                </a:lnTo>
                <a:lnTo>
                  <a:pt x="974" y="592"/>
                </a:lnTo>
                <a:lnTo>
                  <a:pt x="974" y="609"/>
                </a:lnTo>
                <a:lnTo>
                  <a:pt x="974" y="626"/>
                </a:lnTo>
                <a:lnTo>
                  <a:pt x="974" y="642"/>
                </a:lnTo>
                <a:lnTo>
                  <a:pt x="977" y="661"/>
                </a:lnTo>
                <a:lnTo>
                  <a:pt x="977" y="681"/>
                </a:lnTo>
                <a:lnTo>
                  <a:pt x="977" y="702"/>
                </a:lnTo>
                <a:lnTo>
                  <a:pt x="977" y="723"/>
                </a:lnTo>
                <a:lnTo>
                  <a:pt x="977" y="747"/>
                </a:lnTo>
                <a:lnTo>
                  <a:pt x="979" y="771"/>
                </a:lnTo>
                <a:lnTo>
                  <a:pt x="979" y="797"/>
                </a:lnTo>
                <a:lnTo>
                  <a:pt x="979" y="823"/>
                </a:lnTo>
                <a:lnTo>
                  <a:pt x="982" y="849"/>
                </a:lnTo>
                <a:lnTo>
                  <a:pt x="982" y="878"/>
                </a:lnTo>
                <a:lnTo>
                  <a:pt x="982" y="909"/>
                </a:lnTo>
                <a:lnTo>
                  <a:pt x="984" y="938"/>
                </a:lnTo>
                <a:lnTo>
                  <a:pt x="984" y="968"/>
                </a:lnTo>
                <a:lnTo>
                  <a:pt x="986" y="1002"/>
                </a:lnTo>
                <a:lnTo>
                  <a:pt x="986" y="1035"/>
                </a:lnTo>
                <a:lnTo>
                  <a:pt x="989" y="1071"/>
                </a:lnTo>
                <a:lnTo>
                  <a:pt x="989" y="1107"/>
                </a:lnTo>
                <a:lnTo>
                  <a:pt x="989" y="1142"/>
                </a:lnTo>
                <a:lnTo>
                  <a:pt x="991" y="1180"/>
                </a:lnTo>
                <a:lnTo>
                  <a:pt x="991" y="1218"/>
                </a:lnTo>
                <a:lnTo>
                  <a:pt x="993" y="1259"/>
                </a:lnTo>
                <a:lnTo>
                  <a:pt x="993" y="1299"/>
                </a:lnTo>
                <a:lnTo>
                  <a:pt x="996" y="1342"/>
                </a:lnTo>
                <a:lnTo>
                  <a:pt x="996" y="1385"/>
                </a:lnTo>
                <a:lnTo>
                  <a:pt x="998" y="1428"/>
                </a:lnTo>
                <a:lnTo>
                  <a:pt x="998" y="1473"/>
                </a:lnTo>
                <a:lnTo>
                  <a:pt x="1001" y="1518"/>
                </a:lnTo>
                <a:lnTo>
                  <a:pt x="1003" y="1566"/>
                </a:lnTo>
                <a:lnTo>
                  <a:pt x="1003" y="1613"/>
                </a:lnTo>
                <a:lnTo>
                  <a:pt x="1003" y="1659"/>
                </a:lnTo>
                <a:lnTo>
                  <a:pt x="1005" y="1704"/>
                </a:lnTo>
                <a:lnTo>
                  <a:pt x="1005" y="1747"/>
                </a:lnTo>
                <a:lnTo>
                  <a:pt x="1005" y="1790"/>
                </a:lnTo>
                <a:lnTo>
                  <a:pt x="1008" y="1830"/>
                </a:lnTo>
                <a:lnTo>
                  <a:pt x="1008" y="1868"/>
                </a:lnTo>
                <a:lnTo>
                  <a:pt x="1008" y="1906"/>
                </a:lnTo>
                <a:lnTo>
                  <a:pt x="1008" y="1944"/>
                </a:lnTo>
                <a:lnTo>
                  <a:pt x="1008" y="1978"/>
                </a:lnTo>
                <a:lnTo>
                  <a:pt x="1005" y="2013"/>
                </a:lnTo>
                <a:lnTo>
                  <a:pt x="1005" y="2047"/>
                </a:lnTo>
                <a:lnTo>
                  <a:pt x="1005" y="2078"/>
                </a:lnTo>
                <a:lnTo>
                  <a:pt x="1005" y="2109"/>
                </a:lnTo>
                <a:lnTo>
                  <a:pt x="1003" y="2137"/>
                </a:lnTo>
                <a:lnTo>
                  <a:pt x="1003" y="2163"/>
                </a:lnTo>
                <a:lnTo>
                  <a:pt x="1003" y="2189"/>
                </a:lnTo>
                <a:lnTo>
                  <a:pt x="1001" y="2216"/>
                </a:lnTo>
                <a:lnTo>
                  <a:pt x="1001" y="2239"/>
                </a:lnTo>
                <a:lnTo>
                  <a:pt x="998" y="2261"/>
                </a:lnTo>
                <a:lnTo>
                  <a:pt x="998" y="2282"/>
                </a:lnTo>
                <a:lnTo>
                  <a:pt x="996" y="2304"/>
                </a:lnTo>
                <a:lnTo>
                  <a:pt x="993" y="2323"/>
                </a:lnTo>
                <a:lnTo>
                  <a:pt x="991" y="2339"/>
                </a:lnTo>
                <a:lnTo>
                  <a:pt x="991" y="2356"/>
                </a:lnTo>
                <a:lnTo>
                  <a:pt x="989" y="2370"/>
                </a:lnTo>
                <a:lnTo>
                  <a:pt x="986" y="2385"/>
                </a:lnTo>
                <a:lnTo>
                  <a:pt x="984" y="2397"/>
                </a:lnTo>
                <a:lnTo>
                  <a:pt x="982" y="2406"/>
                </a:lnTo>
                <a:lnTo>
                  <a:pt x="979" y="2416"/>
                </a:lnTo>
                <a:lnTo>
                  <a:pt x="977" y="2425"/>
                </a:lnTo>
                <a:lnTo>
                  <a:pt x="974" y="2432"/>
                </a:lnTo>
                <a:lnTo>
                  <a:pt x="970" y="2446"/>
                </a:lnTo>
                <a:lnTo>
                  <a:pt x="965" y="2461"/>
                </a:lnTo>
                <a:lnTo>
                  <a:pt x="955" y="2489"/>
                </a:lnTo>
                <a:lnTo>
                  <a:pt x="943" y="2516"/>
                </a:lnTo>
                <a:lnTo>
                  <a:pt x="934" y="2539"/>
                </a:lnTo>
                <a:lnTo>
                  <a:pt x="924" y="2561"/>
                </a:lnTo>
                <a:lnTo>
                  <a:pt x="915" y="2582"/>
                </a:lnTo>
                <a:lnTo>
                  <a:pt x="903" y="2604"/>
                </a:lnTo>
                <a:lnTo>
                  <a:pt x="893" y="2625"/>
                </a:lnTo>
                <a:lnTo>
                  <a:pt x="886" y="2632"/>
                </a:lnTo>
                <a:lnTo>
                  <a:pt x="879" y="2639"/>
                </a:lnTo>
                <a:lnTo>
                  <a:pt x="872" y="2644"/>
                </a:lnTo>
                <a:lnTo>
                  <a:pt x="865" y="2651"/>
                </a:lnTo>
                <a:lnTo>
                  <a:pt x="853" y="2661"/>
                </a:lnTo>
                <a:lnTo>
                  <a:pt x="841" y="2668"/>
                </a:lnTo>
                <a:lnTo>
                  <a:pt x="829" y="2673"/>
                </a:lnTo>
                <a:lnTo>
                  <a:pt x="819" y="2677"/>
                </a:lnTo>
                <a:lnTo>
                  <a:pt x="810" y="2677"/>
                </a:lnTo>
                <a:lnTo>
                  <a:pt x="798" y="2680"/>
                </a:lnTo>
                <a:lnTo>
                  <a:pt x="791" y="2680"/>
                </a:lnTo>
                <a:lnTo>
                  <a:pt x="784" y="2677"/>
                </a:lnTo>
                <a:lnTo>
                  <a:pt x="779" y="2675"/>
                </a:lnTo>
                <a:lnTo>
                  <a:pt x="774" y="2670"/>
                </a:lnTo>
                <a:lnTo>
                  <a:pt x="767" y="2668"/>
                </a:lnTo>
                <a:lnTo>
                  <a:pt x="765" y="2661"/>
                </a:lnTo>
                <a:lnTo>
                  <a:pt x="760" y="2654"/>
                </a:lnTo>
                <a:lnTo>
                  <a:pt x="758" y="2646"/>
                </a:lnTo>
                <a:lnTo>
                  <a:pt x="753" y="2637"/>
                </a:lnTo>
                <a:lnTo>
                  <a:pt x="750" y="2627"/>
                </a:lnTo>
                <a:lnTo>
                  <a:pt x="748" y="2615"/>
                </a:lnTo>
                <a:lnTo>
                  <a:pt x="748" y="2604"/>
                </a:lnTo>
                <a:lnTo>
                  <a:pt x="746" y="2589"/>
                </a:lnTo>
                <a:lnTo>
                  <a:pt x="746" y="2575"/>
                </a:lnTo>
                <a:lnTo>
                  <a:pt x="746" y="2558"/>
                </a:lnTo>
                <a:lnTo>
                  <a:pt x="746" y="2542"/>
                </a:lnTo>
                <a:lnTo>
                  <a:pt x="741" y="2527"/>
                </a:lnTo>
                <a:lnTo>
                  <a:pt x="738" y="2511"/>
                </a:lnTo>
                <a:lnTo>
                  <a:pt x="734" y="2496"/>
                </a:lnTo>
                <a:lnTo>
                  <a:pt x="727" y="2482"/>
                </a:lnTo>
                <a:lnTo>
                  <a:pt x="719" y="2468"/>
                </a:lnTo>
                <a:lnTo>
                  <a:pt x="712" y="2454"/>
                </a:lnTo>
                <a:lnTo>
                  <a:pt x="703" y="2442"/>
                </a:lnTo>
                <a:lnTo>
                  <a:pt x="693" y="2427"/>
                </a:lnTo>
                <a:lnTo>
                  <a:pt x="684" y="2413"/>
                </a:lnTo>
                <a:lnTo>
                  <a:pt x="672" y="2401"/>
                </a:lnTo>
                <a:lnTo>
                  <a:pt x="660" y="2387"/>
                </a:lnTo>
                <a:lnTo>
                  <a:pt x="646" y="2375"/>
                </a:lnTo>
                <a:lnTo>
                  <a:pt x="631" y="2361"/>
                </a:lnTo>
                <a:lnTo>
                  <a:pt x="615" y="2349"/>
                </a:lnTo>
                <a:lnTo>
                  <a:pt x="600" y="2335"/>
                </a:lnTo>
                <a:lnTo>
                  <a:pt x="581" y="2323"/>
                </a:lnTo>
                <a:lnTo>
                  <a:pt x="562" y="2308"/>
                </a:lnTo>
                <a:lnTo>
                  <a:pt x="545" y="2297"/>
                </a:lnTo>
                <a:lnTo>
                  <a:pt x="526" y="2287"/>
                </a:lnTo>
                <a:lnTo>
                  <a:pt x="512" y="2275"/>
                </a:lnTo>
                <a:lnTo>
                  <a:pt x="498" y="2266"/>
                </a:lnTo>
                <a:lnTo>
                  <a:pt x="483" y="2256"/>
                </a:lnTo>
                <a:lnTo>
                  <a:pt x="472" y="2247"/>
                </a:lnTo>
                <a:lnTo>
                  <a:pt x="462" y="2239"/>
                </a:lnTo>
                <a:lnTo>
                  <a:pt x="453" y="2232"/>
                </a:lnTo>
                <a:lnTo>
                  <a:pt x="445" y="2225"/>
                </a:lnTo>
                <a:lnTo>
                  <a:pt x="441" y="2220"/>
                </a:lnTo>
                <a:lnTo>
                  <a:pt x="436" y="2213"/>
                </a:lnTo>
                <a:lnTo>
                  <a:pt x="433" y="2208"/>
                </a:lnTo>
                <a:lnTo>
                  <a:pt x="431" y="2204"/>
                </a:lnTo>
                <a:lnTo>
                  <a:pt x="431" y="2201"/>
                </a:lnTo>
                <a:lnTo>
                  <a:pt x="433" y="2199"/>
                </a:lnTo>
                <a:lnTo>
                  <a:pt x="433" y="2197"/>
                </a:lnTo>
                <a:lnTo>
                  <a:pt x="436" y="2194"/>
                </a:lnTo>
                <a:lnTo>
                  <a:pt x="438" y="2192"/>
                </a:lnTo>
                <a:lnTo>
                  <a:pt x="443" y="2192"/>
                </a:lnTo>
                <a:lnTo>
                  <a:pt x="450" y="2189"/>
                </a:lnTo>
                <a:lnTo>
                  <a:pt x="455" y="2189"/>
                </a:lnTo>
                <a:lnTo>
                  <a:pt x="464" y="2187"/>
                </a:lnTo>
                <a:lnTo>
                  <a:pt x="474" y="2187"/>
                </a:lnTo>
                <a:lnTo>
                  <a:pt x="483" y="2187"/>
                </a:lnTo>
                <a:lnTo>
                  <a:pt x="498" y="2189"/>
                </a:lnTo>
                <a:lnTo>
                  <a:pt x="510" y="2189"/>
                </a:lnTo>
                <a:lnTo>
                  <a:pt x="524" y="2189"/>
                </a:lnTo>
                <a:lnTo>
                  <a:pt x="541" y="2192"/>
                </a:lnTo>
                <a:lnTo>
                  <a:pt x="557" y="2194"/>
                </a:lnTo>
                <a:lnTo>
                  <a:pt x="576" y="2197"/>
                </a:lnTo>
                <a:lnTo>
                  <a:pt x="595" y="2199"/>
                </a:lnTo>
                <a:lnTo>
                  <a:pt x="612" y="2204"/>
                </a:lnTo>
                <a:lnTo>
                  <a:pt x="629" y="2208"/>
                </a:lnTo>
                <a:lnTo>
                  <a:pt x="646" y="2211"/>
                </a:lnTo>
                <a:lnTo>
                  <a:pt x="662" y="2213"/>
                </a:lnTo>
                <a:lnTo>
                  <a:pt x="677" y="2216"/>
                </a:lnTo>
                <a:lnTo>
                  <a:pt x="691" y="2218"/>
                </a:lnTo>
                <a:lnTo>
                  <a:pt x="703" y="2218"/>
                </a:lnTo>
                <a:lnTo>
                  <a:pt x="717" y="2220"/>
                </a:lnTo>
                <a:lnTo>
                  <a:pt x="727" y="2218"/>
                </a:lnTo>
                <a:lnTo>
                  <a:pt x="738" y="2218"/>
                </a:lnTo>
                <a:lnTo>
                  <a:pt x="748" y="2216"/>
                </a:lnTo>
                <a:lnTo>
                  <a:pt x="758" y="2213"/>
                </a:lnTo>
                <a:lnTo>
                  <a:pt x="767" y="2211"/>
                </a:lnTo>
                <a:lnTo>
                  <a:pt x="774" y="2208"/>
                </a:lnTo>
                <a:lnTo>
                  <a:pt x="779" y="2204"/>
                </a:lnTo>
                <a:lnTo>
                  <a:pt x="786" y="2199"/>
                </a:lnTo>
                <a:lnTo>
                  <a:pt x="788" y="2197"/>
                </a:lnTo>
                <a:lnTo>
                  <a:pt x="791" y="2194"/>
                </a:lnTo>
                <a:lnTo>
                  <a:pt x="793" y="2192"/>
                </a:lnTo>
                <a:lnTo>
                  <a:pt x="796" y="2187"/>
                </a:lnTo>
                <a:lnTo>
                  <a:pt x="798" y="2185"/>
                </a:lnTo>
                <a:lnTo>
                  <a:pt x="798" y="2180"/>
                </a:lnTo>
                <a:lnTo>
                  <a:pt x="800" y="2173"/>
                </a:lnTo>
                <a:lnTo>
                  <a:pt x="803" y="2168"/>
                </a:lnTo>
                <a:lnTo>
                  <a:pt x="805" y="2161"/>
                </a:lnTo>
                <a:lnTo>
                  <a:pt x="808" y="2154"/>
                </a:lnTo>
                <a:lnTo>
                  <a:pt x="810" y="2137"/>
                </a:lnTo>
                <a:lnTo>
                  <a:pt x="812" y="2120"/>
                </a:lnTo>
                <a:lnTo>
                  <a:pt x="815" y="2099"/>
                </a:lnTo>
                <a:lnTo>
                  <a:pt x="817" y="2075"/>
                </a:lnTo>
                <a:lnTo>
                  <a:pt x="819" y="2051"/>
                </a:lnTo>
                <a:lnTo>
                  <a:pt x="822" y="2023"/>
                </a:lnTo>
                <a:lnTo>
                  <a:pt x="824" y="1994"/>
                </a:lnTo>
                <a:lnTo>
                  <a:pt x="824" y="1961"/>
                </a:lnTo>
                <a:lnTo>
                  <a:pt x="824" y="1928"/>
                </a:lnTo>
                <a:lnTo>
                  <a:pt x="827" y="1892"/>
                </a:lnTo>
                <a:lnTo>
                  <a:pt x="827" y="1856"/>
                </a:lnTo>
                <a:lnTo>
                  <a:pt x="827" y="1835"/>
                </a:lnTo>
                <a:lnTo>
                  <a:pt x="827" y="1816"/>
                </a:lnTo>
                <a:lnTo>
                  <a:pt x="827" y="1794"/>
                </a:lnTo>
                <a:lnTo>
                  <a:pt x="827" y="1773"/>
                </a:lnTo>
                <a:lnTo>
                  <a:pt x="827" y="1752"/>
                </a:lnTo>
                <a:lnTo>
                  <a:pt x="827" y="1728"/>
                </a:lnTo>
                <a:lnTo>
                  <a:pt x="827" y="1704"/>
                </a:lnTo>
                <a:lnTo>
                  <a:pt x="827" y="1680"/>
                </a:lnTo>
                <a:lnTo>
                  <a:pt x="824" y="1654"/>
                </a:lnTo>
                <a:lnTo>
                  <a:pt x="824" y="1630"/>
                </a:lnTo>
                <a:lnTo>
                  <a:pt x="824" y="1604"/>
                </a:lnTo>
                <a:lnTo>
                  <a:pt x="824" y="1578"/>
                </a:lnTo>
                <a:lnTo>
                  <a:pt x="824" y="1549"/>
                </a:lnTo>
                <a:lnTo>
                  <a:pt x="824" y="1521"/>
                </a:lnTo>
                <a:lnTo>
                  <a:pt x="824" y="1492"/>
                </a:lnTo>
                <a:lnTo>
                  <a:pt x="824" y="1464"/>
                </a:lnTo>
                <a:lnTo>
                  <a:pt x="824" y="1433"/>
                </a:lnTo>
                <a:lnTo>
                  <a:pt x="824" y="1404"/>
                </a:lnTo>
                <a:lnTo>
                  <a:pt x="822" y="1371"/>
                </a:lnTo>
                <a:lnTo>
                  <a:pt x="822" y="1340"/>
                </a:lnTo>
                <a:lnTo>
                  <a:pt x="822" y="1306"/>
                </a:lnTo>
                <a:lnTo>
                  <a:pt x="822" y="1273"/>
                </a:lnTo>
                <a:lnTo>
                  <a:pt x="822" y="1240"/>
                </a:lnTo>
                <a:lnTo>
                  <a:pt x="819" y="1206"/>
                </a:lnTo>
                <a:lnTo>
                  <a:pt x="819" y="1171"/>
                </a:lnTo>
                <a:lnTo>
                  <a:pt x="819" y="1135"/>
                </a:lnTo>
                <a:lnTo>
                  <a:pt x="817" y="1099"/>
                </a:lnTo>
                <a:lnTo>
                  <a:pt x="817" y="1061"/>
                </a:lnTo>
                <a:lnTo>
                  <a:pt x="815" y="1023"/>
                </a:lnTo>
                <a:lnTo>
                  <a:pt x="815" y="985"/>
                </a:lnTo>
                <a:lnTo>
                  <a:pt x="815" y="947"/>
                </a:lnTo>
                <a:lnTo>
                  <a:pt x="812" y="907"/>
                </a:lnTo>
                <a:lnTo>
                  <a:pt x="810" y="869"/>
                </a:lnTo>
                <a:lnTo>
                  <a:pt x="810" y="830"/>
                </a:lnTo>
                <a:lnTo>
                  <a:pt x="808" y="792"/>
                </a:lnTo>
                <a:lnTo>
                  <a:pt x="808" y="757"/>
                </a:lnTo>
                <a:lnTo>
                  <a:pt x="805" y="723"/>
                </a:lnTo>
                <a:lnTo>
                  <a:pt x="805" y="690"/>
                </a:lnTo>
                <a:lnTo>
                  <a:pt x="803" y="657"/>
                </a:lnTo>
                <a:lnTo>
                  <a:pt x="803" y="626"/>
                </a:lnTo>
                <a:lnTo>
                  <a:pt x="800" y="597"/>
                </a:lnTo>
                <a:lnTo>
                  <a:pt x="800" y="569"/>
                </a:lnTo>
                <a:lnTo>
                  <a:pt x="798" y="540"/>
                </a:lnTo>
                <a:lnTo>
                  <a:pt x="798" y="514"/>
                </a:lnTo>
                <a:lnTo>
                  <a:pt x="796" y="490"/>
                </a:lnTo>
                <a:lnTo>
                  <a:pt x="796" y="466"/>
                </a:lnTo>
                <a:lnTo>
                  <a:pt x="793" y="443"/>
                </a:lnTo>
                <a:lnTo>
                  <a:pt x="791" y="421"/>
                </a:lnTo>
                <a:lnTo>
                  <a:pt x="791" y="402"/>
                </a:lnTo>
                <a:lnTo>
                  <a:pt x="788" y="383"/>
                </a:lnTo>
                <a:lnTo>
                  <a:pt x="788" y="364"/>
                </a:lnTo>
                <a:lnTo>
                  <a:pt x="786" y="347"/>
                </a:lnTo>
                <a:lnTo>
                  <a:pt x="786" y="331"/>
                </a:lnTo>
                <a:lnTo>
                  <a:pt x="784" y="316"/>
                </a:lnTo>
                <a:lnTo>
                  <a:pt x="784" y="304"/>
                </a:lnTo>
                <a:lnTo>
                  <a:pt x="781" y="290"/>
                </a:lnTo>
                <a:lnTo>
                  <a:pt x="781" y="281"/>
                </a:lnTo>
                <a:lnTo>
                  <a:pt x="779" y="271"/>
                </a:lnTo>
                <a:lnTo>
                  <a:pt x="779" y="262"/>
                </a:lnTo>
                <a:lnTo>
                  <a:pt x="777" y="254"/>
                </a:lnTo>
                <a:lnTo>
                  <a:pt x="774" y="247"/>
                </a:lnTo>
                <a:lnTo>
                  <a:pt x="774" y="243"/>
                </a:lnTo>
                <a:lnTo>
                  <a:pt x="772" y="238"/>
                </a:lnTo>
                <a:lnTo>
                  <a:pt x="772" y="235"/>
                </a:lnTo>
                <a:lnTo>
                  <a:pt x="760" y="228"/>
                </a:lnTo>
                <a:lnTo>
                  <a:pt x="748" y="224"/>
                </a:lnTo>
                <a:lnTo>
                  <a:pt x="736" y="219"/>
                </a:lnTo>
                <a:lnTo>
                  <a:pt x="722" y="216"/>
                </a:lnTo>
                <a:lnTo>
                  <a:pt x="707" y="212"/>
                </a:lnTo>
                <a:lnTo>
                  <a:pt x="693" y="209"/>
                </a:lnTo>
                <a:lnTo>
                  <a:pt x="679" y="207"/>
                </a:lnTo>
                <a:lnTo>
                  <a:pt x="665" y="20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Freeform 45"/>
          <p:cNvSpPr/>
          <p:nvPr/>
        </p:nvSpPr>
        <p:spPr>
          <a:xfrm>
            <a:off x="6461280" y="2778120"/>
            <a:ext cx="369720" cy="112680"/>
          </a:xfrm>
          <a:custGeom>
            <a:avLst/>
            <a:gdLst/>
            <a:ahLst/>
            <a:rect l="l" t="t" r="r" b="b"/>
            <a:pathLst>
              <a:path w="584" h="178">
                <a:moveTo>
                  <a:pt x="231" y="40"/>
                </a:moveTo>
                <a:lnTo>
                  <a:pt x="248" y="36"/>
                </a:lnTo>
                <a:lnTo>
                  <a:pt x="264" y="31"/>
                </a:lnTo>
                <a:lnTo>
                  <a:pt x="281" y="26"/>
                </a:lnTo>
                <a:lnTo>
                  <a:pt x="295" y="21"/>
                </a:lnTo>
                <a:lnTo>
                  <a:pt x="310" y="19"/>
                </a:lnTo>
                <a:lnTo>
                  <a:pt x="322" y="14"/>
                </a:lnTo>
                <a:lnTo>
                  <a:pt x="334" y="12"/>
                </a:lnTo>
                <a:lnTo>
                  <a:pt x="346" y="9"/>
                </a:lnTo>
                <a:lnTo>
                  <a:pt x="357" y="7"/>
                </a:lnTo>
                <a:lnTo>
                  <a:pt x="367" y="5"/>
                </a:lnTo>
                <a:lnTo>
                  <a:pt x="388" y="2"/>
                </a:lnTo>
                <a:lnTo>
                  <a:pt x="405" y="0"/>
                </a:lnTo>
                <a:lnTo>
                  <a:pt x="422" y="0"/>
                </a:lnTo>
                <a:lnTo>
                  <a:pt x="436" y="0"/>
                </a:lnTo>
                <a:lnTo>
                  <a:pt x="448" y="0"/>
                </a:lnTo>
                <a:lnTo>
                  <a:pt x="462" y="0"/>
                </a:lnTo>
                <a:lnTo>
                  <a:pt x="474" y="0"/>
                </a:lnTo>
                <a:lnTo>
                  <a:pt x="488" y="2"/>
                </a:lnTo>
                <a:lnTo>
                  <a:pt x="500" y="5"/>
                </a:lnTo>
                <a:lnTo>
                  <a:pt x="515" y="9"/>
                </a:lnTo>
                <a:lnTo>
                  <a:pt x="529" y="14"/>
                </a:lnTo>
                <a:lnTo>
                  <a:pt x="536" y="17"/>
                </a:lnTo>
                <a:lnTo>
                  <a:pt x="543" y="19"/>
                </a:lnTo>
                <a:lnTo>
                  <a:pt x="555" y="26"/>
                </a:lnTo>
                <a:lnTo>
                  <a:pt x="565" y="33"/>
                </a:lnTo>
                <a:lnTo>
                  <a:pt x="572" y="40"/>
                </a:lnTo>
                <a:lnTo>
                  <a:pt x="577" y="48"/>
                </a:lnTo>
                <a:lnTo>
                  <a:pt x="581" y="55"/>
                </a:lnTo>
                <a:lnTo>
                  <a:pt x="581" y="62"/>
                </a:lnTo>
                <a:lnTo>
                  <a:pt x="584" y="69"/>
                </a:lnTo>
                <a:lnTo>
                  <a:pt x="584" y="74"/>
                </a:lnTo>
                <a:lnTo>
                  <a:pt x="581" y="78"/>
                </a:lnTo>
                <a:lnTo>
                  <a:pt x="579" y="83"/>
                </a:lnTo>
                <a:lnTo>
                  <a:pt x="577" y="88"/>
                </a:lnTo>
                <a:lnTo>
                  <a:pt x="572" y="93"/>
                </a:lnTo>
                <a:lnTo>
                  <a:pt x="567" y="98"/>
                </a:lnTo>
                <a:lnTo>
                  <a:pt x="560" y="102"/>
                </a:lnTo>
                <a:lnTo>
                  <a:pt x="555" y="107"/>
                </a:lnTo>
                <a:lnTo>
                  <a:pt x="548" y="112"/>
                </a:lnTo>
                <a:lnTo>
                  <a:pt x="539" y="117"/>
                </a:lnTo>
                <a:lnTo>
                  <a:pt x="529" y="119"/>
                </a:lnTo>
                <a:lnTo>
                  <a:pt x="519" y="124"/>
                </a:lnTo>
                <a:lnTo>
                  <a:pt x="510" y="128"/>
                </a:lnTo>
                <a:lnTo>
                  <a:pt x="498" y="131"/>
                </a:lnTo>
                <a:lnTo>
                  <a:pt x="486" y="133"/>
                </a:lnTo>
                <a:lnTo>
                  <a:pt x="474" y="136"/>
                </a:lnTo>
                <a:lnTo>
                  <a:pt x="462" y="143"/>
                </a:lnTo>
                <a:lnTo>
                  <a:pt x="446" y="147"/>
                </a:lnTo>
                <a:lnTo>
                  <a:pt x="427" y="150"/>
                </a:lnTo>
                <a:lnTo>
                  <a:pt x="407" y="155"/>
                </a:lnTo>
                <a:lnTo>
                  <a:pt x="384" y="159"/>
                </a:lnTo>
                <a:lnTo>
                  <a:pt x="360" y="162"/>
                </a:lnTo>
                <a:lnTo>
                  <a:pt x="334" y="164"/>
                </a:lnTo>
                <a:lnTo>
                  <a:pt x="305" y="167"/>
                </a:lnTo>
                <a:lnTo>
                  <a:pt x="274" y="169"/>
                </a:lnTo>
                <a:lnTo>
                  <a:pt x="241" y="171"/>
                </a:lnTo>
                <a:lnTo>
                  <a:pt x="205" y="174"/>
                </a:lnTo>
                <a:lnTo>
                  <a:pt x="169" y="176"/>
                </a:lnTo>
                <a:lnTo>
                  <a:pt x="129" y="176"/>
                </a:lnTo>
                <a:lnTo>
                  <a:pt x="88" y="178"/>
                </a:lnTo>
                <a:lnTo>
                  <a:pt x="45" y="178"/>
                </a:lnTo>
                <a:lnTo>
                  <a:pt x="0" y="178"/>
                </a:lnTo>
                <a:lnTo>
                  <a:pt x="0" y="69"/>
                </a:lnTo>
                <a:lnTo>
                  <a:pt x="26" y="67"/>
                </a:lnTo>
                <a:lnTo>
                  <a:pt x="52" y="67"/>
                </a:lnTo>
                <a:lnTo>
                  <a:pt x="79" y="62"/>
                </a:lnTo>
                <a:lnTo>
                  <a:pt x="105" y="59"/>
                </a:lnTo>
                <a:lnTo>
                  <a:pt x="133" y="55"/>
                </a:lnTo>
                <a:lnTo>
                  <a:pt x="164" y="50"/>
                </a:lnTo>
                <a:lnTo>
                  <a:pt x="198" y="45"/>
                </a:lnTo>
                <a:lnTo>
                  <a:pt x="214" y="43"/>
                </a:lnTo>
                <a:lnTo>
                  <a:pt x="231" y="4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Freeform 46"/>
          <p:cNvSpPr/>
          <p:nvPr/>
        </p:nvSpPr>
        <p:spPr>
          <a:xfrm>
            <a:off x="6434280" y="3112920"/>
            <a:ext cx="396720" cy="135000"/>
          </a:xfrm>
          <a:custGeom>
            <a:avLst/>
            <a:gdLst/>
            <a:ahLst/>
            <a:rect l="l" t="t" r="r" b="b"/>
            <a:pathLst>
              <a:path w="625" h="212">
                <a:moveTo>
                  <a:pt x="625" y="103"/>
                </a:moveTo>
                <a:lnTo>
                  <a:pt x="625" y="105"/>
                </a:lnTo>
                <a:lnTo>
                  <a:pt x="622" y="107"/>
                </a:lnTo>
                <a:lnTo>
                  <a:pt x="620" y="115"/>
                </a:lnTo>
                <a:lnTo>
                  <a:pt x="613" y="119"/>
                </a:lnTo>
                <a:lnTo>
                  <a:pt x="606" y="124"/>
                </a:lnTo>
                <a:lnTo>
                  <a:pt x="596" y="129"/>
                </a:lnTo>
                <a:lnTo>
                  <a:pt x="584" y="134"/>
                </a:lnTo>
                <a:lnTo>
                  <a:pt x="570" y="138"/>
                </a:lnTo>
                <a:lnTo>
                  <a:pt x="556" y="145"/>
                </a:lnTo>
                <a:lnTo>
                  <a:pt x="541" y="150"/>
                </a:lnTo>
                <a:lnTo>
                  <a:pt x="525" y="155"/>
                </a:lnTo>
                <a:lnTo>
                  <a:pt x="506" y="160"/>
                </a:lnTo>
                <a:lnTo>
                  <a:pt x="487" y="165"/>
                </a:lnTo>
                <a:lnTo>
                  <a:pt x="465" y="169"/>
                </a:lnTo>
                <a:lnTo>
                  <a:pt x="441" y="174"/>
                </a:lnTo>
                <a:lnTo>
                  <a:pt x="420" y="181"/>
                </a:lnTo>
                <a:lnTo>
                  <a:pt x="394" y="186"/>
                </a:lnTo>
                <a:lnTo>
                  <a:pt x="379" y="188"/>
                </a:lnTo>
                <a:lnTo>
                  <a:pt x="365" y="191"/>
                </a:lnTo>
                <a:lnTo>
                  <a:pt x="348" y="193"/>
                </a:lnTo>
                <a:lnTo>
                  <a:pt x="332" y="195"/>
                </a:lnTo>
                <a:lnTo>
                  <a:pt x="310" y="198"/>
                </a:lnTo>
                <a:lnTo>
                  <a:pt x="291" y="200"/>
                </a:lnTo>
                <a:lnTo>
                  <a:pt x="267" y="203"/>
                </a:lnTo>
                <a:lnTo>
                  <a:pt x="244" y="205"/>
                </a:lnTo>
                <a:lnTo>
                  <a:pt x="217" y="207"/>
                </a:lnTo>
                <a:lnTo>
                  <a:pt x="191" y="207"/>
                </a:lnTo>
                <a:lnTo>
                  <a:pt x="163" y="210"/>
                </a:lnTo>
                <a:lnTo>
                  <a:pt x="134" y="210"/>
                </a:lnTo>
                <a:lnTo>
                  <a:pt x="103" y="212"/>
                </a:lnTo>
                <a:lnTo>
                  <a:pt x="70" y="212"/>
                </a:lnTo>
                <a:lnTo>
                  <a:pt x="36" y="212"/>
                </a:lnTo>
                <a:lnTo>
                  <a:pt x="0" y="212"/>
                </a:lnTo>
                <a:lnTo>
                  <a:pt x="0" y="88"/>
                </a:lnTo>
                <a:lnTo>
                  <a:pt x="48" y="88"/>
                </a:lnTo>
                <a:lnTo>
                  <a:pt x="93" y="86"/>
                </a:lnTo>
                <a:lnTo>
                  <a:pt x="139" y="84"/>
                </a:lnTo>
                <a:lnTo>
                  <a:pt x="182" y="79"/>
                </a:lnTo>
                <a:lnTo>
                  <a:pt x="227" y="69"/>
                </a:lnTo>
                <a:lnTo>
                  <a:pt x="270" y="60"/>
                </a:lnTo>
                <a:lnTo>
                  <a:pt x="291" y="55"/>
                </a:lnTo>
                <a:lnTo>
                  <a:pt x="313" y="48"/>
                </a:lnTo>
                <a:lnTo>
                  <a:pt x="334" y="43"/>
                </a:lnTo>
                <a:lnTo>
                  <a:pt x="353" y="34"/>
                </a:lnTo>
                <a:lnTo>
                  <a:pt x="372" y="26"/>
                </a:lnTo>
                <a:lnTo>
                  <a:pt x="391" y="22"/>
                </a:lnTo>
                <a:lnTo>
                  <a:pt x="410" y="15"/>
                </a:lnTo>
                <a:lnTo>
                  <a:pt x="427" y="10"/>
                </a:lnTo>
                <a:lnTo>
                  <a:pt x="444" y="7"/>
                </a:lnTo>
                <a:lnTo>
                  <a:pt x="458" y="5"/>
                </a:lnTo>
                <a:lnTo>
                  <a:pt x="472" y="3"/>
                </a:lnTo>
                <a:lnTo>
                  <a:pt x="487" y="0"/>
                </a:lnTo>
                <a:lnTo>
                  <a:pt x="501" y="0"/>
                </a:lnTo>
                <a:lnTo>
                  <a:pt x="513" y="3"/>
                </a:lnTo>
                <a:lnTo>
                  <a:pt x="525" y="3"/>
                </a:lnTo>
                <a:lnTo>
                  <a:pt x="534" y="5"/>
                </a:lnTo>
                <a:lnTo>
                  <a:pt x="544" y="7"/>
                </a:lnTo>
                <a:lnTo>
                  <a:pt x="553" y="12"/>
                </a:lnTo>
                <a:lnTo>
                  <a:pt x="563" y="15"/>
                </a:lnTo>
                <a:lnTo>
                  <a:pt x="570" y="22"/>
                </a:lnTo>
                <a:lnTo>
                  <a:pt x="577" y="29"/>
                </a:lnTo>
                <a:lnTo>
                  <a:pt x="584" y="36"/>
                </a:lnTo>
                <a:lnTo>
                  <a:pt x="596" y="50"/>
                </a:lnTo>
                <a:lnTo>
                  <a:pt x="606" y="62"/>
                </a:lnTo>
                <a:lnTo>
                  <a:pt x="613" y="72"/>
                </a:lnTo>
                <a:lnTo>
                  <a:pt x="618" y="81"/>
                </a:lnTo>
                <a:lnTo>
                  <a:pt x="622" y="91"/>
                </a:lnTo>
                <a:lnTo>
                  <a:pt x="622" y="98"/>
                </a:lnTo>
                <a:lnTo>
                  <a:pt x="625" y="10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5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0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5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00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5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0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15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20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25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6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1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Freeform 34"/>
          <p:cNvSpPr/>
          <p:nvPr/>
        </p:nvSpPr>
        <p:spPr>
          <a:xfrm>
            <a:off x="6848640" y="3441600"/>
            <a:ext cx="353880" cy="412920"/>
          </a:xfrm>
          <a:custGeom>
            <a:avLst/>
            <a:gdLst/>
            <a:ahLst/>
            <a:rect l="l" t="t" r="r" b="b"/>
            <a:pathLst>
              <a:path w="558" h="648">
                <a:moveTo>
                  <a:pt x="527" y="445"/>
                </a:moveTo>
                <a:lnTo>
                  <a:pt x="532" y="457"/>
                </a:lnTo>
                <a:lnTo>
                  <a:pt x="537" y="469"/>
                </a:lnTo>
                <a:lnTo>
                  <a:pt x="544" y="490"/>
                </a:lnTo>
                <a:lnTo>
                  <a:pt x="548" y="512"/>
                </a:lnTo>
                <a:lnTo>
                  <a:pt x="553" y="529"/>
                </a:lnTo>
                <a:lnTo>
                  <a:pt x="556" y="548"/>
                </a:lnTo>
                <a:lnTo>
                  <a:pt x="558" y="562"/>
                </a:lnTo>
                <a:lnTo>
                  <a:pt x="556" y="578"/>
                </a:lnTo>
                <a:lnTo>
                  <a:pt x="553" y="593"/>
                </a:lnTo>
                <a:lnTo>
                  <a:pt x="551" y="600"/>
                </a:lnTo>
                <a:lnTo>
                  <a:pt x="548" y="607"/>
                </a:lnTo>
                <a:lnTo>
                  <a:pt x="546" y="614"/>
                </a:lnTo>
                <a:lnTo>
                  <a:pt x="544" y="619"/>
                </a:lnTo>
                <a:lnTo>
                  <a:pt x="537" y="628"/>
                </a:lnTo>
                <a:lnTo>
                  <a:pt x="532" y="636"/>
                </a:lnTo>
                <a:lnTo>
                  <a:pt x="522" y="640"/>
                </a:lnTo>
                <a:lnTo>
                  <a:pt x="515" y="645"/>
                </a:lnTo>
                <a:lnTo>
                  <a:pt x="503" y="648"/>
                </a:lnTo>
                <a:lnTo>
                  <a:pt x="491" y="648"/>
                </a:lnTo>
                <a:lnTo>
                  <a:pt x="484" y="648"/>
                </a:lnTo>
                <a:lnTo>
                  <a:pt x="477" y="645"/>
                </a:lnTo>
                <a:lnTo>
                  <a:pt x="470" y="643"/>
                </a:lnTo>
                <a:lnTo>
                  <a:pt x="460" y="640"/>
                </a:lnTo>
                <a:lnTo>
                  <a:pt x="453" y="636"/>
                </a:lnTo>
                <a:lnTo>
                  <a:pt x="444" y="631"/>
                </a:lnTo>
                <a:lnTo>
                  <a:pt x="436" y="624"/>
                </a:lnTo>
                <a:lnTo>
                  <a:pt x="427" y="617"/>
                </a:lnTo>
                <a:lnTo>
                  <a:pt x="417" y="607"/>
                </a:lnTo>
                <a:lnTo>
                  <a:pt x="408" y="598"/>
                </a:lnTo>
                <a:lnTo>
                  <a:pt x="398" y="586"/>
                </a:lnTo>
                <a:lnTo>
                  <a:pt x="386" y="574"/>
                </a:lnTo>
                <a:lnTo>
                  <a:pt x="377" y="559"/>
                </a:lnTo>
                <a:lnTo>
                  <a:pt x="367" y="545"/>
                </a:lnTo>
                <a:lnTo>
                  <a:pt x="355" y="529"/>
                </a:lnTo>
                <a:lnTo>
                  <a:pt x="343" y="512"/>
                </a:lnTo>
                <a:lnTo>
                  <a:pt x="320" y="481"/>
                </a:lnTo>
                <a:lnTo>
                  <a:pt x="296" y="448"/>
                </a:lnTo>
                <a:lnTo>
                  <a:pt x="270" y="414"/>
                </a:lnTo>
                <a:lnTo>
                  <a:pt x="243" y="379"/>
                </a:lnTo>
                <a:lnTo>
                  <a:pt x="215" y="340"/>
                </a:lnTo>
                <a:lnTo>
                  <a:pt x="186" y="300"/>
                </a:lnTo>
                <a:lnTo>
                  <a:pt x="170" y="281"/>
                </a:lnTo>
                <a:lnTo>
                  <a:pt x="155" y="260"/>
                </a:lnTo>
                <a:lnTo>
                  <a:pt x="139" y="236"/>
                </a:lnTo>
                <a:lnTo>
                  <a:pt x="124" y="214"/>
                </a:lnTo>
                <a:lnTo>
                  <a:pt x="108" y="193"/>
                </a:lnTo>
                <a:lnTo>
                  <a:pt x="93" y="172"/>
                </a:lnTo>
                <a:lnTo>
                  <a:pt x="81" y="150"/>
                </a:lnTo>
                <a:lnTo>
                  <a:pt x="67" y="133"/>
                </a:lnTo>
                <a:lnTo>
                  <a:pt x="55" y="114"/>
                </a:lnTo>
                <a:lnTo>
                  <a:pt x="46" y="100"/>
                </a:lnTo>
                <a:lnTo>
                  <a:pt x="36" y="86"/>
                </a:lnTo>
                <a:lnTo>
                  <a:pt x="27" y="72"/>
                </a:lnTo>
                <a:lnTo>
                  <a:pt x="19" y="60"/>
                </a:lnTo>
                <a:lnTo>
                  <a:pt x="12" y="48"/>
                </a:lnTo>
                <a:lnTo>
                  <a:pt x="8" y="38"/>
                </a:lnTo>
                <a:lnTo>
                  <a:pt x="3" y="31"/>
                </a:lnTo>
                <a:lnTo>
                  <a:pt x="0" y="24"/>
                </a:lnTo>
                <a:lnTo>
                  <a:pt x="0" y="19"/>
                </a:lnTo>
                <a:lnTo>
                  <a:pt x="0" y="14"/>
                </a:lnTo>
                <a:lnTo>
                  <a:pt x="0" y="10"/>
                </a:lnTo>
                <a:lnTo>
                  <a:pt x="8" y="7"/>
                </a:lnTo>
                <a:lnTo>
                  <a:pt x="12" y="3"/>
                </a:lnTo>
                <a:lnTo>
                  <a:pt x="22" y="0"/>
                </a:lnTo>
                <a:lnTo>
                  <a:pt x="31" y="0"/>
                </a:lnTo>
                <a:lnTo>
                  <a:pt x="41" y="0"/>
                </a:lnTo>
                <a:lnTo>
                  <a:pt x="55" y="3"/>
                </a:lnTo>
                <a:lnTo>
                  <a:pt x="69" y="7"/>
                </a:lnTo>
                <a:lnTo>
                  <a:pt x="86" y="10"/>
                </a:lnTo>
                <a:lnTo>
                  <a:pt x="96" y="14"/>
                </a:lnTo>
                <a:lnTo>
                  <a:pt x="108" y="17"/>
                </a:lnTo>
                <a:lnTo>
                  <a:pt x="120" y="22"/>
                </a:lnTo>
                <a:lnTo>
                  <a:pt x="131" y="29"/>
                </a:lnTo>
                <a:lnTo>
                  <a:pt x="143" y="36"/>
                </a:lnTo>
                <a:lnTo>
                  <a:pt x="158" y="43"/>
                </a:lnTo>
                <a:lnTo>
                  <a:pt x="172" y="53"/>
                </a:lnTo>
                <a:lnTo>
                  <a:pt x="186" y="62"/>
                </a:lnTo>
                <a:lnTo>
                  <a:pt x="203" y="72"/>
                </a:lnTo>
                <a:lnTo>
                  <a:pt x="220" y="83"/>
                </a:lnTo>
                <a:lnTo>
                  <a:pt x="236" y="95"/>
                </a:lnTo>
                <a:lnTo>
                  <a:pt x="255" y="110"/>
                </a:lnTo>
                <a:lnTo>
                  <a:pt x="272" y="124"/>
                </a:lnTo>
                <a:lnTo>
                  <a:pt x="291" y="141"/>
                </a:lnTo>
                <a:lnTo>
                  <a:pt x="313" y="155"/>
                </a:lnTo>
                <a:lnTo>
                  <a:pt x="332" y="174"/>
                </a:lnTo>
                <a:lnTo>
                  <a:pt x="353" y="193"/>
                </a:lnTo>
                <a:lnTo>
                  <a:pt x="372" y="214"/>
                </a:lnTo>
                <a:lnTo>
                  <a:pt x="389" y="233"/>
                </a:lnTo>
                <a:lnTo>
                  <a:pt x="408" y="252"/>
                </a:lnTo>
                <a:lnTo>
                  <a:pt x="422" y="271"/>
                </a:lnTo>
                <a:lnTo>
                  <a:pt x="439" y="291"/>
                </a:lnTo>
                <a:lnTo>
                  <a:pt x="453" y="307"/>
                </a:lnTo>
                <a:lnTo>
                  <a:pt x="465" y="324"/>
                </a:lnTo>
                <a:lnTo>
                  <a:pt x="479" y="340"/>
                </a:lnTo>
                <a:lnTo>
                  <a:pt x="489" y="357"/>
                </a:lnTo>
                <a:lnTo>
                  <a:pt x="498" y="374"/>
                </a:lnTo>
                <a:lnTo>
                  <a:pt x="508" y="388"/>
                </a:lnTo>
                <a:lnTo>
                  <a:pt x="515" y="405"/>
                </a:lnTo>
                <a:lnTo>
                  <a:pt x="520" y="419"/>
                </a:lnTo>
                <a:lnTo>
                  <a:pt x="525" y="431"/>
                </a:lnTo>
                <a:lnTo>
                  <a:pt x="527" y="445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似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TextBox 3"/>
          <p:cNvSpPr/>
          <p:nvPr/>
        </p:nvSpPr>
        <p:spPr>
          <a:xfrm>
            <a:off x="1384200" y="2027160"/>
            <a:ext cx="95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sì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4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955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6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7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8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9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0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1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2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3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4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5" name="TextBox 15"/>
          <p:cNvSpPr/>
          <p:nvPr/>
        </p:nvSpPr>
        <p:spPr>
          <a:xfrm>
            <a:off x="4619520" y="4857840"/>
            <a:ext cx="405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中间是竖提和点，要小些，人字最后一笔捺变为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TextBox 16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TextBox 17"/>
          <p:cNvSpPr/>
          <p:nvPr/>
        </p:nvSpPr>
        <p:spPr>
          <a:xfrm>
            <a:off x="8985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类似  似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TextBox 18"/>
          <p:cNvSpPr/>
          <p:nvPr/>
        </p:nvSpPr>
        <p:spPr>
          <a:xfrm>
            <a:off x="857160" y="4943520"/>
            <a:ext cx="364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这俩小姐妹长得非常相似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  <a:ea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Rectangle 27"/>
          <p:cNvSpPr/>
          <p:nvPr/>
        </p:nvSpPr>
        <p:spPr>
          <a:xfrm>
            <a:off x="5363640" y="221760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Freeform 30"/>
          <p:cNvSpPr/>
          <p:nvPr/>
        </p:nvSpPr>
        <p:spPr>
          <a:xfrm>
            <a:off x="5380200" y="2208240"/>
            <a:ext cx="653760" cy="1079640"/>
          </a:xfrm>
          <a:custGeom>
            <a:avLst/>
            <a:gdLst/>
            <a:ahLst/>
            <a:rect l="l" t="t" r="r" b="b"/>
            <a:pathLst>
              <a:path w="1029" h="1701">
                <a:moveTo>
                  <a:pt x="2" y="1697"/>
                </a:moveTo>
                <a:lnTo>
                  <a:pt x="0" y="1692"/>
                </a:lnTo>
                <a:lnTo>
                  <a:pt x="2" y="1682"/>
                </a:lnTo>
                <a:lnTo>
                  <a:pt x="4" y="1673"/>
                </a:lnTo>
                <a:lnTo>
                  <a:pt x="9" y="1661"/>
                </a:lnTo>
                <a:lnTo>
                  <a:pt x="16" y="1649"/>
                </a:lnTo>
                <a:lnTo>
                  <a:pt x="24" y="1632"/>
                </a:lnTo>
                <a:lnTo>
                  <a:pt x="33" y="1616"/>
                </a:lnTo>
                <a:lnTo>
                  <a:pt x="45" y="1597"/>
                </a:lnTo>
                <a:lnTo>
                  <a:pt x="59" y="1578"/>
                </a:lnTo>
                <a:lnTo>
                  <a:pt x="74" y="1556"/>
                </a:lnTo>
                <a:lnTo>
                  <a:pt x="90" y="1530"/>
                </a:lnTo>
                <a:lnTo>
                  <a:pt x="109" y="1506"/>
                </a:lnTo>
                <a:lnTo>
                  <a:pt x="128" y="1478"/>
                </a:lnTo>
                <a:lnTo>
                  <a:pt x="150" y="1449"/>
                </a:lnTo>
                <a:lnTo>
                  <a:pt x="174" y="1418"/>
                </a:lnTo>
                <a:lnTo>
                  <a:pt x="197" y="1385"/>
                </a:lnTo>
                <a:lnTo>
                  <a:pt x="247" y="1318"/>
                </a:lnTo>
                <a:lnTo>
                  <a:pt x="295" y="1249"/>
                </a:lnTo>
                <a:lnTo>
                  <a:pt x="343" y="1180"/>
                </a:lnTo>
                <a:lnTo>
                  <a:pt x="390" y="1109"/>
                </a:lnTo>
                <a:lnTo>
                  <a:pt x="436" y="1035"/>
                </a:lnTo>
                <a:lnTo>
                  <a:pt x="481" y="961"/>
                </a:lnTo>
                <a:lnTo>
                  <a:pt x="502" y="923"/>
                </a:lnTo>
                <a:lnTo>
                  <a:pt x="524" y="883"/>
                </a:lnTo>
                <a:lnTo>
                  <a:pt x="545" y="842"/>
                </a:lnTo>
                <a:lnTo>
                  <a:pt x="564" y="802"/>
                </a:lnTo>
                <a:lnTo>
                  <a:pt x="583" y="764"/>
                </a:lnTo>
                <a:lnTo>
                  <a:pt x="603" y="723"/>
                </a:lnTo>
                <a:lnTo>
                  <a:pt x="622" y="685"/>
                </a:lnTo>
                <a:lnTo>
                  <a:pt x="638" y="647"/>
                </a:lnTo>
                <a:lnTo>
                  <a:pt x="653" y="611"/>
                </a:lnTo>
                <a:lnTo>
                  <a:pt x="669" y="576"/>
                </a:lnTo>
                <a:lnTo>
                  <a:pt x="684" y="542"/>
                </a:lnTo>
                <a:lnTo>
                  <a:pt x="695" y="509"/>
                </a:lnTo>
                <a:lnTo>
                  <a:pt x="707" y="478"/>
                </a:lnTo>
                <a:lnTo>
                  <a:pt x="719" y="447"/>
                </a:lnTo>
                <a:lnTo>
                  <a:pt x="731" y="419"/>
                </a:lnTo>
                <a:lnTo>
                  <a:pt x="741" y="390"/>
                </a:lnTo>
                <a:lnTo>
                  <a:pt x="750" y="361"/>
                </a:lnTo>
                <a:lnTo>
                  <a:pt x="757" y="335"/>
                </a:lnTo>
                <a:lnTo>
                  <a:pt x="767" y="311"/>
                </a:lnTo>
                <a:lnTo>
                  <a:pt x="772" y="288"/>
                </a:lnTo>
                <a:lnTo>
                  <a:pt x="779" y="266"/>
                </a:lnTo>
                <a:lnTo>
                  <a:pt x="784" y="245"/>
                </a:lnTo>
                <a:lnTo>
                  <a:pt x="788" y="226"/>
                </a:lnTo>
                <a:lnTo>
                  <a:pt x="793" y="207"/>
                </a:lnTo>
                <a:lnTo>
                  <a:pt x="798" y="188"/>
                </a:lnTo>
                <a:lnTo>
                  <a:pt x="800" y="171"/>
                </a:lnTo>
                <a:lnTo>
                  <a:pt x="803" y="157"/>
                </a:lnTo>
                <a:lnTo>
                  <a:pt x="803" y="142"/>
                </a:lnTo>
                <a:lnTo>
                  <a:pt x="805" y="128"/>
                </a:lnTo>
                <a:lnTo>
                  <a:pt x="805" y="116"/>
                </a:lnTo>
                <a:lnTo>
                  <a:pt x="805" y="104"/>
                </a:lnTo>
                <a:lnTo>
                  <a:pt x="803" y="92"/>
                </a:lnTo>
                <a:lnTo>
                  <a:pt x="803" y="83"/>
                </a:lnTo>
                <a:lnTo>
                  <a:pt x="800" y="73"/>
                </a:lnTo>
                <a:lnTo>
                  <a:pt x="800" y="66"/>
                </a:lnTo>
                <a:lnTo>
                  <a:pt x="798" y="57"/>
                </a:lnTo>
                <a:lnTo>
                  <a:pt x="793" y="52"/>
                </a:lnTo>
                <a:lnTo>
                  <a:pt x="788" y="47"/>
                </a:lnTo>
                <a:lnTo>
                  <a:pt x="786" y="43"/>
                </a:lnTo>
                <a:lnTo>
                  <a:pt x="784" y="40"/>
                </a:lnTo>
                <a:lnTo>
                  <a:pt x="781" y="35"/>
                </a:lnTo>
                <a:lnTo>
                  <a:pt x="781" y="33"/>
                </a:lnTo>
                <a:lnTo>
                  <a:pt x="781" y="28"/>
                </a:lnTo>
                <a:lnTo>
                  <a:pt x="781" y="26"/>
                </a:lnTo>
                <a:lnTo>
                  <a:pt x="781" y="21"/>
                </a:lnTo>
                <a:lnTo>
                  <a:pt x="784" y="19"/>
                </a:lnTo>
                <a:lnTo>
                  <a:pt x="786" y="16"/>
                </a:lnTo>
                <a:lnTo>
                  <a:pt x="788" y="14"/>
                </a:lnTo>
                <a:lnTo>
                  <a:pt x="793" y="12"/>
                </a:lnTo>
                <a:lnTo>
                  <a:pt x="798" y="9"/>
                </a:lnTo>
                <a:lnTo>
                  <a:pt x="803" y="7"/>
                </a:lnTo>
                <a:lnTo>
                  <a:pt x="810" y="2"/>
                </a:lnTo>
                <a:lnTo>
                  <a:pt x="817" y="2"/>
                </a:lnTo>
                <a:lnTo>
                  <a:pt x="824" y="0"/>
                </a:lnTo>
                <a:lnTo>
                  <a:pt x="831" y="0"/>
                </a:lnTo>
                <a:lnTo>
                  <a:pt x="838" y="0"/>
                </a:lnTo>
                <a:lnTo>
                  <a:pt x="846" y="2"/>
                </a:lnTo>
                <a:lnTo>
                  <a:pt x="853" y="4"/>
                </a:lnTo>
                <a:lnTo>
                  <a:pt x="860" y="7"/>
                </a:lnTo>
                <a:lnTo>
                  <a:pt x="867" y="12"/>
                </a:lnTo>
                <a:lnTo>
                  <a:pt x="877" y="16"/>
                </a:lnTo>
                <a:lnTo>
                  <a:pt x="884" y="21"/>
                </a:lnTo>
                <a:lnTo>
                  <a:pt x="893" y="28"/>
                </a:lnTo>
                <a:lnTo>
                  <a:pt x="903" y="35"/>
                </a:lnTo>
                <a:lnTo>
                  <a:pt x="912" y="43"/>
                </a:lnTo>
                <a:lnTo>
                  <a:pt x="922" y="52"/>
                </a:lnTo>
                <a:lnTo>
                  <a:pt x="934" y="62"/>
                </a:lnTo>
                <a:lnTo>
                  <a:pt x="943" y="71"/>
                </a:lnTo>
                <a:lnTo>
                  <a:pt x="955" y="83"/>
                </a:lnTo>
                <a:lnTo>
                  <a:pt x="965" y="95"/>
                </a:lnTo>
                <a:lnTo>
                  <a:pt x="974" y="107"/>
                </a:lnTo>
                <a:lnTo>
                  <a:pt x="984" y="116"/>
                </a:lnTo>
                <a:lnTo>
                  <a:pt x="991" y="128"/>
                </a:lnTo>
                <a:lnTo>
                  <a:pt x="998" y="138"/>
                </a:lnTo>
                <a:lnTo>
                  <a:pt x="1005" y="147"/>
                </a:lnTo>
                <a:lnTo>
                  <a:pt x="1010" y="157"/>
                </a:lnTo>
                <a:lnTo>
                  <a:pt x="1015" y="164"/>
                </a:lnTo>
                <a:lnTo>
                  <a:pt x="1020" y="173"/>
                </a:lnTo>
                <a:lnTo>
                  <a:pt x="1022" y="181"/>
                </a:lnTo>
                <a:lnTo>
                  <a:pt x="1024" y="190"/>
                </a:lnTo>
                <a:lnTo>
                  <a:pt x="1027" y="197"/>
                </a:lnTo>
                <a:lnTo>
                  <a:pt x="1029" y="204"/>
                </a:lnTo>
                <a:lnTo>
                  <a:pt x="1029" y="211"/>
                </a:lnTo>
                <a:lnTo>
                  <a:pt x="1029" y="221"/>
                </a:lnTo>
                <a:lnTo>
                  <a:pt x="1029" y="223"/>
                </a:lnTo>
                <a:lnTo>
                  <a:pt x="1029" y="228"/>
                </a:lnTo>
                <a:lnTo>
                  <a:pt x="1027" y="235"/>
                </a:lnTo>
                <a:lnTo>
                  <a:pt x="1027" y="240"/>
                </a:lnTo>
                <a:lnTo>
                  <a:pt x="1024" y="247"/>
                </a:lnTo>
                <a:lnTo>
                  <a:pt x="1022" y="254"/>
                </a:lnTo>
                <a:lnTo>
                  <a:pt x="1020" y="261"/>
                </a:lnTo>
                <a:lnTo>
                  <a:pt x="1015" y="271"/>
                </a:lnTo>
                <a:lnTo>
                  <a:pt x="1012" y="281"/>
                </a:lnTo>
                <a:lnTo>
                  <a:pt x="1008" y="290"/>
                </a:lnTo>
                <a:lnTo>
                  <a:pt x="1003" y="300"/>
                </a:lnTo>
                <a:lnTo>
                  <a:pt x="998" y="311"/>
                </a:lnTo>
                <a:lnTo>
                  <a:pt x="993" y="323"/>
                </a:lnTo>
                <a:lnTo>
                  <a:pt x="989" y="338"/>
                </a:lnTo>
                <a:lnTo>
                  <a:pt x="981" y="350"/>
                </a:lnTo>
                <a:lnTo>
                  <a:pt x="974" y="364"/>
                </a:lnTo>
                <a:lnTo>
                  <a:pt x="969" y="378"/>
                </a:lnTo>
                <a:lnTo>
                  <a:pt x="962" y="392"/>
                </a:lnTo>
                <a:lnTo>
                  <a:pt x="953" y="409"/>
                </a:lnTo>
                <a:lnTo>
                  <a:pt x="946" y="426"/>
                </a:lnTo>
                <a:lnTo>
                  <a:pt x="939" y="445"/>
                </a:lnTo>
                <a:lnTo>
                  <a:pt x="929" y="461"/>
                </a:lnTo>
                <a:lnTo>
                  <a:pt x="919" y="480"/>
                </a:lnTo>
                <a:lnTo>
                  <a:pt x="910" y="499"/>
                </a:lnTo>
                <a:lnTo>
                  <a:pt x="900" y="521"/>
                </a:lnTo>
                <a:lnTo>
                  <a:pt x="891" y="540"/>
                </a:lnTo>
                <a:lnTo>
                  <a:pt x="879" y="561"/>
                </a:lnTo>
                <a:lnTo>
                  <a:pt x="869" y="585"/>
                </a:lnTo>
                <a:lnTo>
                  <a:pt x="857" y="607"/>
                </a:lnTo>
                <a:lnTo>
                  <a:pt x="846" y="630"/>
                </a:lnTo>
                <a:lnTo>
                  <a:pt x="834" y="657"/>
                </a:lnTo>
                <a:lnTo>
                  <a:pt x="822" y="680"/>
                </a:lnTo>
                <a:lnTo>
                  <a:pt x="798" y="733"/>
                </a:lnTo>
                <a:lnTo>
                  <a:pt x="772" y="783"/>
                </a:lnTo>
                <a:lnTo>
                  <a:pt x="748" y="830"/>
                </a:lnTo>
                <a:lnTo>
                  <a:pt x="724" y="878"/>
                </a:lnTo>
                <a:lnTo>
                  <a:pt x="700" y="921"/>
                </a:lnTo>
                <a:lnTo>
                  <a:pt x="676" y="964"/>
                </a:lnTo>
                <a:lnTo>
                  <a:pt x="653" y="1002"/>
                </a:lnTo>
                <a:lnTo>
                  <a:pt x="631" y="1040"/>
                </a:lnTo>
                <a:lnTo>
                  <a:pt x="610" y="1075"/>
                </a:lnTo>
                <a:lnTo>
                  <a:pt x="586" y="1109"/>
                </a:lnTo>
                <a:lnTo>
                  <a:pt x="564" y="1142"/>
                </a:lnTo>
                <a:lnTo>
                  <a:pt x="545" y="1173"/>
                </a:lnTo>
                <a:lnTo>
                  <a:pt x="524" y="1202"/>
                </a:lnTo>
                <a:lnTo>
                  <a:pt x="505" y="1228"/>
                </a:lnTo>
                <a:lnTo>
                  <a:pt x="486" y="1254"/>
                </a:lnTo>
                <a:lnTo>
                  <a:pt x="467" y="1278"/>
                </a:lnTo>
                <a:lnTo>
                  <a:pt x="426" y="1323"/>
                </a:lnTo>
                <a:lnTo>
                  <a:pt x="386" y="1366"/>
                </a:lnTo>
                <a:lnTo>
                  <a:pt x="348" y="1409"/>
                </a:lnTo>
                <a:lnTo>
                  <a:pt x="309" y="1449"/>
                </a:lnTo>
                <a:lnTo>
                  <a:pt x="271" y="1487"/>
                </a:lnTo>
                <a:lnTo>
                  <a:pt x="233" y="1523"/>
                </a:lnTo>
                <a:lnTo>
                  <a:pt x="197" y="1556"/>
                </a:lnTo>
                <a:lnTo>
                  <a:pt x="162" y="1590"/>
                </a:lnTo>
                <a:lnTo>
                  <a:pt x="143" y="1606"/>
                </a:lnTo>
                <a:lnTo>
                  <a:pt x="126" y="1620"/>
                </a:lnTo>
                <a:lnTo>
                  <a:pt x="112" y="1635"/>
                </a:lnTo>
                <a:lnTo>
                  <a:pt x="97" y="1649"/>
                </a:lnTo>
                <a:lnTo>
                  <a:pt x="83" y="1659"/>
                </a:lnTo>
                <a:lnTo>
                  <a:pt x="71" y="1668"/>
                </a:lnTo>
                <a:lnTo>
                  <a:pt x="59" y="1678"/>
                </a:lnTo>
                <a:lnTo>
                  <a:pt x="50" y="1685"/>
                </a:lnTo>
                <a:lnTo>
                  <a:pt x="40" y="1689"/>
                </a:lnTo>
                <a:lnTo>
                  <a:pt x="33" y="1694"/>
                </a:lnTo>
                <a:lnTo>
                  <a:pt x="24" y="1697"/>
                </a:lnTo>
                <a:lnTo>
                  <a:pt x="19" y="1699"/>
                </a:lnTo>
                <a:lnTo>
                  <a:pt x="12" y="1701"/>
                </a:lnTo>
                <a:lnTo>
                  <a:pt x="9" y="1701"/>
                </a:lnTo>
                <a:lnTo>
                  <a:pt x="4" y="1699"/>
                </a:lnTo>
                <a:lnTo>
                  <a:pt x="2" y="169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Freeform 31"/>
          <p:cNvSpPr/>
          <p:nvPr/>
        </p:nvSpPr>
        <p:spPr>
          <a:xfrm>
            <a:off x="5753160" y="2751120"/>
            <a:ext cx="137880" cy="1231920"/>
          </a:xfrm>
          <a:custGeom>
            <a:avLst/>
            <a:gdLst/>
            <a:ahLst/>
            <a:rect l="l" t="t" r="r" b="b"/>
            <a:pathLst>
              <a:path w="217" h="1940">
                <a:moveTo>
                  <a:pt x="38" y="1816"/>
                </a:moveTo>
                <a:lnTo>
                  <a:pt x="34" y="1802"/>
                </a:lnTo>
                <a:lnTo>
                  <a:pt x="29" y="1788"/>
                </a:lnTo>
                <a:lnTo>
                  <a:pt x="26" y="1774"/>
                </a:lnTo>
                <a:lnTo>
                  <a:pt x="22" y="1762"/>
                </a:lnTo>
                <a:lnTo>
                  <a:pt x="17" y="1736"/>
                </a:lnTo>
                <a:lnTo>
                  <a:pt x="10" y="1714"/>
                </a:lnTo>
                <a:lnTo>
                  <a:pt x="7" y="1693"/>
                </a:lnTo>
                <a:lnTo>
                  <a:pt x="3" y="1674"/>
                </a:lnTo>
                <a:lnTo>
                  <a:pt x="3" y="1657"/>
                </a:lnTo>
                <a:lnTo>
                  <a:pt x="0" y="1640"/>
                </a:lnTo>
                <a:lnTo>
                  <a:pt x="0" y="1633"/>
                </a:lnTo>
                <a:lnTo>
                  <a:pt x="3" y="1624"/>
                </a:lnTo>
                <a:lnTo>
                  <a:pt x="3" y="1612"/>
                </a:lnTo>
                <a:lnTo>
                  <a:pt x="3" y="1597"/>
                </a:lnTo>
                <a:lnTo>
                  <a:pt x="5" y="1583"/>
                </a:lnTo>
                <a:lnTo>
                  <a:pt x="7" y="1567"/>
                </a:lnTo>
                <a:lnTo>
                  <a:pt x="7" y="1547"/>
                </a:lnTo>
                <a:lnTo>
                  <a:pt x="10" y="1528"/>
                </a:lnTo>
                <a:lnTo>
                  <a:pt x="12" y="1505"/>
                </a:lnTo>
                <a:lnTo>
                  <a:pt x="17" y="1481"/>
                </a:lnTo>
                <a:lnTo>
                  <a:pt x="19" y="1457"/>
                </a:lnTo>
                <a:lnTo>
                  <a:pt x="22" y="1428"/>
                </a:lnTo>
                <a:lnTo>
                  <a:pt x="26" y="1400"/>
                </a:lnTo>
                <a:lnTo>
                  <a:pt x="29" y="1369"/>
                </a:lnTo>
                <a:lnTo>
                  <a:pt x="34" y="1336"/>
                </a:lnTo>
                <a:lnTo>
                  <a:pt x="38" y="1302"/>
                </a:lnTo>
                <a:lnTo>
                  <a:pt x="46" y="1231"/>
                </a:lnTo>
                <a:lnTo>
                  <a:pt x="53" y="1157"/>
                </a:lnTo>
                <a:lnTo>
                  <a:pt x="60" y="1083"/>
                </a:lnTo>
                <a:lnTo>
                  <a:pt x="65" y="1010"/>
                </a:lnTo>
                <a:lnTo>
                  <a:pt x="69" y="933"/>
                </a:lnTo>
                <a:lnTo>
                  <a:pt x="72" y="857"/>
                </a:lnTo>
                <a:lnTo>
                  <a:pt x="74" y="781"/>
                </a:lnTo>
                <a:lnTo>
                  <a:pt x="74" y="705"/>
                </a:lnTo>
                <a:lnTo>
                  <a:pt x="74" y="667"/>
                </a:lnTo>
                <a:lnTo>
                  <a:pt x="74" y="629"/>
                </a:lnTo>
                <a:lnTo>
                  <a:pt x="72" y="588"/>
                </a:lnTo>
                <a:lnTo>
                  <a:pt x="69" y="545"/>
                </a:lnTo>
                <a:lnTo>
                  <a:pt x="67" y="505"/>
                </a:lnTo>
                <a:lnTo>
                  <a:pt x="65" y="462"/>
                </a:lnTo>
                <a:lnTo>
                  <a:pt x="62" y="417"/>
                </a:lnTo>
                <a:lnTo>
                  <a:pt x="57" y="374"/>
                </a:lnTo>
                <a:lnTo>
                  <a:pt x="53" y="329"/>
                </a:lnTo>
                <a:lnTo>
                  <a:pt x="48" y="284"/>
                </a:lnTo>
                <a:lnTo>
                  <a:pt x="38" y="191"/>
                </a:lnTo>
                <a:lnTo>
                  <a:pt x="26" y="98"/>
                </a:lnTo>
                <a:lnTo>
                  <a:pt x="15" y="0"/>
                </a:lnTo>
                <a:lnTo>
                  <a:pt x="41" y="17"/>
                </a:lnTo>
                <a:lnTo>
                  <a:pt x="65" y="31"/>
                </a:lnTo>
                <a:lnTo>
                  <a:pt x="86" y="46"/>
                </a:lnTo>
                <a:lnTo>
                  <a:pt x="105" y="60"/>
                </a:lnTo>
                <a:lnTo>
                  <a:pt x="122" y="74"/>
                </a:lnTo>
                <a:lnTo>
                  <a:pt x="138" y="86"/>
                </a:lnTo>
                <a:lnTo>
                  <a:pt x="150" y="98"/>
                </a:lnTo>
                <a:lnTo>
                  <a:pt x="160" y="110"/>
                </a:lnTo>
                <a:lnTo>
                  <a:pt x="169" y="127"/>
                </a:lnTo>
                <a:lnTo>
                  <a:pt x="177" y="143"/>
                </a:lnTo>
                <a:lnTo>
                  <a:pt x="184" y="162"/>
                </a:lnTo>
                <a:lnTo>
                  <a:pt x="186" y="172"/>
                </a:lnTo>
                <a:lnTo>
                  <a:pt x="188" y="184"/>
                </a:lnTo>
                <a:lnTo>
                  <a:pt x="193" y="196"/>
                </a:lnTo>
                <a:lnTo>
                  <a:pt x="196" y="208"/>
                </a:lnTo>
                <a:lnTo>
                  <a:pt x="198" y="222"/>
                </a:lnTo>
                <a:lnTo>
                  <a:pt x="200" y="236"/>
                </a:lnTo>
                <a:lnTo>
                  <a:pt x="203" y="250"/>
                </a:lnTo>
                <a:lnTo>
                  <a:pt x="205" y="265"/>
                </a:lnTo>
                <a:lnTo>
                  <a:pt x="208" y="281"/>
                </a:lnTo>
                <a:lnTo>
                  <a:pt x="210" y="300"/>
                </a:lnTo>
                <a:lnTo>
                  <a:pt x="212" y="317"/>
                </a:lnTo>
                <a:lnTo>
                  <a:pt x="212" y="338"/>
                </a:lnTo>
                <a:lnTo>
                  <a:pt x="215" y="360"/>
                </a:lnTo>
                <a:lnTo>
                  <a:pt x="217" y="384"/>
                </a:lnTo>
                <a:lnTo>
                  <a:pt x="217" y="410"/>
                </a:lnTo>
                <a:lnTo>
                  <a:pt x="217" y="436"/>
                </a:lnTo>
                <a:lnTo>
                  <a:pt x="217" y="465"/>
                </a:lnTo>
                <a:lnTo>
                  <a:pt x="217" y="496"/>
                </a:lnTo>
                <a:lnTo>
                  <a:pt x="217" y="529"/>
                </a:lnTo>
                <a:lnTo>
                  <a:pt x="217" y="562"/>
                </a:lnTo>
                <a:lnTo>
                  <a:pt x="217" y="600"/>
                </a:lnTo>
                <a:lnTo>
                  <a:pt x="217" y="638"/>
                </a:lnTo>
                <a:lnTo>
                  <a:pt x="215" y="679"/>
                </a:lnTo>
                <a:lnTo>
                  <a:pt x="212" y="722"/>
                </a:lnTo>
                <a:lnTo>
                  <a:pt x="212" y="767"/>
                </a:lnTo>
                <a:lnTo>
                  <a:pt x="210" y="814"/>
                </a:lnTo>
                <a:lnTo>
                  <a:pt x="205" y="910"/>
                </a:lnTo>
                <a:lnTo>
                  <a:pt x="203" y="1005"/>
                </a:lnTo>
                <a:lnTo>
                  <a:pt x="200" y="1100"/>
                </a:lnTo>
                <a:lnTo>
                  <a:pt x="198" y="1193"/>
                </a:lnTo>
                <a:lnTo>
                  <a:pt x="196" y="1283"/>
                </a:lnTo>
                <a:lnTo>
                  <a:pt x="191" y="1376"/>
                </a:lnTo>
                <a:lnTo>
                  <a:pt x="188" y="1469"/>
                </a:lnTo>
                <a:lnTo>
                  <a:pt x="184" y="1559"/>
                </a:lnTo>
                <a:lnTo>
                  <a:pt x="184" y="1583"/>
                </a:lnTo>
                <a:lnTo>
                  <a:pt x="181" y="1607"/>
                </a:lnTo>
                <a:lnTo>
                  <a:pt x="181" y="1628"/>
                </a:lnTo>
                <a:lnTo>
                  <a:pt x="179" y="1650"/>
                </a:lnTo>
                <a:lnTo>
                  <a:pt x="179" y="1671"/>
                </a:lnTo>
                <a:lnTo>
                  <a:pt x="177" y="1690"/>
                </a:lnTo>
                <a:lnTo>
                  <a:pt x="174" y="1709"/>
                </a:lnTo>
                <a:lnTo>
                  <a:pt x="174" y="1728"/>
                </a:lnTo>
                <a:lnTo>
                  <a:pt x="172" y="1745"/>
                </a:lnTo>
                <a:lnTo>
                  <a:pt x="169" y="1762"/>
                </a:lnTo>
                <a:lnTo>
                  <a:pt x="169" y="1778"/>
                </a:lnTo>
                <a:lnTo>
                  <a:pt x="167" y="1793"/>
                </a:lnTo>
                <a:lnTo>
                  <a:pt x="165" y="1807"/>
                </a:lnTo>
                <a:lnTo>
                  <a:pt x="162" y="1821"/>
                </a:lnTo>
                <a:lnTo>
                  <a:pt x="160" y="1833"/>
                </a:lnTo>
                <a:lnTo>
                  <a:pt x="160" y="1845"/>
                </a:lnTo>
                <a:lnTo>
                  <a:pt x="157" y="1857"/>
                </a:lnTo>
                <a:lnTo>
                  <a:pt x="155" y="1869"/>
                </a:lnTo>
                <a:lnTo>
                  <a:pt x="153" y="1878"/>
                </a:lnTo>
                <a:lnTo>
                  <a:pt x="150" y="1888"/>
                </a:lnTo>
                <a:lnTo>
                  <a:pt x="148" y="1895"/>
                </a:lnTo>
                <a:lnTo>
                  <a:pt x="146" y="1902"/>
                </a:lnTo>
                <a:lnTo>
                  <a:pt x="143" y="1909"/>
                </a:lnTo>
                <a:lnTo>
                  <a:pt x="141" y="1916"/>
                </a:lnTo>
                <a:lnTo>
                  <a:pt x="138" y="1921"/>
                </a:lnTo>
                <a:lnTo>
                  <a:pt x="138" y="1926"/>
                </a:lnTo>
                <a:lnTo>
                  <a:pt x="136" y="1931"/>
                </a:lnTo>
                <a:lnTo>
                  <a:pt x="134" y="1933"/>
                </a:lnTo>
                <a:lnTo>
                  <a:pt x="131" y="1935"/>
                </a:lnTo>
                <a:lnTo>
                  <a:pt x="129" y="1938"/>
                </a:lnTo>
                <a:lnTo>
                  <a:pt x="127" y="1938"/>
                </a:lnTo>
                <a:lnTo>
                  <a:pt x="124" y="1940"/>
                </a:lnTo>
                <a:lnTo>
                  <a:pt x="119" y="1935"/>
                </a:lnTo>
                <a:lnTo>
                  <a:pt x="115" y="1933"/>
                </a:lnTo>
                <a:lnTo>
                  <a:pt x="110" y="1928"/>
                </a:lnTo>
                <a:lnTo>
                  <a:pt x="105" y="1924"/>
                </a:lnTo>
                <a:lnTo>
                  <a:pt x="100" y="1919"/>
                </a:lnTo>
                <a:lnTo>
                  <a:pt x="96" y="1912"/>
                </a:lnTo>
                <a:lnTo>
                  <a:pt x="91" y="1907"/>
                </a:lnTo>
                <a:lnTo>
                  <a:pt x="86" y="1897"/>
                </a:lnTo>
                <a:lnTo>
                  <a:pt x="79" y="1890"/>
                </a:lnTo>
                <a:lnTo>
                  <a:pt x="74" y="1883"/>
                </a:lnTo>
                <a:lnTo>
                  <a:pt x="69" y="1874"/>
                </a:lnTo>
                <a:lnTo>
                  <a:pt x="62" y="1864"/>
                </a:lnTo>
                <a:lnTo>
                  <a:pt x="57" y="1852"/>
                </a:lnTo>
                <a:lnTo>
                  <a:pt x="50" y="1840"/>
                </a:lnTo>
                <a:lnTo>
                  <a:pt x="46" y="1831"/>
                </a:lnTo>
                <a:lnTo>
                  <a:pt x="38" y="181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Freeform 32"/>
          <p:cNvSpPr/>
          <p:nvPr/>
        </p:nvSpPr>
        <p:spPr>
          <a:xfrm>
            <a:off x="6111720" y="2832120"/>
            <a:ext cx="522360" cy="884160"/>
          </a:xfrm>
          <a:custGeom>
            <a:avLst/>
            <a:gdLst/>
            <a:ahLst/>
            <a:rect l="l" t="t" r="r" b="b"/>
            <a:pathLst>
              <a:path w="822" h="1392">
                <a:moveTo>
                  <a:pt x="734" y="526"/>
                </a:moveTo>
                <a:lnTo>
                  <a:pt x="722" y="540"/>
                </a:lnTo>
                <a:lnTo>
                  <a:pt x="708" y="557"/>
                </a:lnTo>
                <a:lnTo>
                  <a:pt x="696" y="576"/>
                </a:lnTo>
                <a:lnTo>
                  <a:pt x="681" y="595"/>
                </a:lnTo>
                <a:lnTo>
                  <a:pt x="665" y="614"/>
                </a:lnTo>
                <a:lnTo>
                  <a:pt x="650" y="635"/>
                </a:lnTo>
                <a:lnTo>
                  <a:pt x="634" y="657"/>
                </a:lnTo>
                <a:lnTo>
                  <a:pt x="615" y="678"/>
                </a:lnTo>
                <a:lnTo>
                  <a:pt x="598" y="702"/>
                </a:lnTo>
                <a:lnTo>
                  <a:pt x="579" y="728"/>
                </a:lnTo>
                <a:lnTo>
                  <a:pt x="558" y="754"/>
                </a:lnTo>
                <a:lnTo>
                  <a:pt x="538" y="780"/>
                </a:lnTo>
                <a:lnTo>
                  <a:pt x="517" y="811"/>
                </a:lnTo>
                <a:lnTo>
                  <a:pt x="496" y="840"/>
                </a:lnTo>
                <a:lnTo>
                  <a:pt x="474" y="871"/>
                </a:lnTo>
                <a:lnTo>
                  <a:pt x="453" y="904"/>
                </a:lnTo>
                <a:lnTo>
                  <a:pt x="426" y="937"/>
                </a:lnTo>
                <a:lnTo>
                  <a:pt x="405" y="968"/>
                </a:lnTo>
                <a:lnTo>
                  <a:pt x="384" y="997"/>
                </a:lnTo>
                <a:lnTo>
                  <a:pt x="362" y="1025"/>
                </a:lnTo>
                <a:lnTo>
                  <a:pt x="343" y="1054"/>
                </a:lnTo>
                <a:lnTo>
                  <a:pt x="326" y="1080"/>
                </a:lnTo>
                <a:lnTo>
                  <a:pt x="310" y="1104"/>
                </a:lnTo>
                <a:lnTo>
                  <a:pt x="293" y="1128"/>
                </a:lnTo>
                <a:lnTo>
                  <a:pt x="279" y="1149"/>
                </a:lnTo>
                <a:lnTo>
                  <a:pt x="264" y="1171"/>
                </a:lnTo>
                <a:lnTo>
                  <a:pt x="253" y="1190"/>
                </a:lnTo>
                <a:lnTo>
                  <a:pt x="243" y="1209"/>
                </a:lnTo>
                <a:lnTo>
                  <a:pt x="231" y="1225"/>
                </a:lnTo>
                <a:lnTo>
                  <a:pt x="222" y="1242"/>
                </a:lnTo>
                <a:lnTo>
                  <a:pt x="214" y="1256"/>
                </a:lnTo>
                <a:lnTo>
                  <a:pt x="207" y="1271"/>
                </a:lnTo>
                <a:lnTo>
                  <a:pt x="200" y="1285"/>
                </a:lnTo>
                <a:lnTo>
                  <a:pt x="193" y="1299"/>
                </a:lnTo>
                <a:lnTo>
                  <a:pt x="188" y="1311"/>
                </a:lnTo>
                <a:lnTo>
                  <a:pt x="181" y="1323"/>
                </a:lnTo>
                <a:lnTo>
                  <a:pt x="176" y="1335"/>
                </a:lnTo>
                <a:lnTo>
                  <a:pt x="172" y="1344"/>
                </a:lnTo>
                <a:lnTo>
                  <a:pt x="167" y="1354"/>
                </a:lnTo>
                <a:lnTo>
                  <a:pt x="162" y="1361"/>
                </a:lnTo>
                <a:lnTo>
                  <a:pt x="157" y="1368"/>
                </a:lnTo>
                <a:lnTo>
                  <a:pt x="152" y="1375"/>
                </a:lnTo>
                <a:lnTo>
                  <a:pt x="150" y="1380"/>
                </a:lnTo>
                <a:lnTo>
                  <a:pt x="145" y="1385"/>
                </a:lnTo>
                <a:lnTo>
                  <a:pt x="143" y="1387"/>
                </a:lnTo>
                <a:lnTo>
                  <a:pt x="138" y="1390"/>
                </a:lnTo>
                <a:lnTo>
                  <a:pt x="136" y="1392"/>
                </a:lnTo>
                <a:lnTo>
                  <a:pt x="133" y="1392"/>
                </a:lnTo>
                <a:lnTo>
                  <a:pt x="129" y="1392"/>
                </a:lnTo>
                <a:lnTo>
                  <a:pt x="124" y="1390"/>
                </a:lnTo>
                <a:lnTo>
                  <a:pt x="119" y="1390"/>
                </a:lnTo>
                <a:lnTo>
                  <a:pt x="114" y="1387"/>
                </a:lnTo>
                <a:lnTo>
                  <a:pt x="110" y="1382"/>
                </a:lnTo>
                <a:lnTo>
                  <a:pt x="105" y="1380"/>
                </a:lnTo>
                <a:lnTo>
                  <a:pt x="100" y="1375"/>
                </a:lnTo>
                <a:lnTo>
                  <a:pt x="95" y="1371"/>
                </a:lnTo>
                <a:lnTo>
                  <a:pt x="90" y="1363"/>
                </a:lnTo>
                <a:lnTo>
                  <a:pt x="86" y="1356"/>
                </a:lnTo>
                <a:lnTo>
                  <a:pt x="79" y="1349"/>
                </a:lnTo>
                <a:lnTo>
                  <a:pt x="74" y="1340"/>
                </a:lnTo>
                <a:lnTo>
                  <a:pt x="67" y="1330"/>
                </a:lnTo>
                <a:lnTo>
                  <a:pt x="62" y="1321"/>
                </a:lnTo>
                <a:lnTo>
                  <a:pt x="55" y="1309"/>
                </a:lnTo>
                <a:lnTo>
                  <a:pt x="48" y="1297"/>
                </a:lnTo>
                <a:lnTo>
                  <a:pt x="36" y="1278"/>
                </a:lnTo>
                <a:lnTo>
                  <a:pt x="26" y="1259"/>
                </a:lnTo>
                <a:lnTo>
                  <a:pt x="17" y="1242"/>
                </a:lnTo>
                <a:lnTo>
                  <a:pt x="9" y="1225"/>
                </a:lnTo>
                <a:lnTo>
                  <a:pt x="5" y="1211"/>
                </a:lnTo>
                <a:lnTo>
                  <a:pt x="2" y="1197"/>
                </a:lnTo>
                <a:lnTo>
                  <a:pt x="0" y="1185"/>
                </a:lnTo>
                <a:lnTo>
                  <a:pt x="0" y="1175"/>
                </a:lnTo>
                <a:lnTo>
                  <a:pt x="0" y="1163"/>
                </a:lnTo>
                <a:lnTo>
                  <a:pt x="2" y="1152"/>
                </a:lnTo>
                <a:lnTo>
                  <a:pt x="5" y="1140"/>
                </a:lnTo>
                <a:lnTo>
                  <a:pt x="9" y="1125"/>
                </a:lnTo>
                <a:lnTo>
                  <a:pt x="17" y="1109"/>
                </a:lnTo>
                <a:lnTo>
                  <a:pt x="26" y="1092"/>
                </a:lnTo>
                <a:lnTo>
                  <a:pt x="36" y="1073"/>
                </a:lnTo>
                <a:lnTo>
                  <a:pt x="48" y="1054"/>
                </a:lnTo>
                <a:lnTo>
                  <a:pt x="55" y="1044"/>
                </a:lnTo>
                <a:lnTo>
                  <a:pt x="62" y="1035"/>
                </a:lnTo>
                <a:lnTo>
                  <a:pt x="67" y="1021"/>
                </a:lnTo>
                <a:lnTo>
                  <a:pt x="74" y="1006"/>
                </a:lnTo>
                <a:lnTo>
                  <a:pt x="79" y="992"/>
                </a:lnTo>
                <a:lnTo>
                  <a:pt x="83" y="973"/>
                </a:lnTo>
                <a:lnTo>
                  <a:pt x="88" y="954"/>
                </a:lnTo>
                <a:lnTo>
                  <a:pt x="93" y="933"/>
                </a:lnTo>
                <a:lnTo>
                  <a:pt x="98" y="909"/>
                </a:lnTo>
                <a:lnTo>
                  <a:pt x="102" y="885"/>
                </a:lnTo>
                <a:lnTo>
                  <a:pt x="107" y="859"/>
                </a:lnTo>
                <a:lnTo>
                  <a:pt x="110" y="830"/>
                </a:lnTo>
                <a:lnTo>
                  <a:pt x="114" y="799"/>
                </a:lnTo>
                <a:lnTo>
                  <a:pt x="117" y="768"/>
                </a:lnTo>
                <a:lnTo>
                  <a:pt x="119" y="735"/>
                </a:lnTo>
                <a:lnTo>
                  <a:pt x="121" y="702"/>
                </a:lnTo>
                <a:lnTo>
                  <a:pt x="124" y="666"/>
                </a:lnTo>
                <a:lnTo>
                  <a:pt x="124" y="633"/>
                </a:lnTo>
                <a:lnTo>
                  <a:pt x="126" y="599"/>
                </a:lnTo>
                <a:lnTo>
                  <a:pt x="126" y="566"/>
                </a:lnTo>
                <a:lnTo>
                  <a:pt x="126" y="535"/>
                </a:lnTo>
                <a:lnTo>
                  <a:pt x="126" y="504"/>
                </a:lnTo>
                <a:lnTo>
                  <a:pt x="126" y="476"/>
                </a:lnTo>
                <a:lnTo>
                  <a:pt x="124" y="449"/>
                </a:lnTo>
                <a:lnTo>
                  <a:pt x="124" y="421"/>
                </a:lnTo>
                <a:lnTo>
                  <a:pt x="121" y="397"/>
                </a:lnTo>
                <a:lnTo>
                  <a:pt x="119" y="371"/>
                </a:lnTo>
                <a:lnTo>
                  <a:pt x="117" y="347"/>
                </a:lnTo>
                <a:lnTo>
                  <a:pt x="117" y="326"/>
                </a:lnTo>
                <a:lnTo>
                  <a:pt x="114" y="304"/>
                </a:lnTo>
                <a:lnTo>
                  <a:pt x="112" y="285"/>
                </a:lnTo>
                <a:lnTo>
                  <a:pt x="110" y="266"/>
                </a:lnTo>
                <a:lnTo>
                  <a:pt x="107" y="250"/>
                </a:lnTo>
                <a:lnTo>
                  <a:pt x="105" y="233"/>
                </a:lnTo>
                <a:lnTo>
                  <a:pt x="102" y="219"/>
                </a:lnTo>
                <a:lnTo>
                  <a:pt x="98" y="204"/>
                </a:lnTo>
                <a:lnTo>
                  <a:pt x="95" y="190"/>
                </a:lnTo>
                <a:lnTo>
                  <a:pt x="90" y="176"/>
                </a:lnTo>
                <a:lnTo>
                  <a:pt x="88" y="164"/>
                </a:lnTo>
                <a:lnTo>
                  <a:pt x="83" y="154"/>
                </a:lnTo>
                <a:lnTo>
                  <a:pt x="79" y="142"/>
                </a:lnTo>
                <a:lnTo>
                  <a:pt x="74" y="133"/>
                </a:lnTo>
                <a:lnTo>
                  <a:pt x="71" y="126"/>
                </a:lnTo>
                <a:lnTo>
                  <a:pt x="67" y="116"/>
                </a:lnTo>
                <a:lnTo>
                  <a:pt x="62" y="109"/>
                </a:lnTo>
                <a:lnTo>
                  <a:pt x="57" y="102"/>
                </a:lnTo>
                <a:lnTo>
                  <a:pt x="52" y="97"/>
                </a:lnTo>
                <a:lnTo>
                  <a:pt x="48" y="90"/>
                </a:lnTo>
                <a:lnTo>
                  <a:pt x="36" y="81"/>
                </a:lnTo>
                <a:lnTo>
                  <a:pt x="26" y="71"/>
                </a:lnTo>
                <a:lnTo>
                  <a:pt x="17" y="59"/>
                </a:lnTo>
                <a:lnTo>
                  <a:pt x="9" y="50"/>
                </a:lnTo>
                <a:lnTo>
                  <a:pt x="5" y="40"/>
                </a:lnTo>
                <a:lnTo>
                  <a:pt x="2" y="31"/>
                </a:lnTo>
                <a:lnTo>
                  <a:pt x="0" y="19"/>
                </a:lnTo>
                <a:lnTo>
                  <a:pt x="0" y="9"/>
                </a:lnTo>
                <a:lnTo>
                  <a:pt x="0" y="7"/>
                </a:lnTo>
                <a:lnTo>
                  <a:pt x="0" y="4"/>
                </a:lnTo>
                <a:lnTo>
                  <a:pt x="2" y="4"/>
                </a:lnTo>
                <a:lnTo>
                  <a:pt x="5" y="2"/>
                </a:lnTo>
                <a:lnTo>
                  <a:pt x="9" y="0"/>
                </a:lnTo>
                <a:lnTo>
                  <a:pt x="14" y="0"/>
                </a:lnTo>
                <a:lnTo>
                  <a:pt x="19" y="0"/>
                </a:lnTo>
                <a:lnTo>
                  <a:pt x="26" y="0"/>
                </a:lnTo>
                <a:lnTo>
                  <a:pt x="31" y="0"/>
                </a:lnTo>
                <a:lnTo>
                  <a:pt x="38" y="0"/>
                </a:lnTo>
                <a:lnTo>
                  <a:pt x="48" y="0"/>
                </a:lnTo>
                <a:lnTo>
                  <a:pt x="55" y="2"/>
                </a:lnTo>
                <a:lnTo>
                  <a:pt x="64" y="4"/>
                </a:lnTo>
                <a:lnTo>
                  <a:pt x="76" y="4"/>
                </a:lnTo>
                <a:lnTo>
                  <a:pt x="86" y="7"/>
                </a:lnTo>
                <a:lnTo>
                  <a:pt x="98" y="9"/>
                </a:lnTo>
                <a:lnTo>
                  <a:pt x="119" y="21"/>
                </a:lnTo>
                <a:lnTo>
                  <a:pt x="141" y="31"/>
                </a:lnTo>
                <a:lnTo>
                  <a:pt x="160" y="40"/>
                </a:lnTo>
                <a:lnTo>
                  <a:pt x="179" y="52"/>
                </a:lnTo>
                <a:lnTo>
                  <a:pt x="198" y="64"/>
                </a:lnTo>
                <a:lnTo>
                  <a:pt x="214" y="76"/>
                </a:lnTo>
                <a:lnTo>
                  <a:pt x="229" y="90"/>
                </a:lnTo>
                <a:lnTo>
                  <a:pt x="243" y="104"/>
                </a:lnTo>
                <a:lnTo>
                  <a:pt x="250" y="114"/>
                </a:lnTo>
                <a:lnTo>
                  <a:pt x="255" y="123"/>
                </a:lnTo>
                <a:lnTo>
                  <a:pt x="260" y="135"/>
                </a:lnTo>
                <a:lnTo>
                  <a:pt x="264" y="150"/>
                </a:lnTo>
                <a:lnTo>
                  <a:pt x="269" y="166"/>
                </a:lnTo>
                <a:lnTo>
                  <a:pt x="272" y="185"/>
                </a:lnTo>
                <a:lnTo>
                  <a:pt x="272" y="207"/>
                </a:lnTo>
                <a:lnTo>
                  <a:pt x="274" y="230"/>
                </a:lnTo>
                <a:lnTo>
                  <a:pt x="274" y="254"/>
                </a:lnTo>
                <a:lnTo>
                  <a:pt x="276" y="283"/>
                </a:lnTo>
                <a:lnTo>
                  <a:pt x="276" y="311"/>
                </a:lnTo>
                <a:lnTo>
                  <a:pt x="274" y="328"/>
                </a:lnTo>
                <a:lnTo>
                  <a:pt x="274" y="345"/>
                </a:lnTo>
                <a:lnTo>
                  <a:pt x="274" y="361"/>
                </a:lnTo>
                <a:lnTo>
                  <a:pt x="274" y="378"/>
                </a:lnTo>
                <a:lnTo>
                  <a:pt x="274" y="397"/>
                </a:lnTo>
                <a:lnTo>
                  <a:pt x="272" y="416"/>
                </a:lnTo>
                <a:lnTo>
                  <a:pt x="272" y="435"/>
                </a:lnTo>
                <a:lnTo>
                  <a:pt x="272" y="457"/>
                </a:lnTo>
                <a:lnTo>
                  <a:pt x="269" y="476"/>
                </a:lnTo>
                <a:lnTo>
                  <a:pt x="269" y="497"/>
                </a:lnTo>
                <a:lnTo>
                  <a:pt x="267" y="518"/>
                </a:lnTo>
                <a:lnTo>
                  <a:pt x="264" y="540"/>
                </a:lnTo>
                <a:lnTo>
                  <a:pt x="262" y="559"/>
                </a:lnTo>
                <a:lnTo>
                  <a:pt x="260" y="578"/>
                </a:lnTo>
                <a:lnTo>
                  <a:pt x="260" y="597"/>
                </a:lnTo>
                <a:lnTo>
                  <a:pt x="257" y="616"/>
                </a:lnTo>
                <a:lnTo>
                  <a:pt x="255" y="633"/>
                </a:lnTo>
                <a:lnTo>
                  <a:pt x="255" y="649"/>
                </a:lnTo>
                <a:lnTo>
                  <a:pt x="253" y="666"/>
                </a:lnTo>
                <a:lnTo>
                  <a:pt x="253" y="680"/>
                </a:lnTo>
                <a:lnTo>
                  <a:pt x="253" y="697"/>
                </a:lnTo>
                <a:lnTo>
                  <a:pt x="250" y="711"/>
                </a:lnTo>
                <a:lnTo>
                  <a:pt x="250" y="723"/>
                </a:lnTo>
                <a:lnTo>
                  <a:pt x="250" y="737"/>
                </a:lnTo>
                <a:lnTo>
                  <a:pt x="250" y="749"/>
                </a:lnTo>
                <a:lnTo>
                  <a:pt x="250" y="761"/>
                </a:lnTo>
                <a:lnTo>
                  <a:pt x="250" y="771"/>
                </a:lnTo>
                <a:lnTo>
                  <a:pt x="250" y="780"/>
                </a:lnTo>
                <a:lnTo>
                  <a:pt x="250" y="790"/>
                </a:lnTo>
                <a:lnTo>
                  <a:pt x="250" y="799"/>
                </a:lnTo>
                <a:lnTo>
                  <a:pt x="253" y="806"/>
                </a:lnTo>
                <a:lnTo>
                  <a:pt x="253" y="814"/>
                </a:lnTo>
                <a:lnTo>
                  <a:pt x="253" y="821"/>
                </a:lnTo>
                <a:lnTo>
                  <a:pt x="255" y="828"/>
                </a:lnTo>
                <a:lnTo>
                  <a:pt x="255" y="833"/>
                </a:lnTo>
                <a:lnTo>
                  <a:pt x="257" y="837"/>
                </a:lnTo>
                <a:lnTo>
                  <a:pt x="260" y="840"/>
                </a:lnTo>
                <a:lnTo>
                  <a:pt x="260" y="845"/>
                </a:lnTo>
                <a:lnTo>
                  <a:pt x="262" y="847"/>
                </a:lnTo>
                <a:lnTo>
                  <a:pt x="264" y="849"/>
                </a:lnTo>
                <a:lnTo>
                  <a:pt x="267" y="849"/>
                </a:lnTo>
                <a:lnTo>
                  <a:pt x="269" y="849"/>
                </a:lnTo>
                <a:lnTo>
                  <a:pt x="272" y="849"/>
                </a:lnTo>
                <a:lnTo>
                  <a:pt x="274" y="847"/>
                </a:lnTo>
                <a:lnTo>
                  <a:pt x="279" y="845"/>
                </a:lnTo>
                <a:lnTo>
                  <a:pt x="284" y="842"/>
                </a:lnTo>
                <a:lnTo>
                  <a:pt x="291" y="837"/>
                </a:lnTo>
                <a:lnTo>
                  <a:pt x="295" y="833"/>
                </a:lnTo>
                <a:lnTo>
                  <a:pt x="303" y="828"/>
                </a:lnTo>
                <a:lnTo>
                  <a:pt x="312" y="821"/>
                </a:lnTo>
                <a:lnTo>
                  <a:pt x="319" y="814"/>
                </a:lnTo>
                <a:lnTo>
                  <a:pt x="329" y="806"/>
                </a:lnTo>
                <a:lnTo>
                  <a:pt x="338" y="797"/>
                </a:lnTo>
                <a:lnTo>
                  <a:pt x="348" y="787"/>
                </a:lnTo>
                <a:lnTo>
                  <a:pt x="357" y="778"/>
                </a:lnTo>
                <a:lnTo>
                  <a:pt x="369" y="766"/>
                </a:lnTo>
                <a:lnTo>
                  <a:pt x="379" y="754"/>
                </a:lnTo>
                <a:lnTo>
                  <a:pt x="391" y="742"/>
                </a:lnTo>
                <a:lnTo>
                  <a:pt x="403" y="728"/>
                </a:lnTo>
                <a:lnTo>
                  <a:pt x="415" y="714"/>
                </a:lnTo>
                <a:lnTo>
                  <a:pt x="426" y="699"/>
                </a:lnTo>
                <a:lnTo>
                  <a:pt x="441" y="685"/>
                </a:lnTo>
                <a:lnTo>
                  <a:pt x="455" y="671"/>
                </a:lnTo>
                <a:lnTo>
                  <a:pt x="469" y="654"/>
                </a:lnTo>
                <a:lnTo>
                  <a:pt x="500" y="623"/>
                </a:lnTo>
                <a:lnTo>
                  <a:pt x="534" y="590"/>
                </a:lnTo>
                <a:lnTo>
                  <a:pt x="569" y="554"/>
                </a:lnTo>
                <a:lnTo>
                  <a:pt x="608" y="521"/>
                </a:lnTo>
                <a:lnTo>
                  <a:pt x="648" y="483"/>
                </a:lnTo>
                <a:lnTo>
                  <a:pt x="665" y="466"/>
                </a:lnTo>
                <a:lnTo>
                  <a:pt x="681" y="449"/>
                </a:lnTo>
                <a:lnTo>
                  <a:pt x="698" y="435"/>
                </a:lnTo>
                <a:lnTo>
                  <a:pt x="712" y="423"/>
                </a:lnTo>
                <a:lnTo>
                  <a:pt x="727" y="411"/>
                </a:lnTo>
                <a:lnTo>
                  <a:pt x="741" y="399"/>
                </a:lnTo>
                <a:lnTo>
                  <a:pt x="753" y="390"/>
                </a:lnTo>
                <a:lnTo>
                  <a:pt x="765" y="383"/>
                </a:lnTo>
                <a:lnTo>
                  <a:pt x="774" y="376"/>
                </a:lnTo>
                <a:lnTo>
                  <a:pt x="784" y="369"/>
                </a:lnTo>
                <a:lnTo>
                  <a:pt x="793" y="364"/>
                </a:lnTo>
                <a:lnTo>
                  <a:pt x="801" y="361"/>
                </a:lnTo>
                <a:lnTo>
                  <a:pt x="808" y="359"/>
                </a:lnTo>
                <a:lnTo>
                  <a:pt x="812" y="359"/>
                </a:lnTo>
                <a:lnTo>
                  <a:pt x="817" y="359"/>
                </a:lnTo>
                <a:lnTo>
                  <a:pt x="820" y="361"/>
                </a:lnTo>
                <a:lnTo>
                  <a:pt x="820" y="366"/>
                </a:lnTo>
                <a:lnTo>
                  <a:pt x="822" y="369"/>
                </a:lnTo>
                <a:lnTo>
                  <a:pt x="820" y="373"/>
                </a:lnTo>
                <a:lnTo>
                  <a:pt x="820" y="380"/>
                </a:lnTo>
                <a:lnTo>
                  <a:pt x="817" y="388"/>
                </a:lnTo>
                <a:lnTo>
                  <a:pt x="812" y="395"/>
                </a:lnTo>
                <a:lnTo>
                  <a:pt x="808" y="402"/>
                </a:lnTo>
                <a:lnTo>
                  <a:pt x="803" y="414"/>
                </a:lnTo>
                <a:lnTo>
                  <a:pt x="798" y="423"/>
                </a:lnTo>
                <a:lnTo>
                  <a:pt x="791" y="435"/>
                </a:lnTo>
                <a:lnTo>
                  <a:pt x="782" y="447"/>
                </a:lnTo>
                <a:lnTo>
                  <a:pt x="774" y="461"/>
                </a:lnTo>
                <a:lnTo>
                  <a:pt x="765" y="476"/>
                </a:lnTo>
                <a:lnTo>
                  <a:pt x="755" y="490"/>
                </a:lnTo>
                <a:lnTo>
                  <a:pt x="743" y="507"/>
                </a:lnTo>
                <a:lnTo>
                  <a:pt x="734" y="52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Freeform 33"/>
          <p:cNvSpPr/>
          <p:nvPr/>
        </p:nvSpPr>
        <p:spPr>
          <a:xfrm>
            <a:off x="6259680" y="2430360"/>
            <a:ext cx="777600" cy="1513080"/>
          </a:xfrm>
          <a:custGeom>
            <a:avLst/>
            <a:gdLst/>
            <a:ahLst/>
            <a:rect l="l" t="t" r="r" b="b"/>
            <a:pathLst>
              <a:path w="1227" h="2382">
                <a:moveTo>
                  <a:pt x="405" y="2039"/>
                </a:moveTo>
                <a:lnTo>
                  <a:pt x="443" y="1996"/>
                </a:lnTo>
                <a:lnTo>
                  <a:pt x="481" y="1951"/>
                </a:lnTo>
                <a:lnTo>
                  <a:pt x="500" y="1930"/>
                </a:lnTo>
                <a:lnTo>
                  <a:pt x="520" y="1906"/>
                </a:lnTo>
                <a:lnTo>
                  <a:pt x="536" y="1880"/>
                </a:lnTo>
                <a:lnTo>
                  <a:pt x="555" y="1856"/>
                </a:lnTo>
                <a:lnTo>
                  <a:pt x="572" y="1830"/>
                </a:lnTo>
                <a:lnTo>
                  <a:pt x="589" y="1804"/>
                </a:lnTo>
                <a:lnTo>
                  <a:pt x="605" y="1777"/>
                </a:lnTo>
                <a:lnTo>
                  <a:pt x="622" y="1749"/>
                </a:lnTo>
                <a:lnTo>
                  <a:pt x="639" y="1720"/>
                </a:lnTo>
                <a:lnTo>
                  <a:pt x="653" y="1692"/>
                </a:lnTo>
                <a:lnTo>
                  <a:pt x="670" y="1663"/>
                </a:lnTo>
                <a:lnTo>
                  <a:pt x="686" y="1632"/>
                </a:lnTo>
                <a:lnTo>
                  <a:pt x="701" y="1604"/>
                </a:lnTo>
                <a:lnTo>
                  <a:pt x="717" y="1575"/>
                </a:lnTo>
                <a:lnTo>
                  <a:pt x="732" y="1544"/>
                </a:lnTo>
                <a:lnTo>
                  <a:pt x="746" y="1513"/>
                </a:lnTo>
                <a:lnTo>
                  <a:pt x="760" y="1480"/>
                </a:lnTo>
                <a:lnTo>
                  <a:pt x="772" y="1449"/>
                </a:lnTo>
                <a:lnTo>
                  <a:pt x="786" y="1416"/>
                </a:lnTo>
                <a:lnTo>
                  <a:pt x="798" y="1380"/>
                </a:lnTo>
                <a:lnTo>
                  <a:pt x="813" y="1347"/>
                </a:lnTo>
                <a:lnTo>
                  <a:pt x="825" y="1311"/>
                </a:lnTo>
                <a:lnTo>
                  <a:pt x="848" y="1240"/>
                </a:lnTo>
                <a:lnTo>
                  <a:pt x="872" y="1166"/>
                </a:lnTo>
                <a:lnTo>
                  <a:pt x="894" y="1090"/>
                </a:lnTo>
                <a:lnTo>
                  <a:pt x="910" y="1013"/>
                </a:lnTo>
                <a:lnTo>
                  <a:pt x="927" y="935"/>
                </a:lnTo>
                <a:lnTo>
                  <a:pt x="944" y="856"/>
                </a:lnTo>
                <a:lnTo>
                  <a:pt x="958" y="775"/>
                </a:lnTo>
                <a:lnTo>
                  <a:pt x="972" y="697"/>
                </a:lnTo>
                <a:lnTo>
                  <a:pt x="984" y="616"/>
                </a:lnTo>
                <a:lnTo>
                  <a:pt x="994" y="535"/>
                </a:lnTo>
                <a:lnTo>
                  <a:pt x="1003" y="452"/>
                </a:lnTo>
                <a:lnTo>
                  <a:pt x="1006" y="414"/>
                </a:lnTo>
                <a:lnTo>
                  <a:pt x="1008" y="376"/>
                </a:lnTo>
                <a:lnTo>
                  <a:pt x="1010" y="340"/>
                </a:lnTo>
                <a:lnTo>
                  <a:pt x="1010" y="309"/>
                </a:lnTo>
                <a:lnTo>
                  <a:pt x="1010" y="278"/>
                </a:lnTo>
                <a:lnTo>
                  <a:pt x="1013" y="247"/>
                </a:lnTo>
                <a:lnTo>
                  <a:pt x="1013" y="221"/>
                </a:lnTo>
                <a:lnTo>
                  <a:pt x="1010" y="197"/>
                </a:lnTo>
                <a:lnTo>
                  <a:pt x="1010" y="176"/>
                </a:lnTo>
                <a:lnTo>
                  <a:pt x="1010" y="154"/>
                </a:lnTo>
                <a:lnTo>
                  <a:pt x="1008" y="135"/>
                </a:lnTo>
                <a:lnTo>
                  <a:pt x="1006" y="119"/>
                </a:lnTo>
                <a:lnTo>
                  <a:pt x="1003" y="104"/>
                </a:lnTo>
                <a:lnTo>
                  <a:pt x="998" y="92"/>
                </a:lnTo>
                <a:lnTo>
                  <a:pt x="996" y="83"/>
                </a:lnTo>
                <a:lnTo>
                  <a:pt x="991" y="73"/>
                </a:lnTo>
                <a:lnTo>
                  <a:pt x="984" y="66"/>
                </a:lnTo>
                <a:lnTo>
                  <a:pt x="979" y="59"/>
                </a:lnTo>
                <a:lnTo>
                  <a:pt x="975" y="52"/>
                </a:lnTo>
                <a:lnTo>
                  <a:pt x="972" y="47"/>
                </a:lnTo>
                <a:lnTo>
                  <a:pt x="968" y="42"/>
                </a:lnTo>
                <a:lnTo>
                  <a:pt x="965" y="38"/>
                </a:lnTo>
                <a:lnTo>
                  <a:pt x="965" y="33"/>
                </a:lnTo>
                <a:lnTo>
                  <a:pt x="965" y="28"/>
                </a:lnTo>
                <a:lnTo>
                  <a:pt x="965" y="26"/>
                </a:lnTo>
                <a:lnTo>
                  <a:pt x="965" y="23"/>
                </a:lnTo>
                <a:lnTo>
                  <a:pt x="968" y="19"/>
                </a:lnTo>
                <a:lnTo>
                  <a:pt x="972" y="16"/>
                </a:lnTo>
                <a:lnTo>
                  <a:pt x="975" y="14"/>
                </a:lnTo>
                <a:lnTo>
                  <a:pt x="979" y="11"/>
                </a:lnTo>
                <a:lnTo>
                  <a:pt x="984" y="9"/>
                </a:lnTo>
                <a:lnTo>
                  <a:pt x="991" y="7"/>
                </a:lnTo>
                <a:lnTo>
                  <a:pt x="996" y="4"/>
                </a:lnTo>
                <a:lnTo>
                  <a:pt x="1001" y="2"/>
                </a:lnTo>
                <a:lnTo>
                  <a:pt x="1015" y="0"/>
                </a:lnTo>
                <a:lnTo>
                  <a:pt x="1029" y="2"/>
                </a:lnTo>
                <a:lnTo>
                  <a:pt x="1046" y="4"/>
                </a:lnTo>
                <a:lnTo>
                  <a:pt x="1063" y="9"/>
                </a:lnTo>
                <a:lnTo>
                  <a:pt x="1082" y="14"/>
                </a:lnTo>
                <a:lnTo>
                  <a:pt x="1103" y="23"/>
                </a:lnTo>
                <a:lnTo>
                  <a:pt x="1127" y="33"/>
                </a:lnTo>
                <a:lnTo>
                  <a:pt x="1137" y="40"/>
                </a:lnTo>
                <a:lnTo>
                  <a:pt x="1149" y="47"/>
                </a:lnTo>
                <a:lnTo>
                  <a:pt x="1156" y="54"/>
                </a:lnTo>
                <a:lnTo>
                  <a:pt x="1165" y="61"/>
                </a:lnTo>
                <a:lnTo>
                  <a:pt x="1172" y="69"/>
                </a:lnTo>
                <a:lnTo>
                  <a:pt x="1182" y="73"/>
                </a:lnTo>
                <a:lnTo>
                  <a:pt x="1187" y="80"/>
                </a:lnTo>
                <a:lnTo>
                  <a:pt x="1194" y="88"/>
                </a:lnTo>
                <a:lnTo>
                  <a:pt x="1203" y="99"/>
                </a:lnTo>
                <a:lnTo>
                  <a:pt x="1213" y="114"/>
                </a:lnTo>
                <a:lnTo>
                  <a:pt x="1220" y="126"/>
                </a:lnTo>
                <a:lnTo>
                  <a:pt x="1225" y="140"/>
                </a:lnTo>
                <a:lnTo>
                  <a:pt x="1225" y="145"/>
                </a:lnTo>
                <a:lnTo>
                  <a:pt x="1225" y="149"/>
                </a:lnTo>
                <a:lnTo>
                  <a:pt x="1227" y="157"/>
                </a:lnTo>
                <a:lnTo>
                  <a:pt x="1227" y="164"/>
                </a:lnTo>
                <a:lnTo>
                  <a:pt x="1227" y="171"/>
                </a:lnTo>
                <a:lnTo>
                  <a:pt x="1225" y="180"/>
                </a:lnTo>
                <a:lnTo>
                  <a:pt x="1225" y="190"/>
                </a:lnTo>
                <a:lnTo>
                  <a:pt x="1225" y="199"/>
                </a:lnTo>
                <a:lnTo>
                  <a:pt x="1222" y="211"/>
                </a:lnTo>
                <a:lnTo>
                  <a:pt x="1222" y="223"/>
                </a:lnTo>
                <a:lnTo>
                  <a:pt x="1220" y="238"/>
                </a:lnTo>
                <a:lnTo>
                  <a:pt x="1218" y="252"/>
                </a:lnTo>
                <a:lnTo>
                  <a:pt x="1215" y="266"/>
                </a:lnTo>
                <a:lnTo>
                  <a:pt x="1213" y="283"/>
                </a:lnTo>
                <a:lnTo>
                  <a:pt x="1211" y="299"/>
                </a:lnTo>
                <a:lnTo>
                  <a:pt x="1208" y="318"/>
                </a:lnTo>
                <a:lnTo>
                  <a:pt x="1206" y="335"/>
                </a:lnTo>
                <a:lnTo>
                  <a:pt x="1201" y="357"/>
                </a:lnTo>
                <a:lnTo>
                  <a:pt x="1199" y="378"/>
                </a:lnTo>
                <a:lnTo>
                  <a:pt x="1196" y="399"/>
                </a:lnTo>
                <a:lnTo>
                  <a:pt x="1191" y="421"/>
                </a:lnTo>
                <a:lnTo>
                  <a:pt x="1187" y="445"/>
                </a:lnTo>
                <a:lnTo>
                  <a:pt x="1184" y="471"/>
                </a:lnTo>
                <a:lnTo>
                  <a:pt x="1180" y="495"/>
                </a:lnTo>
                <a:lnTo>
                  <a:pt x="1175" y="523"/>
                </a:lnTo>
                <a:lnTo>
                  <a:pt x="1170" y="549"/>
                </a:lnTo>
                <a:lnTo>
                  <a:pt x="1165" y="578"/>
                </a:lnTo>
                <a:lnTo>
                  <a:pt x="1161" y="609"/>
                </a:lnTo>
                <a:lnTo>
                  <a:pt x="1156" y="640"/>
                </a:lnTo>
                <a:lnTo>
                  <a:pt x="1149" y="671"/>
                </a:lnTo>
                <a:lnTo>
                  <a:pt x="1144" y="704"/>
                </a:lnTo>
                <a:lnTo>
                  <a:pt x="1139" y="737"/>
                </a:lnTo>
                <a:lnTo>
                  <a:pt x="1127" y="804"/>
                </a:lnTo>
                <a:lnTo>
                  <a:pt x="1115" y="871"/>
                </a:lnTo>
                <a:lnTo>
                  <a:pt x="1101" y="932"/>
                </a:lnTo>
                <a:lnTo>
                  <a:pt x="1089" y="994"/>
                </a:lnTo>
                <a:lnTo>
                  <a:pt x="1075" y="1054"/>
                </a:lnTo>
                <a:lnTo>
                  <a:pt x="1060" y="1109"/>
                </a:lnTo>
                <a:lnTo>
                  <a:pt x="1046" y="1163"/>
                </a:lnTo>
                <a:lnTo>
                  <a:pt x="1032" y="1216"/>
                </a:lnTo>
                <a:lnTo>
                  <a:pt x="1015" y="1268"/>
                </a:lnTo>
                <a:lnTo>
                  <a:pt x="1001" y="1316"/>
                </a:lnTo>
                <a:lnTo>
                  <a:pt x="984" y="1361"/>
                </a:lnTo>
                <a:lnTo>
                  <a:pt x="970" y="1406"/>
                </a:lnTo>
                <a:lnTo>
                  <a:pt x="953" y="1449"/>
                </a:lnTo>
                <a:lnTo>
                  <a:pt x="939" y="1489"/>
                </a:lnTo>
                <a:lnTo>
                  <a:pt x="922" y="1528"/>
                </a:lnTo>
                <a:lnTo>
                  <a:pt x="906" y="1563"/>
                </a:lnTo>
                <a:lnTo>
                  <a:pt x="889" y="1599"/>
                </a:lnTo>
                <a:lnTo>
                  <a:pt x="872" y="1635"/>
                </a:lnTo>
                <a:lnTo>
                  <a:pt x="856" y="1668"/>
                </a:lnTo>
                <a:lnTo>
                  <a:pt x="839" y="1701"/>
                </a:lnTo>
                <a:lnTo>
                  <a:pt x="820" y="1735"/>
                </a:lnTo>
                <a:lnTo>
                  <a:pt x="801" y="1766"/>
                </a:lnTo>
                <a:lnTo>
                  <a:pt x="782" y="1796"/>
                </a:lnTo>
                <a:lnTo>
                  <a:pt x="763" y="1827"/>
                </a:lnTo>
                <a:lnTo>
                  <a:pt x="744" y="1856"/>
                </a:lnTo>
                <a:lnTo>
                  <a:pt x="722" y="1885"/>
                </a:lnTo>
                <a:lnTo>
                  <a:pt x="703" y="1913"/>
                </a:lnTo>
                <a:lnTo>
                  <a:pt x="682" y="1939"/>
                </a:lnTo>
                <a:lnTo>
                  <a:pt x="663" y="1965"/>
                </a:lnTo>
                <a:lnTo>
                  <a:pt x="641" y="1992"/>
                </a:lnTo>
                <a:lnTo>
                  <a:pt x="620" y="2015"/>
                </a:lnTo>
                <a:lnTo>
                  <a:pt x="601" y="2039"/>
                </a:lnTo>
                <a:lnTo>
                  <a:pt x="577" y="2061"/>
                </a:lnTo>
                <a:lnTo>
                  <a:pt x="555" y="2084"/>
                </a:lnTo>
                <a:lnTo>
                  <a:pt x="531" y="2103"/>
                </a:lnTo>
                <a:lnTo>
                  <a:pt x="508" y="2125"/>
                </a:lnTo>
                <a:lnTo>
                  <a:pt x="484" y="2144"/>
                </a:lnTo>
                <a:lnTo>
                  <a:pt x="458" y="2163"/>
                </a:lnTo>
                <a:lnTo>
                  <a:pt x="434" y="2182"/>
                </a:lnTo>
                <a:lnTo>
                  <a:pt x="410" y="2199"/>
                </a:lnTo>
                <a:lnTo>
                  <a:pt x="384" y="2215"/>
                </a:lnTo>
                <a:lnTo>
                  <a:pt x="360" y="2232"/>
                </a:lnTo>
                <a:lnTo>
                  <a:pt x="334" y="2246"/>
                </a:lnTo>
                <a:lnTo>
                  <a:pt x="310" y="2261"/>
                </a:lnTo>
                <a:lnTo>
                  <a:pt x="284" y="2275"/>
                </a:lnTo>
                <a:lnTo>
                  <a:pt x="260" y="2287"/>
                </a:lnTo>
                <a:lnTo>
                  <a:pt x="234" y="2299"/>
                </a:lnTo>
                <a:lnTo>
                  <a:pt x="207" y="2311"/>
                </a:lnTo>
                <a:lnTo>
                  <a:pt x="184" y="2322"/>
                </a:lnTo>
                <a:lnTo>
                  <a:pt x="162" y="2332"/>
                </a:lnTo>
                <a:lnTo>
                  <a:pt x="141" y="2341"/>
                </a:lnTo>
                <a:lnTo>
                  <a:pt x="119" y="2351"/>
                </a:lnTo>
                <a:lnTo>
                  <a:pt x="100" y="2358"/>
                </a:lnTo>
                <a:lnTo>
                  <a:pt x="83" y="2365"/>
                </a:lnTo>
                <a:lnTo>
                  <a:pt x="69" y="2370"/>
                </a:lnTo>
                <a:lnTo>
                  <a:pt x="55" y="2375"/>
                </a:lnTo>
                <a:lnTo>
                  <a:pt x="43" y="2377"/>
                </a:lnTo>
                <a:lnTo>
                  <a:pt x="31" y="2380"/>
                </a:lnTo>
                <a:lnTo>
                  <a:pt x="22" y="2382"/>
                </a:lnTo>
                <a:lnTo>
                  <a:pt x="14" y="2382"/>
                </a:lnTo>
                <a:lnTo>
                  <a:pt x="7" y="2382"/>
                </a:lnTo>
                <a:lnTo>
                  <a:pt x="5" y="2382"/>
                </a:lnTo>
                <a:lnTo>
                  <a:pt x="2" y="2380"/>
                </a:lnTo>
                <a:lnTo>
                  <a:pt x="0" y="2377"/>
                </a:lnTo>
                <a:lnTo>
                  <a:pt x="0" y="2375"/>
                </a:lnTo>
                <a:lnTo>
                  <a:pt x="0" y="2370"/>
                </a:lnTo>
                <a:lnTo>
                  <a:pt x="0" y="2368"/>
                </a:lnTo>
                <a:lnTo>
                  <a:pt x="2" y="2363"/>
                </a:lnTo>
                <a:lnTo>
                  <a:pt x="7" y="2358"/>
                </a:lnTo>
                <a:lnTo>
                  <a:pt x="12" y="2351"/>
                </a:lnTo>
                <a:lnTo>
                  <a:pt x="17" y="2346"/>
                </a:lnTo>
                <a:lnTo>
                  <a:pt x="26" y="2339"/>
                </a:lnTo>
                <a:lnTo>
                  <a:pt x="33" y="2332"/>
                </a:lnTo>
                <a:lnTo>
                  <a:pt x="43" y="2325"/>
                </a:lnTo>
                <a:lnTo>
                  <a:pt x="55" y="2315"/>
                </a:lnTo>
                <a:lnTo>
                  <a:pt x="67" y="2308"/>
                </a:lnTo>
                <a:lnTo>
                  <a:pt x="79" y="2299"/>
                </a:lnTo>
                <a:lnTo>
                  <a:pt x="93" y="2289"/>
                </a:lnTo>
                <a:lnTo>
                  <a:pt x="107" y="2280"/>
                </a:lnTo>
                <a:lnTo>
                  <a:pt x="124" y="2270"/>
                </a:lnTo>
                <a:lnTo>
                  <a:pt x="155" y="2246"/>
                </a:lnTo>
                <a:lnTo>
                  <a:pt x="188" y="2222"/>
                </a:lnTo>
                <a:lnTo>
                  <a:pt x="222" y="2196"/>
                </a:lnTo>
                <a:lnTo>
                  <a:pt x="255" y="2170"/>
                </a:lnTo>
                <a:lnTo>
                  <a:pt x="291" y="2139"/>
                </a:lnTo>
                <a:lnTo>
                  <a:pt x="327" y="2108"/>
                </a:lnTo>
                <a:lnTo>
                  <a:pt x="365" y="2075"/>
                </a:lnTo>
                <a:lnTo>
                  <a:pt x="405" y="203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Freeform 35"/>
          <p:cNvSpPr/>
          <p:nvPr/>
        </p:nvSpPr>
        <p:spPr>
          <a:xfrm>
            <a:off x="6361200" y="2476440"/>
            <a:ext cx="285840" cy="233280"/>
          </a:xfrm>
          <a:custGeom>
            <a:avLst/>
            <a:gdLst/>
            <a:ahLst/>
            <a:rect l="l" t="t" r="r" b="b"/>
            <a:pathLst>
              <a:path w="452" h="367">
                <a:moveTo>
                  <a:pt x="0" y="0"/>
                </a:moveTo>
                <a:lnTo>
                  <a:pt x="31" y="5"/>
                </a:lnTo>
                <a:lnTo>
                  <a:pt x="62" y="10"/>
                </a:lnTo>
                <a:lnTo>
                  <a:pt x="90" y="15"/>
                </a:lnTo>
                <a:lnTo>
                  <a:pt x="116" y="22"/>
                </a:lnTo>
                <a:lnTo>
                  <a:pt x="143" y="26"/>
                </a:lnTo>
                <a:lnTo>
                  <a:pt x="167" y="31"/>
                </a:lnTo>
                <a:lnTo>
                  <a:pt x="190" y="36"/>
                </a:lnTo>
                <a:lnTo>
                  <a:pt x="212" y="38"/>
                </a:lnTo>
                <a:lnTo>
                  <a:pt x="231" y="43"/>
                </a:lnTo>
                <a:lnTo>
                  <a:pt x="250" y="48"/>
                </a:lnTo>
                <a:lnTo>
                  <a:pt x="267" y="53"/>
                </a:lnTo>
                <a:lnTo>
                  <a:pt x="281" y="55"/>
                </a:lnTo>
                <a:lnTo>
                  <a:pt x="295" y="60"/>
                </a:lnTo>
                <a:lnTo>
                  <a:pt x="309" y="62"/>
                </a:lnTo>
                <a:lnTo>
                  <a:pt x="319" y="65"/>
                </a:lnTo>
                <a:lnTo>
                  <a:pt x="331" y="67"/>
                </a:lnTo>
                <a:lnTo>
                  <a:pt x="343" y="79"/>
                </a:lnTo>
                <a:lnTo>
                  <a:pt x="357" y="91"/>
                </a:lnTo>
                <a:lnTo>
                  <a:pt x="371" y="103"/>
                </a:lnTo>
                <a:lnTo>
                  <a:pt x="383" y="117"/>
                </a:lnTo>
                <a:lnTo>
                  <a:pt x="395" y="131"/>
                </a:lnTo>
                <a:lnTo>
                  <a:pt x="407" y="145"/>
                </a:lnTo>
                <a:lnTo>
                  <a:pt x="419" y="162"/>
                </a:lnTo>
                <a:lnTo>
                  <a:pt x="429" y="176"/>
                </a:lnTo>
                <a:lnTo>
                  <a:pt x="433" y="195"/>
                </a:lnTo>
                <a:lnTo>
                  <a:pt x="436" y="215"/>
                </a:lnTo>
                <a:lnTo>
                  <a:pt x="441" y="234"/>
                </a:lnTo>
                <a:lnTo>
                  <a:pt x="445" y="250"/>
                </a:lnTo>
                <a:lnTo>
                  <a:pt x="448" y="264"/>
                </a:lnTo>
                <a:lnTo>
                  <a:pt x="450" y="281"/>
                </a:lnTo>
                <a:lnTo>
                  <a:pt x="452" y="298"/>
                </a:lnTo>
                <a:lnTo>
                  <a:pt x="452" y="312"/>
                </a:lnTo>
                <a:lnTo>
                  <a:pt x="452" y="319"/>
                </a:lnTo>
                <a:lnTo>
                  <a:pt x="450" y="326"/>
                </a:lnTo>
                <a:lnTo>
                  <a:pt x="448" y="338"/>
                </a:lnTo>
                <a:lnTo>
                  <a:pt x="443" y="348"/>
                </a:lnTo>
                <a:lnTo>
                  <a:pt x="433" y="355"/>
                </a:lnTo>
                <a:lnTo>
                  <a:pt x="424" y="360"/>
                </a:lnTo>
                <a:lnTo>
                  <a:pt x="412" y="364"/>
                </a:lnTo>
                <a:lnTo>
                  <a:pt x="395" y="364"/>
                </a:lnTo>
                <a:lnTo>
                  <a:pt x="379" y="367"/>
                </a:lnTo>
                <a:lnTo>
                  <a:pt x="367" y="367"/>
                </a:lnTo>
                <a:lnTo>
                  <a:pt x="355" y="364"/>
                </a:lnTo>
                <a:lnTo>
                  <a:pt x="343" y="360"/>
                </a:lnTo>
                <a:lnTo>
                  <a:pt x="331" y="357"/>
                </a:lnTo>
                <a:lnTo>
                  <a:pt x="317" y="350"/>
                </a:lnTo>
                <a:lnTo>
                  <a:pt x="305" y="345"/>
                </a:lnTo>
                <a:lnTo>
                  <a:pt x="290" y="336"/>
                </a:lnTo>
                <a:lnTo>
                  <a:pt x="276" y="329"/>
                </a:lnTo>
                <a:lnTo>
                  <a:pt x="262" y="317"/>
                </a:lnTo>
                <a:lnTo>
                  <a:pt x="248" y="307"/>
                </a:lnTo>
                <a:lnTo>
                  <a:pt x="231" y="293"/>
                </a:lnTo>
                <a:lnTo>
                  <a:pt x="214" y="281"/>
                </a:lnTo>
                <a:lnTo>
                  <a:pt x="200" y="267"/>
                </a:lnTo>
                <a:lnTo>
                  <a:pt x="181" y="250"/>
                </a:lnTo>
                <a:lnTo>
                  <a:pt x="164" y="234"/>
                </a:lnTo>
                <a:lnTo>
                  <a:pt x="147" y="217"/>
                </a:lnTo>
                <a:lnTo>
                  <a:pt x="128" y="200"/>
                </a:lnTo>
                <a:lnTo>
                  <a:pt x="112" y="181"/>
                </a:lnTo>
                <a:lnTo>
                  <a:pt x="97" y="165"/>
                </a:lnTo>
                <a:lnTo>
                  <a:pt x="83" y="148"/>
                </a:lnTo>
                <a:lnTo>
                  <a:pt x="69" y="134"/>
                </a:lnTo>
                <a:lnTo>
                  <a:pt x="57" y="117"/>
                </a:lnTo>
                <a:lnTo>
                  <a:pt x="47" y="103"/>
                </a:lnTo>
                <a:lnTo>
                  <a:pt x="38" y="88"/>
                </a:lnTo>
                <a:lnTo>
                  <a:pt x="28" y="74"/>
                </a:lnTo>
                <a:lnTo>
                  <a:pt x="21" y="62"/>
                </a:lnTo>
                <a:lnTo>
                  <a:pt x="14" y="50"/>
                </a:lnTo>
                <a:lnTo>
                  <a:pt x="9" y="38"/>
                </a:lnTo>
                <a:lnTo>
                  <a:pt x="4" y="26"/>
                </a:lnTo>
                <a:lnTo>
                  <a:pt x="2" y="17"/>
                </a:lnTo>
                <a:lnTo>
                  <a:pt x="0" y="7"/>
                </a:lnTo>
                <a:lnTo>
                  <a:pt x="0" y="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4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9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64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9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4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9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84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89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94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05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10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图片 1" descr="timg (7)"/>
          <p:cNvPicPr/>
          <p:nvPr/>
        </p:nvPicPr>
        <p:blipFill>
          <a:blip r:embed="rId1"/>
          <a:stretch/>
        </p:blipFill>
        <p:spPr>
          <a:xfrm>
            <a:off x="-598320" y="-252360"/>
            <a:ext cx="10058400" cy="7543800"/>
          </a:xfrm>
          <a:prstGeom prst="rect">
            <a:avLst/>
          </a:prstGeom>
          <a:ln w="0">
            <a:noFill/>
          </a:ln>
        </p:spPr>
      </p:pic>
      <p:sp>
        <p:nvSpPr>
          <p:cNvPr id="612" name="文本框 2"/>
          <p:cNvSpPr/>
          <p:nvPr/>
        </p:nvSpPr>
        <p:spPr>
          <a:xfrm>
            <a:off x="-177840" y="216000"/>
            <a:ext cx="4902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华文楷体"/>
                <a:ea typeface="华文楷体"/>
              </a:rPr>
              <a:t>金山</a:t>
            </a:r>
            <a:r>
              <a:rPr b="0" lang="zh-CN" sz="8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寺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8800" spc="-1" strike="noStrike">
                <a:solidFill>
                  <a:srgbClr val="4f81bd"/>
                </a:solidFill>
                <a:latin typeface="华文楷体"/>
                <a:ea typeface="华文楷体"/>
              </a:rPr>
              <a:t> </a:t>
            </a:r>
            <a:r>
              <a:rPr b="0" lang="zh-CN" sz="8800" spc="-1" strike="noStrike">
                <a:solidFill>
                  <a:srgbClr val="4f81bd"/>
                </a:solidFill>
                <a:latin typeface="华文楷体"/>
                <a:ea typeface="华文楷体"/>
              </a:rPr>
              <a:t>江苏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Freeform 36"/>
          <p:cNvSpPr/>
          <p:nvPr/>
        </p:nvSpPr>
        <p:spPr>
          <a:xfrm>
            <a:off x="5554800" y="2430360"/>
            <a:ext cx="204480" cy="647640"/>
          </a:xfrm>
          <a:custGeom>
            <a:avLst/>
            <a:gdLst/>
            <a:ahLst/>
            <a:rect l="l" t="t" r="r" b="b"/>
            <a:pathLst>
              <a:path w="322" h="1021">
                <a:moveTo>
                  <a:pt x="17" y="4"/>
                </a:moveTo>
                <a:lnTo>
                  <a:pt x="24" y="2"/>
                </a:lnTo>
                <a:lnTo>
                  <a:pt x="31" y="0"/>
                </a:lnTo>
                <a:lnTo>
                  <a:pt x="38" y="0"/>
                </a:lnTo>
                <a:lnTo>
                  <a:pt x="48" y="0"/>
                </a:lnTo>
                <a:lnTo>
                  <a:pt x="55" y="0"/>
                </a:lnTo>
                <a:lnTo>
                  <a:pt x="64" y="0"/>
                </a:lnTo>
                <a:lnTo>
                  <a:pt x="74" y="2"/>
                </a:lnTo>
                <a:lnTo>
                  <a:pt x="83" y="4"/>
                </a:lnTo>
                <a:lnTo>
                  <a:pt x="95" y="7"/>
                </a:lnTo>
                <a:lnTo>
                  <a:pt x="105" y="9"/>
                </a:lnTo>
                <a:lnTo>
                  <a:pt x="117" y="14"/>
                </a:lnTo>
                <a:lnTo>
                  <a:pt x="131" y="19"/>
                </a:lnTo>
                <a:lnTo>
                  <a:pt x="143" y="23"/>
                </a:lnTo>
                <a:lnTo>
                  <a:pt x="157" y="31"/>
                </a:lnTo>
                <a:lnTo>
                  <a:pt x="172" y="38"/>
                </a:lnTo>
                <a:lnTo>
                  <a:pt x="188" y="45"/>
                </a:lnTo>
                <a:lnTo>
                  <a:pt x="195" y="85"/>
                </a:lnTo>
                <a:lnTo>
                  <a:pt x="203" y="126"/>
                </a:lnTo>
                <a:lnTo>
                  <a:pt x="210" y="166"/>
                </a:lnTo>
                <a:lnTo>
                  <a:pt x="217" y="204"/>
                </a:lnTo>
                <a:lnTo>
                  <a:pt x="224" y="242"/>
                </a:lnTo>
                <a:lnTo>
                  <a:pt x="231" y="278"/>
                </a:lnTo>
                <a:lnTo>
                  <a:pt x="238" y="314"/>
                </a:lnTo>
                <a:lnTo>
                  <a:pt x="245" y="349"/>
                </a:lnTo>
                <a:lnTo>
                  <a:pt x="250" y="383"/>
                </a:lnTo>
                <a:lnTo>
                  <a:pt x="257" y="416"/>
                </a:lnTo>
                <a:lnTo>
                  <a:pt x="262" y="447"/>
                </a:lnTo>
                <a:lnTo>
                  <a:pt x="267" y="478"/>
                </a:lnTo>
                <a:lnTo>
                  <a:pt x="272" y="507"/>
                </a:lnTo>
                <a:lnTo>
                  <a:pt x="279" y="535"/>
                </a:lnTo>
                <a:lnTo>
                  <a:pt x="281" y="564"/>
                </a:lnTo>
                <a:lnTo>
                  <a:pt x="286" y="590"/>
                </a:lnTo>
                <a:lnTo>
                  <a:pt x="291" y="616"/>
                </a:lnTo>
                <a:lnTo>
                  <a:pt x="295" y="640"/>
                </a:lnTo>
                <a:lnTo>
                  <a:pt x="298" y="664"/>
                </a:lnTo>
                <a:lnTo>
                  <a:pt x="303" y="685"/>
                </a:lnTo>
                <a:lnTo>
                  <a:pt x="305" y="706"/>
                </a:lnTo>
                <a:lnTo>
                  <a:pt x="307" y="728"/>
                </a:lnTo>
                <a:lnTo>
                  <a:pt x="312" y="747"/>
                </a:lnTo>
                <a:lnTo>
                  <a:pt x="315" y="766"/>
                </a:lnTo>
                <a:lnTo>
                  <a:pt x="315" y="783"/>
                </a:lnTo>
                <a:lnTo>
                  <a:pt x="317" y="799"/>
                </a:lnTo>
                <a:lnTo>
                  <a:pt x="319" y="814"/>
                </a:lnTo>
                <a:lnTo>
                  <a:pt x="319" y="828"/>
                </a:lnTo>
                <a:lnTo>
                  <a:pt x="322" y="840"/>
                </a:lnTo>
                <a:lnTo>
                  <a:pt x="322" y="852"/>
                </a:lnTo>
                <a:lnTo>
                  <a:pt x="322" y="861"/>
                </a:lnTo>
                <a:lnTo>
                  <a:pt x="322" y="871"/>
                </a:lnTo>
                <a:lnTo>
                  <a:pt x="322" y="890"/>
                </a:lnTo>
                <a:lnTo>
                  <a:pt x="322" y="904"/>
                </a:lnTo>
                <a:lnTo>
                  <a:pt x="322" y="921"/>
                </a:lnTo>
                <a:lnTo>
                  <a:pt x="319" y="935"/>
                </a:lnTo>
                <a:lnTo>
                  <a:pt x="319" y="947"/>
                </a:lnTo>
                <a:lnTo>
                  <a:pt x="317" y="961"/>
                </a:lnTo>
                <a:lnTo>
                  <a:pt x="315" y="971"/>
                </a:lnTo>
                <a:lnTo>
                  <a:pt x="315" y="983"/>
                </a:lnTo>
                <a:lnTo>
                  <a:pt x="312" y="990"/>
                </a:lnTo>
                <a:lnTo>
                  <a:pt x="307" y="999"/>
                </a:lnTo>
                <a:lnTo>
                  <a:pt x="305" y="1004"/>
                </a:lnTo>
                <a:lnTo>
                  <a:pt x="303" y="1011"/>
                </a:lnTo>
                <a:lnTo>
                  <a:pt x="298" y="1016"/>
                </a:lnTo>
                <a:lnTo>
                  <a:pt x="295" y="1018"/>
                </a:lnTo>
                <a:lnTo>
                  <a:pt x="291" y="1021"/>
                </a:lnTo>
                <a:lnTo>
                  <a:pt x="286" y="1021"/>
                </a:lnTo>
                <a:lnTo>
                  <a:pt x="284" y="1021"/>
                </a:lnTo>
                <a:lnTo>
                  <a:pt x="279" y="1018"/>
                </a:lnTo>
                <a:lnTo>
                  <a:pt x="276" y="1016"/>
                </a:lnTo>
                <a:lnTo>
                  <a:pt x="272" y="1014"/>
                </a:lnTo>
                <a:lnTo>
                  <a:pt x="269" y="1009"/>
                </a:lnTo>
                <a:lnTo>
                  <a:pt x="264" y="1004"/>
                </a:lnTo>
                <a:lnTo>
                  <a:pt x="262" y="999"/>
                </a:lnTo>
                <a:lnTo>
                  <a:pt x="257" y="992"/>
                </a:lnTo>
                <a:lnTo>
                  <a:pt x="255" y="985"/>
                </a:lnTo>
                <a:lnTo>
                  <a:pt x="250" y="978"/>
                </a:lnTo>
                <a:lnTo>
                  <a:pt x="248" y="968"/>
                </a:lnTo>
                <a:lnTo>
                  <a:pt x="243" y="959"/>
                </a:lnTo>
                <a:lnTo>
                  <a:pt x="241" y="947"/>
                </a:lnTo>
                <a:lnTo>
                  <a:pt x="236" y="937"/>
                </a:lnTo>
                <a:lnTo>
                  <a:pt x="233" y="923"/>
                </a:lnTo>
                <a:lnTo>
                  <a:pt x="229" y="911"/>
                </a:lnTo>
                <a:lnTo>
                  <a:pt x="226" y="897"/>
                </a:lnTo>
                <a:lnTo>
                  <a:pt x="222" y="883"/>
                </a:lnTo>
                <a:lnTo>
                  <a:pt x="217" y="866"/>
                </a:lnTo>
                <a:lnTo>
                  <a:pt x="214" y="849"/>
                </a:lnTo>
                <a:lnTo>
                  <a:pt x="210" y="833"/>
                </a:lnTo>
                <a:lnTo>
                  <a:pt x="205" y="814"/>
                </a:lnTo>
                <a:lnTo>
                  <a:pt x="203" y="795"/>
                </a:lnTo>
                <a:lnTo>
                  <a:pt x="198" y="776"/>
                </a:lnTo>
                <a:lnTo>
                  <a:pt x="193" y="754"/>
                </a:lnTo>
                <a:lnTo>
                  <a:pt x="191" y="733"/>
                </a:lnTo>
                <a:lnTo>
                  <a:pt x="186" y="711"/>
                </a:lnTo>
                <a:lnTo>
                  <a:pt x="181" y="687"/>
                </a:lnTo>
                <a:lnTo>
                  <a:pt x="176" y="664"/>
                </a:lnTo>
                <a:lnTo>
                  <a:pt x="172" y="640"/>
                </a:lnTo>
                <a:lnTo>
                  <a:pt x="169" y="614"/>
                </a:lnTo>
                <a:lnTo>
                  <a:pt x="164" y="587"/>
                </a:lnTo>
                <a:lnTo>
                  <a:pt x="157" y="561"/>
                </a:lnTo>
                <a:lnTo>
                  <a:pt x="152" y="535"/>
                </a:lnTo>
                <a:lnTo>
                  <a:pt x="148" y="509"/>
                </a:lnTo>
                <a:lnTo>
                  <a:pt x="143" y="485"/>
                </a:lnTo>
                <a:lnTo>
                  <a:pt x="136" y="461"/>
                </a:lnTo>
                <a:lnTo>
                  <a:pt x="131" y="440"/>
                </a:lnTo>
                <a:lnTo>
                  <a:pt x="126" y="419"/>
                </a:lnTo>
                <a:lnTo>
                  <a:pt x="122" y="397"/>
                </a:lnTo>
                <a:lnTo>
                  <a:pt x="117" y="376"/>
                </a:lnTo>
                <a:lnTo>
                  <a:pt x="112" y="354"/>
                </a:lnTo>
                <a:lnTo>
                  <a:pt x="110" y="335"/>
                </a:lnTo>
                <a:lnTo>
                  <a:pt x="105" y="316"/>
                </a:lnTo>
                <a:lnTo>
                  <a:pt x="100" y="300"/>
                </a:lnTo>
                <a:lnTo>
                  <a:pt x="95" y="283"/>
                </a:lnTo>
                <a:lnTo>
                  <a:pt x="91" y="266"/>
                </a:lnTo>
                <a:lnTo>
                  <a:pt x="88" y="250"/>
                </a:lnTo>
                <a:lnTo>
                  <a:pt x="83" y="235"/>
                </a:lnTo>
                <a:lnTo>
                  <a:pt x="79" y="221"/>
                </a:lnTo>
                <a:lnTo>
                  <a:pt x="76" y="207"/>
                </a:lnTo>
                <a:lnTo>
                  <a:pt x="71" y="192"/>
                </a:lnTo>
                <a:lnTo>
                  <a:pt x="67" y="181"/>
                </a:lnTo>
                <a:lnTo>
                  <a:pt x="64" y="169"/>
                </a:lnTo>
                <a:lnTo>
                  <a:pt x="60" y="157"/>
                </a:lnTo>
                <a:lnTo>
                  <a:pt x="57" y="147"/>
                </a:lnTo>
                <a:lnTo>
                  <a:pt x="52" y="138"/>
                </a:lnTo>
                <a:lnTo>
                  <a:pt x="50" y="128"/>
                </a:lnTo>
                <a:lnTo>
                  <a:pt x="45" y="119"/>
                </a:lnTo>
                <a:lnTo>
                  <a:pt x="43" y="111"/>
                </a:lnTo>
                <a:lnTo>
                  <a:pt x="38" y="104"/>
                </a:lnTo>
                <a:lnTo>
                  <a:pt x="36" y="97"/>
                </a:lnTo>
                <a:lnTo>
                  <a:pt x="33" y="90"/>
                </a:lnTo>
                <a:lnTo>
                  <a:pt x="29" y="85"/>
                </a:lnTo>
                <a:lnTo>
                  <a:pt x="21" y="78"/>
                </a:lnTo>
                <a:lnTo>
                  <a:pt x="17" y="71"/>
                </a:lnTo>
                <a:lnTo>
                  <a:pt x="12" y="64"/>
                </a:lnTo>
                <a:lnTo>
                  <a:pt x="7" y="57"/>
                </a:lnTo>
                <a:lnTo>
                  <a:pt x="5" y="52"/>
                </a:lnTo>
                <a:lnTo>
                  <a:pt x="2" y="45"/>
                </a:lnTo>
                <a:lnTo>
                  <a:pt x="0" y="40"/>
                </a:lnTo>
                <a:lnTo>
                  <a:pt x="0" y="35"/>
                </a:lnTo>
                <a:lnTo>
                  <a:pt x="0" y="31"/>
                </a:lnTo>
                <a:lnTo>
                  <a:pt x="0" y="26"/>
                </a:lnTo>
                <a:lnTo>
                  <a:pt x="2" y="21"/>
                </a:lnTo>
                <a:lnTo>
                  <a:pt x="2" y="16"/>
                </a:lnTo>
                <a:lnTo>
                  <a:pt x="5" y="14"/>
                </a:lnTo>
                <a:lnTo>
                  <a:pt x="10" y="9"/>
                </a:lnTo>
                <a:lnTo>
                  <a:pt x="12" y="7"/>
                </a:lnTo>
                <a:lnTo>
                  <a:pt x="17" y="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TextBox 27"/>
          <p:cNvSpPr/>
          <p:nvPr/>
        </p:nvSpPr>
        <p:spPr>
          <a:xfrm>
            <a:off x="1009800" y="2546280"/>
            <a:ext cx="13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野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TextBox 3"/>
          <p:cNvSpPr/>
          <p:nvPr/>
        </p:nvSpPr>
        <p:spPr>
          <a:xfrm>
            <a:off x="1384200" y="2027160"/>
            <a:ext cx="95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yě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0" name="Group 4"/>
          <p:cNvGrpSpPr/>
          <p:nvPr/>
        </p:nvGrpSpPr>
        <p:grpSpPr>
          <a:xfrm>
            <a:off x="4932360" y="1700280"/>
            <a:ext cx="2879640" cy="2879640"/>
            <a:chOff x="4932360" y="1700280"/>
            <a:chExt cx="2879640" cy="2879640"/>
          </a:xfrm>
        </p:grpSpPr>
        <p:sp>
          <p:nvSpPr>
            <p:cNvPr id="981" name="Rectangle 5"/>
            <p:cNvSpPr/>
            <p:nvPr/>
          </p:nvSpPr>
          <p:spPr>
            <a:xfrm>
              <a:off x="637200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2" name="Rectangle 6"/>
            <p:cNvSpPr/>
            <p:nvPr/>
          </p:nvSpPr>
          <p:spPr>
            <a:xfrm>
              <a:off x="4932360" y="3128400"/>
              <a:ext cx="1439640" cy="14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3" name="Rectangle 7"/>
            <p:cNvSpPr/>
            <p:nvPr/>
          </p:nvSpPr>
          <p:spPr>
            <a:xfrm>
              <a:off x="637200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4" name="Rectangle 8"/>
            <p:cNvSpPr/>
            <p:nvPr/>
          </p:nvSpPr>
          <p:spPr>
            <a:xfrm>
              <a:off x="4932360" y="1700280"/>
              <a:ext cx="1439640" cy="14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5" name="Line 9"/>
            <p:cNvSpPr/>
            <p:nvPr/>
          </p:nvSpPr>
          <p:spPr>
            <a:xfrm>
              <a:off x="4932360" y="170028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6" name="Line 10"/>
            <p:cNvSpPr/>
            <p:nvPr/>
          </p:nvSpPr>
          <p:spPr>
            <a:xfrm>
              <a:off x="4932360" y="4579920"/>
              <a:ext cx="2879640" cy="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7" name="Line 11"/>
            <p:cNvSpPr/>
            <p:nvPr/>
          </p:nvSpPr>
          <p:spPr>
            <a:xfrm>
              <a:off x="493236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8" name="Line 12"/>
            <p:cNvSpPr/>
            <p:nvPr/>
          </p:nvSpPr>
          <p:spPr>
            <a:xfrm>
              <a:off x="7812000" y="1700280"/>
              <a:ext cx="0" cy="2879640"/>
            </a:xfrm>
            <a:prstGeom prst="line">
              <a:avLst/>
            </a:prstGeom>
            <a:ln cap="rnd" w="63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9" name="Line 13"/>
            <p:cNvSpPr/>
            <p:nvPr/>
          </p:nvSpPr>
          <p:spPr>
            <a:xfrm>
              <a:off x="4932360" y="3128400"/>
              <a:ext cx="2879640" cy="0"/>
            </a:xfrm>
            <a:prstGeom prst="line">
              <a:avLst/>
            </a:prstGeom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0" name="Line 14"/>
            <p:cNvSpPr/>
            <p:nvPr/>
          </p:nvSpPr>
          <p:spPr>
            <a:xfrm>
              <a:off x="6372000" y="1700280"/>
              <a:ext cx="0" cy="2879640"/>
            </a:xfrm>
            <a:prstGeom prst="line">
              <a:avLst/>
            </a:prstGeom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1" name="TextBox 15"/>
          <p:cNvSpPr/>
          <p:nvPr/>
        </p:nvSpPr>
        <p:spPr>
          <a:xfrm>
            <a:off x="4619520" y="4857840"/>
            <a:ext cx="42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书写指导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右上边横撇下面有一点，中间的横撇要稍长些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TextBox 16"/>
          <p:cNvSpPr/>
          <p:nvPr/>
        </p:nvSpPr>
        <p:spPr>
          <a:xfrm>
            <a:off x="2357280" y="310032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部首：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里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TextBox 17"/>
          <p:cNvSpPr/>
          <p:nvPr/>
        </p:nvSpPr>
        <p:spPr>
          <a:xfrm>
            <a:off x="898560" y="4538520"/>
            <a:ext cx="303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组词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田野 野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TextBox 18"/>
          <p:cNvSpPr/>
          <p:nvPr/>
        </p:nvSpPr>
        <p:spPr>
          <a:xfrm>
            <a:off x="857160" y="4943520"/>
            <a:ext cx="364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  <a:ea typeface="宋体"/>
              </a:rPr>
              <a:t>造句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四野都是绿油油的庄稼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文本框 30"/>
          <p:cNvSpPr/>
          <p:nvPr/>
        </p:nvSpPr>
        <p:spPr>
          <a:xfrm>
            <a:off x="2135160" y="2643480"/>
            <a:ext cx="200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音序：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文本框 31"/>
          <p:cNvSpPr/>
          <p:nvPr/>
        </p:nvSpPr>
        <p:spPr>
          <a:xfrm>
            <a:off x="2214720" y="3572280"/>
            <a:ext cx="207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宋体"/>
                <a:ea typeface="宋体"/>
              </a:rPr>
              <a:t>结构</a:t>
            </a:r>
            <a:r>
              <a:rPr b="1" lang="en-US" sz="2000" spc="-1" strike="noStrike">
                <a:solidFill>
                  <a:srgbClr val="0000ff"/>
                </a:solidFill>
                <a:latin typeface="宋体"/>
                <a:ea typeface="宋体"/>
              </a:rPr>
              <a:t>: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左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Rectangle 27"/>
          <p:cNvSpPr/>
          <p:nvPr/>
        </p:nvSpPr>
        <p:spPr>
          <a:xfrm>
            <a:off x="3419280" y="2225520"/>
            <a:ext cx="3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Freeform 37"/>
          <p:cNvSpPr/>
          <p:nvPr/>
        </p:nvSpPr>
        <p:spPr>
          <a:xfrm>
            <a:off x="5634000" y="2325600"/>
            <a:ext cx="723960" cy="658800"/>
          </a:xfrm>
          <a:custGeom>
            <a:avLst/>
            <a:gdLst/>
            <a:ahLst/>
            <a:rect l="l" t="t" r="r" b="b"/>
            <a:pathLst>
              <a:path w="1139" h="1038">
                <a:moveTo>
                  <a:pt x="944" y="929"/>
                </a:moveTo>
                <a:lnTo>
                  <a:pt x="939" y="943"/>
                </a:lnTo>
                <a:lnTo>
                  <a:pt x="934" y="957"/>
                </a:lnTo>
                <a:lnTo>
                  <a:pt x="930" y="969"/>
                </a:lnTo>
                <a:lnTo>
                  <a:pt x="925" y="981"/>
                </a:lnTo>
                <a:lnTo>
                  <a:pt x="920" y="993"/>
                </a:lnTo>
                <a:lnTo>
                  <a:pt x="915" y="1002"/>
                </a:lnTo>
                <a:lnTo>
                  <a:pt x="910" y="1010"/>
                </a:lnTo>
                <a:lnTo>
                  <a:pt x="906" y="1019"/>
                </a:lnTo>
                <a:lnTo>
                  <a:pt x="901" y="1024"/>
                </a:lnTo>
                <a:lnTo>
                  <a:pt x="896" y="1029"/>
                </a:lnTo>
                <a:lnTo>
                  <a:pt x="891" y="1033"/>
                </a:lnTo>
                <a:lnTo>
                  <a:pt x="887" y="1036"/>
                </a:lnTo>
                <a:lnTo>
                  <a:pt x="884" y="1038"/>
                </a:lnTo>
                <a:lnTo>
                  <a:pt x="880" y="1038"/>
                </a:lnTo>
                <a:lnTo>
                  <a:pt x="875" y="1038"/>
                </a:lnTo>
                <a:lnTo>
                  <a:pt x="870" y="1036"/>
                </a:lnTo>
                <a:lnTo>
                  <a:pt x="860" y="1036"/>
                </a:lnTo>
                <a:lnTo>
                  <a:pt x="853" y="1033"/>
                </a:lnTo>
                <a:lnTo>
                  <a:pt x="846" y="1031"/>
                </a:lnTo>
                <a:lnTo>
                  <a:pt x="841" y="1024"/>
                </a:lnTo>
                <a:lnTo>
                  <a:pt x="839" y="1017"/>
                </a:lnTo>
                <a:lnTo>
                  <a:pt x="834" y="1007"/>
                </a:lnTo>
                <a:lnTo>
                  <a:pt x="834" y="1002"/>
                </a:lnTo>
                <a:lnTo>
                  <a:pt x="834" y="995"/>
                </a:lnTo>
                <a:lnTo>
                  <a:pt x="832" y="990"/>
                </a:lnTo>
                <a:lnTo>
                  <a:pt x="832" y="983"/>
                </a:lnTo>
                <a:lnTo>
                  <a:pt x="832" y="974"/>
                </a:lnTo>
                <a:lnTo>
                  <a:pt x="829" y="964"/>
                </a:lnTo>
                <a:lnTo>
                  <a:pt x="829" y="952"/>
                </a:lnTo>
                <a:lnTo>
                  <a:pt x="829" y="938"/>
                </a:lnTo>
                <a:lnTo>
                  <a:pt x="829" y="924"/>
                </a:lnTo>
                <a:lnTo>
                  <a:pt x="829" y="907"/>
                </a:lnTo>
                <a:lnTo>
                  <a:pt x="832" y="888"/>
                </a:lnTo>
                <a:lnTo>
                  <a:pt x="834" y="869"/>
                </a:lnTo>
                <a:lnTo>
                  <a:pt x="837" y="848"/>
                </a:lnTo>
                <a:lnTo>
                  <a:pt x="839" y="824"/>
                </a:lnTo>
                <a:lnTo>
                  <a:pt x="844" y="798"/>
                </a:lnTo>
                <a:lnTo>
                  <a:pt x="846" y="772"/>
                </a:lnTo>
                <a:lnTo>
                  <a:pt x="851" y="741"/>
                </a:lnTo>
                <a:lnTo>
                  <a:pt x="858" y="710"/>
                </a:lnTo>
                <a:lnTo>
                  <a:pt x="863" y="679"/>
                </a:lnTo>
                <a:lnTo>
                  <a:pt x="870" y="643"/>
                </a:lnTo>
                <a:lnTo>
                  <a:pt x="875" y="610"/>
                </a:lnTo>
                <a:lnTo>
                  <a:pt x="877" y="576"/>
                </a:lnTo>
                <a:lnTo>
                  <a:pt x="882" y="543"/>
                </a:lnTo>
                <a:lnTo>
                  <a:pt x="884" y="514"/>
                </a:lnTo>
                <a:lnTo>
                  <a:pt x="889" y="486"/>
                </a:lnTo>
                <a:lnTo>
                  <a:pt x="891" y="457"/>
                </a:lnTo>
                <a:lnTo>
                  <a:pt x="894" y="434"/>
                </a:lnTo>
                <a:lnTo>
                  <a:pt x="896" y="410"/>
                </a:lnTo>
                <a:lnTo>
                  <a:pt x="899" y="388"/>
                </a:lnTo>
                <a:lnTo>
                  <a:pt x="901" y="367"/>
                </a:lnTo>
                <a:lnTo>
                  <a:pt x="903" y="348"/>
                </a:lnTo>
                <a:lnTo>
                  <a:pt x="903" y="331"/>
                </a:lnTo>
                <a:lnTo>
                  <a:pt x="906" y="315"/>
                </a:lnTo>
                <a:lnTo>
                  <a:pt x="906" y="300"/>
                </a:lnTo>
                <a:lnTo>
                  <a:pt x="906" y="288"/>
                </a:lnTo>
                <a:lnTo>
                  <a:pt x="906" y="276"/>
                </a:lnTo>
                <a:lnTo>
                  <a:pt x="903" y="267"/>
                </a:lnTo>
                <a:lnTo>
                  <a:pt x="901" y="257"/>
                </a:lnTo>
                <a:lnTo>
                  <a:pt x="899" y="250"/>
                </a:lnTo>
                <a:lnTo>
                  <a:pt x="896" y="241"/>
                </a:lnTo>
                <a:lnTo>
                  <a:pt x="891" y="227"/>
                </a:lnTo>
                <a:lnTo>
                  <a:pt x="884" y="215"/>
                </a:lnTo>
                <a:lnTo>
                  <a:pt x="877" y="205"/>
                </a:lnTo>
                <a:lnTo>
                  <a:pt x="868" y="196"/>
                </a:lnTo>
                <a:lnTo>
                  <a:pt x="858" y="188"/>
                </a:lnTo>
                <a:lnTo>
                  <a:pt x="846" y="184"/>
                </a:lnTo>
                <a:lnTo>
                  <a:pt x="841" y="181"/>
                </a:lnTo>
                <a:lnTo>
                  <a:pt x="834" y="181"/>
                </a:lnTo>
                <a:lnTo>
                  <a:pt x="827" y="181"/>
                </a:lnTo>
                <a:lnTo>
                  <a:pt x="820" y="181"/>
                </a:lnTo>
                <a:lnTo>
                  <a:pt x="810" y="181"/>
                </a:lnTo>
                <a:lnTo>
                  <a:pt x="799" y="181"/>
                </a:lnTo>
                <a:lnTo>
                  <a:pt x="787" y="184"/>
                </a:lnTo>
                <a:lnTo>
                  <a:pt x="772" y="184"/>
                </a:lnTo>
                <a:lnTo>
                  <a:pt x="756" y="186"/>
                </a:lnTo>
                <a:lnTo>
                  <a:pt x="739" y="188"/>
                </a:lnTo>
                <a:lnTo>
                  <a:pt x="720" y="191"/>
                </a:lnTo>
                <a:lnTo>
                  <a:pt x="701" y="196"/>
                </a:lnTo>
                <a:lnTo>
                  <a:pt x="679" y="198"/>
                </a:lnTo>
                <a:lnTo>
                  <a:pt x="656" y="203"/>
                </a:lnTo>
                <a:lnTo>
                  <a:pt x="632" y="205"/>
                </a:lnTo>
                <a:lnTo>
                  <a:pt x="605" y="210"/>
                </a:lnTo>
                <a:lnTo>
                  <a:pt x="579" y="215"/>
                </a:lnTo>
                <a:lnTo>
                  <a:pt x="551" y="222"/>
                </a:lnTo>
                <a:lnTo>
                  <a:pt x="520" y="227"/>
                </a:lnTo>
                <a:lnTo>
                  <a:pt x="489" y="231"/>
                </a:lnTo>
                <a:lnTo>
                  <a:pt x="455" y="238"/>
                </a:lnTo>
                <a:lnTo>
                  <a:pt x="422" y="246"/>
                </a:lnTo>
                <a:lnTo>
                  <a:pt x="386" y="253"/>
                </a:lnTo>
                <a:lnTo>
                  <a:pt x="351" y="260"/>
                </a:lnTo>
                <a:lnTo>
                  <a:pt x="310" y="267"/>
                </a:lnTo>
                <a:lnTo>
                  <a:pt x="272" y="276"/>
                </a:lnTo>
                <a:lnTo>
                  <a:pt x="229" y="284"/>
                </a:lnTo>
                <a:lnTo>
                  <a:pt x="186" y="293"/>
                </a:lnTo>
                <a:lnTo>
                  <a:pt x="143" y="303"/>
                </a:lnTo>
                <a:lnTo>
                  <a:pt x="96" y="312"/>
                </a:lnTo>
                <a:lnTo>
                  <a:pt x="50" y="322"/>
                </a:lnTo>
                <a:lnTo>
                  <a:pt x="0" y="331"/>
                </a:lnTo>
                <a:lnTo>
                  <a:pt x="0" y="210"/>
                </a:lnTo>
                <a:lnTo>
                  <a:pt x="43" y="205"/>
                </a:lnTo>
                <a:lnTo>
                  <a:pt x="86" y="200"/>
                </a:lnTo>
                <a:lnTo>
                  <a:pt x="129" y="193"/>
                </a:lnTo>
                <a:lnTo>
                  <a:pt x="172" y="188"/>
                </a:lnTo>
                <a:lnTo>
                  <a:pt x="215" y="181"/>
                </a:lnTo>
                <a:lnTo>
                  <a:pt x="260" y="174"/>
                </a:lnTo>
                <a:lnTo>
                  <a:pt x="300" y="165"/>
                </a:lnTo>
                <a:lnTo>
                  <a:pt x="343" y="155"/>
                </a:lnTo>
                <a:lnTo>
                  <a:pt x="384" y="150"/>
                </a:lnTo>
                <a:lnTo>
                  <a:pt x="424" y="143"/>
                </a:lnTo>
                <a:lnTo>
                  <a:pt x="463" y="136"/>
                </a:lnTo>
                <a:lnTo>
                  <a:pt x="503" y="127"/>
                </a:lnTo>
                <a:lnTo>
                  <a:pt x="541" y="117"/>
                </a:lnTo>
                <a:lnTo>
                  <a:pt x="582" y="108"/>
                </a:lnTo>
                <a:lnTo>
                  <a:pt x="620" y="98"/>
                </a:lnTo>
                <a:lnTo>
                  <a:pt x="663" y="88"/>
                </a:lnTo>
                <a:lnTo>
                  <a:pt x="682" y="86"/>
                </a:lnTo>
                <a:lnTo>
                  <a:pt x="701" y="81"/>
                </a:lnTo>
                <a:lnTo>
                  <a:pt x="717" y="79"/>
                </a:lnTo>
                <a:lnTo>
                  <a:pt x="734" y="74"/>
                </a:lnTo>
                <a:lnTo>
                  <a:pt x="751" y="72"/>
                </a:lnTo>
                <a:lnTo>
                  <a:pt x="765" y="67"/>
                </a:lnTo>
                <a:lnTo>
                  <a:pt x="779" y="62"/>
                </a:lnTo>
                <a:lnTo>
                  <a:pt x="791" y="60"/>
                </a:lnTo>
                <a:lnTo>
                  <a:pt x="803" y="55"/>
                </a:lnTo>
                <a:lnTo>
                  <a:pt x="813" y="50"/>
                </a:lnTo>
                <a:lnTo>
                  <a:pt x="822" y="46"/>
                </a:lnTo>
                <a:lnTo>
                  <a:pt x="832" y="41"/>
                </a:lnTo>
                <a:lnTo>
                  <a:pt x="839" y="36"/>
                </a:lnTo>
                <a:lnTo>
                  <a:pt x="846" y="31"/>
                </a:lnTo>
                <a:lnTo>
                  <a:pt x="853" y="24"/>
                </a:lnTo>
                <a:lnTo>
                  <a:pt x="858" y="19"/>
                </a:lnTo>
                <a:lnTo>
                  <a:pt x="863" y="15"/>
                </a:lnTo>
                <a:lnTo>
                  <a:pt x="868" y="10"/>
                </a:lnTo>
                <a:lnTo>
                  <a:pt x="877" y="5"/>
                </a:lnTo>
                <a:lnTo>
                  <a:pt x="884" y="3"/>
                </a:lnTo>
                <a:lnTo>
                  <a:pt x="894" y="0"/>
                </a:lnTo>
                <a:lnTo>
                  <a:pt x="906" y="0"/>
                </a:lnTo>
                <a:lnTo>
                  <a:pt x="918" y="3"/>
                </a:lnTo>
                <a:lnTo>
                  <a:pt x="925" y="5"/>
                </a:lnTo>
                <a:lnTo>
                  <a:pt x="932" y="8"/>
                </a:lnTo>
                <a:lnTo>
                  <a:pt x="944" y="12"/>
                </a:lnTo>
                <a:lnTo>
                  <a:pt x="958" y="19"/>
                </a:lnTo>
                <a:lnTo>
                  <a:pt x="972" y="27"/>
                </a:lnTo>
                <a:lnTo>
                  <a:pt x="989" y="36"/>
                </a:lnTo>
                <a:lnTo>
                  <a:pt x="1006" y="48"/>
                </a:lnTo>
                <a:lnTo>
                  <a:pt x="1025" y="60"/>
                </a:lnTo>
                <a:lnTo>
                  <a:pt x="1044" y="72"/>
                </a:lnTo>
                <a:lnTo>
                  <a:pt x="1065" y="88"/>
                </a:lnTo>
                <a:lnTo>
                  <a:pt x="1082" y="103"/>
                </a:lnTo>
                <a:lnTo>
                  <a:pt x="1096" y="117"/>
                </a:lnTo>
                <a:lnTo>
                  <a:pt x="1111" y="129"/>
                </a:lnTo>
                <a:lnTo>
                  <a:pt x="1120" y="141"/>
                </a:lnTo>
                <a:lnTo>
                  <a:pt x="1127" y="150"/>
                </a:lnTo>
                <a:lnTo>
                  <a:pt x="1134" y="162"/>
                </a:lnTo>
                <a:lnTo>
                  <a:pt x="1137" y="172"/>
                </a:lnTo>
                <a:lnTo>
                  <a:pt x="1139" y="184"/>
                </a:lnTo>
                <a:lnTo>
                  <a:pt x="1139" y="198"/>
                </a:lnTo>
                <a:lnTo>
                  <a:pt x="1137" y="210"/>
                </a:lnTo>
                <a:lnTo>
                  <a:pt x="1134" y="222"/>
                </a:lnTo>
                <a:lnTo>
                  <a:pt x="1130" y="234"/>
                </a:lnTo>
                <a:lnTo>
                  <a:pt x="1125" y="243"/>
                </a:lnTo>
                <a:lnTo>
                  <a:pt x="1118" y="250"/>
                </a:lnTo>
                <a:lnTo>
                  <a:pt x="1111" y="257"/>
                </a:lnTo>
                <a:lnTo>
                  <a:pt x="1101" y="265"/>
                </a:lnTo>
                <a:lnTo>
                  <a:pt x="1096" y="269"/>
                </a:lnTo>
                <a:lnTo>
                  <a:pt x="1094" y="276"/>
                </a:lnTo>
                <a:lnTo>
                  <a:pt x="1089" y="286"/>
                </a:lnTo>
                <a:lnTo>
                  <a:pt x="1084" y="298"/>
                </a:lnTo>
                <a:lnTo>
                  <a:pt x="1080" y="310"/>
                </a:lnTo>
                <a:lnTo>
                  <a:pt x="1075" y="324"/>
                </a:lnTo>
                <a:lnTo>
                  <a:pt x="1070" y="338"/>
                </a:lnTo>
                <a:lnTo>
                  <a:pt x="1065" y="355"/>
                </a:lnTo>
                <a:lnTo>
                  <a:pt x="1061" y="374"/>
                </a:lnTo>
                <a:lnTo>
                  <a:pt x="1056" y="393"/>
                </a:lnTo>
                <a:lnTo>
                  <a:pt x="1051" y="417"/>
                </a:lnTo>
                <a:lnTo>
                  <a:pt x="1046" y="438"/>
                </a:lnTo>
                <a:lnTo>
                  <a:pt x="1042" y="465"/>
                </a:lnTo>
                <a:lnTo>
                  <a:pt x="1037" y="491"/>
                </a:lnTo>
                <a:lnTo>
                  <a:pt x="1034" y="519"/>
                </a:lnTo>
                <a:lnTo>
                  <a:pt x="1030" y="548"/>
                </a:lnTo>
                <a:lnTo>
                  <a:pt x="1022" y="579"/>
                </a:lnTo>
                <a:lnTo>
                  <a:pt x="1015" y="607"/>
                </a:lnTo>
                <a:lnTo>
                  <a:pt x="1011" y="636"/>
                </a:lnTo>
                <a:lnTo>
                  <a:pt x="1003" y="662"/>
                </a:lnTo>
                <a:lnTo>
                  <a:pt x="999" y="691"/>
                </a:lnTo>
                <a:lnTo>
                  <a:pt x="992" y="714"/>
                </a:lnTo>
                <a:lnTo>
                  <a:pt x="987" y="741"/>
                </a:lnTo>
                <a:lnTo>
                  <a:pt x="982" y="764"/>
                </a:lnTo>
                <a:lnTo>
                  <a:pt x="977" y="786"/>
                </a:lnTo>
                <a:lnTo>
                  <a:pt x="970" y="810"/>
                </a:lnTo>
                <a:lnTo>
                  <a:pt x="965" y="831"/>
                </a:lnTo>
                <a:lnTo>
                  <a:pt x="961" y="852"/>
                </a:lnTo>
                <a:lnTo>
                  <a:pt x="956" y="871"/>
                </a:lnTo>
                <a:lnTo>
                  <a:pt x="951" y="891"/>
                </a:lnTo>
                <a:lnTo>
                  <a:pt x="949" y="910"/>
                </a:lnTo>
                <a:lnTo>
                  <a:pt x="944" y="92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Freeform 38"/>
          <p:cNvSpPr/>
          <p:nvPr/>
        </p:nvSpPr>
        <p:spPr>
          <a:xfrm>
            <a:off x="5789520" y="2637000"/>
            <a:ext cx="343080" cy="131760"/>
          </a:xfrm>
          <a:custGeom>
            <a:avLst/>
            <a:gdLst/>
            <a:ahLst/>
            <a:rect l="l" t="t" r="r" b="b"/>
            <a:pathLst>
              <a:path w="541" h="207">
                <a:moveTo>
                  <a:pt x="65" y="207"/>
                </a:moveTo>
                <a:lnTo>
                  <a:pt x="50" y="202"/>
                </a:lnTo>
                <a:lnTo>
                  <a:pt x="41" y="197"/>
                </a:lnTo>
                <a:lnTo>
                  <a:pt x="31" y="190"/>
                </a:lnTo>
                <a:lnTo>
                  <a:pt x="24" y="185"/>
                </a:lnTo>
                <a:lnTo>
                  <a:pt x="17" y="178"/>
                </a:lnTo>
                <a:lnTo>
                  <a:pt x="12" y="171"/>
                </a:lnTo>
                <a:lnTo>
                  <a:pt x="7" y="162"/>
                </a:lnTo>
                <a:lnTo>
                  <a:pt x="3" y="152"/>
                </a:lnTo>
                <a:lnTo>
                  <a:pt x="0" y="150"/>
                </a:lnTo>
                <a:lnTo>
                  <a:pt x="3" y="145"/>
                </a:lnTo>
                <a:lnTo>
                  <a:pt x="5" y="142"/>
                </a:lnTo>
                <a:lnTo>
                  <a:pt x="10" y="138"/>
                </a:lnTo>
                <a:lnTo>
                  <a:pt x="17" y="133"/>
                </a:lnTo>
                <a:lnTo>
                  <a:pt x="24" y="128"/>
                </a:lnTo>
                <a:lnTo>
                  <a:pt x="36" y="121"/>
                </a:lnTo>
                <a:lnTo>
                  <a:pt x="48" y="116"/>
                </a:lnTo>
                <a:lnTo>
                  <a:pt x="62" y="109"/>
                </a:lnTo>
                <a:lnTo>
                  <a:pt x="79" y="102"/>
                </a:lnTo>
                <a:lnTo>
                  <a:pt x="98" y="95"/>
                </a:lnTo>
                <a:lnTo>
                  <a:pt x="119" y="88"/>
                </a:lnTo>
                <a:lnTo>
                  <a:pt x="143" y="81"/>
                </a:lnTo>
                <a:lnTo>
                  <a:pt x="167" y="73"/>
                </a:lnTo>
                <a:lnTo>
                  <a:pt x="193" y="66"/>
                </a:lnTo>
                <a:lnTo>
                  <a:pt x="222" y="57"/>
                </a:lnTo>
                <a:lnTo>
                  <a:pt x="251" y="50"/>
                </a:lnTo>
                <a:lnTo>
                  <a:pt x="274" y="43"/>
                </a:lnTo>
                <a:lnTo>
                  <a:pt x="298" y="35"/>
                </a:lnTo>
                <a:lnTo>
                  <a:pt x="322" y="31"/>
                </a:lnTo>
                <a:lnTo>
                  <a:pt x="343" y="23"/>
                </a:lnTo>
                <a:lnTo>
                  <a:pt x="362" y="19"/>
                </a:lnTo>
                <a:lnTo>
                  <a:pt x="382" y="14"/>
                </a:lnTo>
                <a:lnTo>
                  <a:pt x="398" y="9"/>
                </a:lnTo>
                <a:lnTo>
                  <a:pt x="415" y="7"/>
                </a:lnTo>
                <a:lnTo>
                  <a:pt x="429" y="4"/>
                </a:lnTo>
                <a:lnTo>
                  <a:pt x="444" y="2"/>
                </a:lnTo>
                <a:lnTo>
                  <a:pt x="455" y="0"/>
                </a:lnTo>
                <a:lnTo>
                  <a:pt x="467" y="0"/>
                </a:lnTo>
                <a:lnTo>
                  <a:pt x="477" y="0"/>
                </a:lnTo>
                <a:lnTo>
                  <a:pt x="484" y="2"/>
                </a:lnTo>
                <a:lnTo>
                  <a:pt x="491" y="4"/>
                </a:lnTo>
                <a:lnTo>
                  <a:pt x="505" y="9"/>
                </a:lnTo>
                <a:lnTo>
                  <a:pt x="515" y="16"/>
                </a:lnTo>
                <a:lnTo>
                  <a:pt x="525" y="23"/>
                </a:lnTo>
                <a:lnTo>
                  <a:pt x="529" y="31"/>
                </a:lnTo>
                <a:lnTo>
                  <a:pt x="534" y="38"/>
                </a:lnTo>
                <a:lnTo>
                  <a:pt x="539" y="45"/>
                </a:lnTo>
                <a:lnTo>
                  <a:pt x="541" y="52"/>
                </a:lnTo>
                <a:lnTo>
                  <a:pt x="541" y="57"/>
                </a:lnTo>
                <a:lnTo>
                  <a:pt x="541" y="62"/>
                </a:lnTo>
                <a:lnTo>
                  <a:pt x="536" y="69"/>
                </a:lnTo>
                <a:lnTo>
                  <a:pt x="534" y="73"/>
                </a:lnTo>
                <a:lnTo>
                  <a:pt x="527" y="78"/>
                </a:lnTo>
                <a:lnTo>
                  <a:pt x="520" y="83"/>
                </a:lnTo>
                <a:lnTo>
                  <a:pt x="510" y="88"/>
                </a:lnTo>
                <a:lnTo>
                  <a:pt x="501" y="95"/>
                </a:lnTo>
                <a:lnTo>
                  <a:pt x="486" y="100"/>
                </a:lnTo>
                <a:lnTo>
                  <a:pt x="472" y="104"/>
                </a:lnTo>
                <a:lnTo>
                  <a:pt x="458" y="112"/>
                </a:lnTo>
                <a:lnTo>
                  <a:pt x="441" y="116"/>
                </a:lnTo>
                <a:lnTo>
                  <a:pt x="422" y="123"/>
                </a:lnTo>
                <a:lnTo>
                  <a:pt x="403" y="131"/>
                </a:lnTo>
                <a:lnTo>
                  <a:pt x="379" y="138"/>
                </a:lnTo>
                <a:lnTo>
                  <a:pt x="358" y="145"/>
                </a:lnTo>
                <a:lnTo>
                  <a:pt x="334" y="152"/>
                </a:lnTo>
                <a:lnTo>
                  <a:pt x="308" y="159"/>
                </a:lnTo>
                <a:lnTo>
                  <a:pt x="284" y="166"/>
                </a:lnTo>
                <a:lnTo>
                  <a:pt x="260" y="173"/>
                </a:lnTo>
                <a:lnTo>
                  <a:pt x="239" y="178"/>
                </a:lnTo>
                <a:lnTo>
                  <a:pt x="217" y="183"/>
                </a:lnTo>
                <a:lnTo>
                  <a:pt x="198" y="188"/>
                </a:lnTo>
                <a:lnTo>
                  <a:pt x="179" y="192"/>
                </a:lnTo>
                <a:lnTo>
                  <a:pt x="162" y="195"/>
                </a:lnTo>
                <a:lnTo>
                  <a:pt x="146" y="197"/>
                </a:lnTo>
                <a:lnTo>
                  <a:pt x="129" y="200"/>
                </a:lnTo>
                <a:lnTo>
                  <a:pt x="115" y="202"/>
                </a:lnTo>
                <a:lnTo>
                  <a:pt x="103" y="204"/>
                </a:lnTo>
                <a:lnTo>
                  <a:pt x="91" y="204"/>
                </a:lnTo>
                <a:lnTo>
                  <a:pt x="81" y="207"/>
                </a:lnTo>
                <a:lnTo>
                  <a:pt x="72" y="207"/>
                </a:lnTo>
                <a:lnTo>
                  <a:pt x="65" y="20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Freeform 40"/>
          <p:cNvSpPr/>
          <p:nvPr/>
        </p:nvSpPr>
        <p:spPr>
          <a:xfrm>
            <a:off x="5735520" y="2881440"/>
            <a:ext cx="459000" cy="155520"/>
          </a:xfrm>
          <a:custGeom>
            <a:avLst/>
            <a:gdLst/>
            <a:ahLst/>
            <a:rect l="l" t="t" r="r" b="b"/>
            <a:pathLst>
              <a:path w="722" h="245">
                <a:moveTo>
                  <a:pt x="722" y="0"/>
                </a:moveTo>
                <a:lnTo>
                  <a:pt x="686" y="136"/>
                </a:lnTo>
                <a:lnTo>
                  <a:pt x="677" y="136"/>
                </a:lnTo>
                <a:lnTo>
                  <a:pt x="667" y="136"/>
                </a:lnTo>
                <a:lnTo>
                  <a:pt x="658" y="136"/>
                </a:lnTo>
                <a:lnTo>
                  <a:pt x="646" y="138"/>
                </a:lnTo>
                <a:lnTo>
                  <a:pt x="634" y="138"/>
                </a:lnTo>
                <a:lnTo>
                  <a:pt x="622" y="140"/>
                </a:lnTo>
                <a:lnTo>
                  <a:pt x="608" y="140"/>
                </a:lnTo>
                <a:lnTo>
                  <a:pt x="593" y="143"/>
                </a:lnTo>
                <a:lnTo>
                  <a:pt x="579" y="145"/>
                </a:lnTo>
                <a:lnTo>
                  <a:pt x="562" y="147"/>
                </a:lnTo>
                <a:lnTo>
                  <a:pt x="546" y="150"/>
                </a:lnTo>
                <a:lnTo>
                  <a:pt x="527" y="152"/>
                </a:lnTo>
                <a:lnTo>
                  <a:pt x="510" y="155"/>
                </a:lnTo>
                <a:lnTo>
                  <a:pt x="488" y="157"/>
                </a:lnTo>
                <a:lnTo>
                  <a:pt x="469" y="159"/>
                </a:lnTo>
                <a:lnTo>
                  <a:pt x="448" y="164"/>
                </a:lnTo>
                <a:lnTo>
                  <a:pt x="426" y="166"/>
                </a:lnTo>
                <a:lnTo>
                  <a:pt x="403" y="171"/>
                </a:lnTo>
                <a:lnTo>
                  <a:pt x="379" y="176"/>
                </a:lnTo>
                <a:lnTo>
                  <a:pt x="355" y="178"/>
                </a:lnTo>
                <a:lnTo>
                  <a:pt x="331" y="183"/>
                </a:lnTo>
                <a:lnTo>
                  <a:pt x="305" y="188"/>
                </a:lnTo>
                <a:lnTo>
                  <a:pt x="276" y="193"/>
                </a:lnTo>
                <a:lnTo>
                  <a:pt x="250" y="197"/>
                </a:lnTo>
                <a:lnTo>
                  <a:pt x="222" y="202"/>
                </a:lnTo>
                <a:lnTo>
                  <a:pt x="193" y="207"/>
                </a:lnTo>
                <a:lnTo>
                  <a:pt x="162" y="214"/>
                </a:lnTo>
                <a:lnTo>
                  <a:pt x="131" y="219"/>
                </a:lnTo>
                <a:lnTo>
                  <a:pt x="100" y="226"/>
                </a:lnTo>
                <a:lnTo>
                  <a:pt x="67" y="231"/>
                </a:lnTo>
                <a:lnTo>
                  <a:pt x="33" y="238"/>
                </a:lnTo>
                <a:lnTo>
                  <a:pt x="0" y="245"/>
                </a:lnTo>
                <a:lnTo>
                  <a:pt x="0" y="136"/>
                </a:lnTo>
                <a:lnTo>
                  <a:pt x="7" y="133"/>
                </a:lnTo>
                <a:lnTo>
                  <a:pt x="14" y="133"/>
                </a:lnTo>
                <a:lnTo>
                  <a:pt x="21" y="131"/>
                </a:lnTo>
                <a:lnTo>
                  <a:pt x="31" y="128"/>
                </a:lnTo>
                <a:lnTo>
                  <a:pt x="40" y="126"/>
                </a:lnTo>
                <a:lnTo>
                  <a:pt x="52" y="124"/>
                </a:lnTo>
                <a:lnTo>
                  <a:pt x="64" y="124"/>
                </a:lnTo>
                <a:lnTo>
                  <a:pt x="79" y="119"/>
                </a:lnTo>
                <a:lnTo>
                  <a:pt x="93" y="116"/>
                </a:lnTo>
                <a:lnTo>
                  <a:pt x="107" y="114"/>
                </a:lnTo>
                <a:lnTo>
                  <a:pt x="124" y="112"/>
                </a:lnTo>
                <a:lnTo>
                  <a:pt x="143" y="109"/>
                </a:lnTo>
                <a:lnTo>
                  <a:pt x="162" y="105"/>
                </a:lnTo>
                <a:lnTo>
                  <a:pt x="181" y="102"/>
                </a:lnTo>
                <a:lnTo>
                  <a:pt x="202" y="97"/>
                </a:lnTo>
                <a:lnTo>
                  <a:pt x="224" y="93"/>
                </a:lnTo>
                <a:lnTo>
                  <a:pt x="245" y="90"/>
                </a:lnTo>
                <a:lnTo>
                  <a:pt x="269" y="86"/>
                </a:lnTo>
                <a:lnTo>
                  <a:pt x="295" y="81"/>
                </a:lnTo>
                <a:lnTo>
                  <a:pt x="322" y="76"/>
                </a:lnTo>
                <a:lnTo>
                  <a:pt x="348" y="71"/>
                </a:lnTo>
                <a:lnTo>
                  <a:pt x="376" y="64"/>
                </a:lnTo>
                <a:lnTo>
                  <a:pt x="407" y="59"/>
                </a:lnTo>
                <a:lnTo>
                  <a:pt x="438" y="55"/>
                </a:lnTo>
                <a:lnTo>
                  <a:pt x="469" y="47"/>
                </a:lnTo>
                <a:lnTo>
                  <a:pt x="503" y="43"/>
                </a:lnTo>
                <a:lnTo>
                  <a:pt x="536" y="36"/>
                </a:lnTo>
                <a:lnTo>
                  <a:pt x="569" y="28"/>
                </a:lnTo>
                <a:lnTo>
                  <a:pt x="608" y="21"/>
                </a:lnTo>
                <a:lnTo>
                  <a:pt x="643" y="14"/>
                </a:lnTo>
                <a:lnTo>
                  <a:pt x="681" y="7"/>
                </a:lnTo>
                <a:lnTo>
                  <a:pt x="722" y="0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Freeform 43"/>
          <p:cNvSpPr/>
          <p:nvPr/>
        </p:nvSpPr>
        <p:spPr>
          <a:xfrm>
            <a:off x="6405480" y="2295360"/>
            <a:ext cx="682560" cy="482760"/>
          </a:xfrm>
          <a:custGeom>
            <a:avLst/>
            <a:gdLst/>
            <a:ahLst/>
            <a:rect l="l" t="t" r="r" b="b"/>
            <a:pathLst>
              <a:path w="1077" h="759">
                <a:moveTo>
                  <a:pt x="512" y="759"/>
                </a:moveTo>
                <a:lnTo>
                  <a:pt x="496" y="723"/>
                </a:lnTo>
                <a:lnTo>
                  <a:pt x="477" y="690"/>
                </a:lnTo>
                <a:lnTo>
                  <a:pt x="493" y="661"/>
                </a:lnTo>
                <a:lnTo>
                  <a:pt x="512" y="633"/>
                </a:lnTo>
                <a:lnTo>
                  <a:pt x="529" y="607"/>
                </a:lnTo>
                <a:lnTo>
                  <a:pt x="543" y="581"/>
                </a:lnTo>
                <a:lnTo>
                  <a:pt x="560" y="554"/>
                </a:lnTo>
                <a:lnTo>
                  <a:pt x="574" y="528"/>
                </a:lnTo>
                <a:lnTo>
                  <a:pt x="589" y="504"/>
                </a:lnTo>
                <a:lnTo>
                  <a:pt x="601" y="483"/>
                </a:lnTo>
                <a:lnTo>
                  <a:pt x="615" y="459"/>
                </a:lnTo>
                <a:lnTo>
                  <a:pt x="627" y="438"/>
                </a:lnTo>
                <a:lnTo>
                  <a:pt x="639" y="416"/>
                </a:lnTo>
                <a:lnTo>
                  <a:pt x="651" y="397"/>
                </a:lnTo>
                <a:lnTo>
                  <a:pt x="660" y="378"/>
                </a:lnTo>
                <a:lnTo>
                  <a:pt x="670" y="362"/>
                </a:lnTo>
                <a:lnTo>
                  <a:pt x="679" y="343"/>
                </a:lnTo>
                <a:lnTo>
                  <a:pt x="689" y="328"/>
                </a:lnTo>
                <a:lnTo>
                  <a:pt x="696" y="312"/>
                </a:lnTo>
                <a:lnTo>
                  <a:pt x="703" y="297"/>
                </a:lnTo>
                <a:lnTo>
                  <a:pt x="710" y="283"/>
                </a:lnTo>
                <a:lnTo>
                  <a:pt x="717" y="271"/>
                </a:lnTo>
                <a:lnTo>
                  <a:pt x="722" y="259"/>
                </a:lnTo>
                <a:lnTo>
                  <a:pt x="727" y="247"/>
                </a:lnTo>
                <a:lnTo>
                  <a:pt x="732" y="238"/>
                </a:lnTo>
                <a:lnTo>
                  <a:pt x="736" y="228"/>
                </a:lnTo>
                <a:lnTo>
                  <a:pt x="739" y="221"/>
                </a:lnTo>
                <a:lnTo>
                  <a:pt x="741" y="214"/>
                </a:lnTo>
                <a:lnTo>
                  <a:pt x="744" y="207"/>
                </a:lnTo>
                <a:lnTo>
                  <a:pt x="746" y="202"/>
                </a:lnTo>
                <a:lnTo>
                  <a:pt x="746" y="197"/>
                </a:lnTo>
                <a:lnTo>
                  <a:pt x="746" y="193"/>
                </a:lnTo>
                <a:lnTo>
                  <a:pt x="746" y="190"/>
                </a:lnTo>
                <a:lnTo>
                  <a:pt x="744" y="188"/>
                </a:lnTo>
                <a:lnTo>
                  <a:pt x="736" y="185"/>
                </a:lnTo>
                <a:lnTo>
                  <a:pt x="729" y="185"/>
                </a:lnTo>
                <a:lnTo>
                  <a:pt x="720" y="185"/>
                </a:lnTo>
                <a:lnTo>
                  <a:pt x="708" y="188"/>
                </a:lnTo>
                <a:lnTo>
                  <a:pt x="696" y="190"/>
                </a:lnTo>
                <a:lnTo>
                  <a:pt x="679" y="195"/>
                </a:lnTo>
                <a:lnTo>
                  <a:pt x="663" y="200"/>
                </a:lnTo>
                <a:lnTo>
                  <a:pt x="643" y="204"/>
                </a:lnTo>
                <a:lnTo>
                  <a:pt x="622" y="212"/>
                </a:lnTo>
                <a:lnTo>
                  <a:pt x="598" y="219"/>
                </a:lnTo>
                <a:lnTo>
                  <a:pt x="574" y="226"/>
                </a:lnTo>
                <a:lnTo>
                  <a:pt x="546" y="235"/>
                </a:lnTo>
                <a:lnTo>
                  <a:pt x="517" y="247"/>
                </a:lnTo>
                <a:lnTo>
                  <a:pt x="486" y="257"/>
                </a:lnTo>
                <a:lnTo>
                  <a:pt x="453" y="271"/>
                </a:lnTo>
                <a:lnTo>
                  <a:pt x="419" y="283"/>
                </a:lnTo>
                <a:lnTo>
                  <a:pt x="386" y="295"/>
                </a:lnTo>
                <a:lnTo>
                  <a:pt x="358" y="304"/>
                </a:lnTo>
                <a:lnTo>
                  <a:pt x="331" y="314"/>
                </a:lnTo>
                <a:lnTo>
                  <a:pt x="305" y="323"/>
                </a:lnTo>
                <a:lnTo>
                  <a:pt x="281" y="331"/>
                </a:lnTo>
                <a:lnTo>
                  <a:pt x="260" y="338"/>
                </a:lnTo>
                <a:lnTo>
                  <a:pt x="241" y="343"/>
                </a:lnTo>
                <a:lnTo>
                  <a:pt x="224" y="350"/>
                </a:lnTo>
                <a:lnTo>
                  <a:pt x="207" y="354"/>
                </a:lnTo>
                <a:lnTo>
                  <a:pt x="196" y="357"/>
                </a:lnTo>
                <a:lnTo>
                  <a:pt x="184" y="359"/>
                </a:lnTo>
                <a:lnTo>
                  <a:pt x="174" y="362"/>
                </a:lnTo>
                <a:lnTo>
                  <a:pt x="167" y="364"/>
                </a:lnTo>
                <a:lnTo>
                  <a:pt x="162" y="364"/>
                </a:lnTo>
                <a:lnTo>
                  <a:pt x="157" y="366"/>
                </a:lnTo>
                <a:lnTo>
                  <a:pt x="148" y="364"/>
                </a:lnTo>
                <a:lnTo>
                  <a:pt x="138" y="362"/>
                </a:lnTo>
                <a:lnTo>
                  <a:pt x="126" y="359"/>
                </a:lnTo>
                <a:lnTo>
                  <a:pt x="114" y="354"/>
                </a:lnTo>
                <a:lnTo>
                  <a:pt x="100" y="345"/>
                </a:lnTo>
                <a:lnTo>
                  <a:pt x="88" y="335"/>
                </a:lnTo>
                <a:lnTo>
                  <a:pt x="81" y="331"/>
                </a:lnTo>
                <a:lnTo>
                  <a:pt x="74" y="326"/>
                </a:lnTo>
                <a:lnTo>
                  <a:pt x="67" y="319"/>
                </a:lnTo>
                <a:lnTo>
                  <a:pt x="60" y="312"/>
                </a:lnTo>
                <a:lnTo>
                  <a:pt x="48" y="295"/>
                </a:lnTo>
                <a:lnTo>
                  <a:pt x="36" y="283"/>
                </a:lnTo>
                <a:lnTo>
                  <a:pt x="24" y="271"/>
                </a:lnTo>
                <a:lnTo>
                  <a:pt x="17" y="259"/>
                </a:lnTo>
                <a:lnTo>
                  <a:pt x="10" y="250"/>
                </a:lnTo>
                <a:lnTo>
                  <a:pt x="5" y="243"/>
                </a:lnTo>
                <a:lnTo>
                  <a:pt x="0" y="235"/>
                </a:lnTo>
                <a:lnTo>
                  <a:pt x="0" y="231"/>
                </a:lnTo>
                <a:lnTo>
                  <a:pt x="0" y="228"/>
                </a:lnTo>
                <a:lnTo>
                  <a:pt x="2" y="226"/>
                </a:lnTo>
                <a:lnTo>
                  <a:pt x="5" y="224"/>
                </a:lnTo>
                <a:lnTo>
                  <a:pt x="7" y="221"/>
                </a:lnTo>
                <a:lnTo>
                  <a:pt x="12" y="221"/>
                </a:lnTo>
                <a:lnTo>
                  <a:pt x="19" y="219"/>
                </a:lnTo>
                <a:lnTo>
                  <a:pt x="26" y="216"/>
                </a:lnTo>
                <a:lnTo>
                  <a:pt x="33" y="216"/>
                </a:lnTo>
                <a:lnTo>
                  <a:pt x="43" y="214"/>
                </a:lnTo>
                <a:lnTo>
                  <a:pt x="53" y="214"/>
                </a:lnTo>
                <a:lnTo>
                  <a:pt x="64" y="212"/>
                </a:lnTo>
                <a:lnTo>
                  <a:pt x="76" y="212"/>
                </a:lnTo>
                <a:lnTo>
                  <a:pt x="91" y="209"/>
                </a:lnTo>
                <a:lnTo>
                  <a:pt x="103" y="207"/>
                </a:lnTo>
                <a:lnTo>
                  <a:pt x="119" y="204"/>
                </a:lnTo>
                <a:lnTo>
                  <a:pt x="134" y="202"/>
                </a:lnTo>
                <a:lnTo>
                  <a:pt x="150" y="200"/>
                </a:lnTo>
                <a:lnTo>
                  <a:pt x="167" y="197"/>
                </a:lnTo>
                <a:lnTo>
                  <a:pt x="186" y="193"/>
                </a:lnTo>
                <a:lnTo>
                  <a:pt x="205" y="190"/>
                </a:lnTo>
                <a:lnTo>
                  <a:pt x="224" y="185"/>
                </a:lnTo>
                <a:lnTo>
                  <a:pt x="246" y="181"/>
                </a:lnTo>
                <a:lnTo>
                  <a:pt x="267" y="176"/>
                </a:lnTo>
                <a:lnTo>
                  <a:pt x="291" y="171"/>
                </a:lnTo>
                <a:lnTo>
                  <a:pt x="312" y="166"/>
                </a:lnTo>
                <a:lnTo>
                  <a:pt x="338" y="162"/>
                </a:lnTo>
                <a:lnTo>
                  <a:pt x="362" y="155"/>
                </a:lnTo>
                <a:lnTo>
                  <a:pt x="389" y="150"/>
                </a:lnTo>
                <a:lnTo>
                  <a:pt x="415" y="143"/>
                </a:lnTo>
                <a:lnTo>
                  <a:pt x="443" y="135"/>
                </a:lnTo>
                <a:lnTo>
                  <a:pt x="472" y="128"/>
                </a:lnTo>
                <a:lnTo>
                  <a:pt x="500" y="121"/>
                </a:lnTo>
                <a:lnTo>
                  <a:pt x="527" y="114"/>
                </a:lnTo>
                <a:lnTo>
                  <a:pt x="553" y="107"/>
                </a:lnTo>
                <a:lnTo>
                  <a:pt x="577" y="100"/>
                </a:lnTo>
                <a:lnTo>
                  <a:pt x="601" y="93"/>
                </a:lnTo>
                <a:lnTo>
                  <a:pt x="620" y="85"/>
                </a:lnTo>
                <a:lnTo>
                  <a:pt x="641" y="81"/>
                </a:lnTo>
                <a:lnTo>
                  <a:pt x="658" y="74"/>
                </a:lnTo>
                <a:lnTo>
                  <a:pt x="674" y="69"/>
                </a:lnTo>
                <a:lnTo>
                  <a:pt x="691" y="62"/>
                </a:lnTo>
                <a:lnTo>
                  <a:pt x="705" y="57"/>
                </a:lnTo>
                <a:lnTo>
                  <a:pt x="717" y="52"/>
                </a:lnTo>
                <a:lnTo>
                  <a:pt x="729" y="47"/>
                </a:lnTo>
                <a:lnTo>
                  <a:pt x="739" y="43"/>
                </a:lnTo>
                <a:lnTo>
                  <a:pt x="746" y="36"/>
                </a:lnTo>
                <a:lnTo>
                  <a:pt x="753" y="31"/>
                </a:lnTo>
                <a:lnTo>
                  <a:pt x="758" y="26"/>
                </a:lnTo>
                <a:lnTo>
                  <a:pt x="763" y="21"/>
                </a:lnTo>
                <a:lnTo>
                  <a:pt x="770" y="16"/>
                </a:lnTo>
                <a:lnTo>
                  <a:pt x="777" y="12"/>
                </a:lnTo>
                <a:lnTo>
                  <a:pt x="784" y="7"/>
                </a:lnTo>
                <a:lnTo>
                  <a:pt x="791" y="5"/>
                </a:lnTo>
                <a:lnTo>
                  <a:pt x="801" y="2"/>
                </a:lnTo>
                <a:lnTo>
                  <a:pt x="810" y="0"/>
                </a:lnTo>
                <a:lnTo>
                  <a:pt x="820" y="0"/>
                </a:lnTo>
                <a:lnTo>
                  <a:pt x="822" y="0"/>
                </a:lnTo>
                <a:lnTo>
                  <a:pt x="825" y="0"/>
                </a:lnTo>
                <a:lnTo>
                  <a:pt x="829" y="2"/>
                </a:lnTo>
                <a:lnTo>
                  <a:pt x="834" y="5"/>
                </a:lnTo>
                <a:lnTo>
                  <a:pt x="841" y="7"/>
                </a:lnTo>
                <a:lnTo>
                  <a:pt x="848" y="9"/>
                </a:lnTo>
                <a:lnTo>
                  <a:pt x="856" y="14"/>
                </a:lnTo>
                <a:lnTo>
                  <a:pt x="865" y="19"/>
                </a:lnTo>
                <a:lnTo>
                  <a:pt x="875" y="21"/>
                </a:lnTo>
                <a:lnTo>
                  <a:pt x="884" y="28"/>
                </a:lnTo>
                <a:lnTo>
                  <a:pt x="896" y="33"/>
                </a:lnTo>
                <a:lnTo>
                  <a:pt x="908" y="38"/>
                </a:lnTo>
                <a:lnTo>
                  <a:pt x="922" y="45"/>
                </a:lnTo>
                <a:lnTo>
                  <a:pt x="937" y="52"/>
                </a:lnTo>
                <a:lnTo>
                  <a:pt x="951" y="59"/>
                </a:lnTo>
                <a:lnTo>
                  <a:pt x="965" y="66"/>
                </a:lnTo>
                <a:lnTo>
                  <a:pt x="979" y="78"/>
                </a:lnTo>
                <a:lnTo>
                  <a:pt x="991" y="88"/>
                </a:lnTo>
                <a:lnTo>
                  <a:pt x="1003" y="97"/>
                </a:lnTo>
                <a:lnTo>
                  <a:pt x="1013" y="105"/>
                </a:lnTo>
                <a:lnTo>
                  <a:pt x="1025" y="114"/>
                </a:lnTo>
                <a:lnTo>
                  <a:pt x="1032" y="124"/>
                </a:lnTo>
                <a:lnTo>
                  <a:pt x="1041" y="131"/>
                </a:lnTo>
                <a:lnTo>
                  <a:pt x="1049" y="138"/>
                </a:lnTo>
                <a:lnTo>
                  <a:pt x="1056" y="145"/>
                </a:lnTo>
                <a:lnTo>
                  <a:pt x="1060" y="152"/>
                </a:lnTo>
                <a:lnTo>
                  <a:pt x="1065" y="159"/>
                </a:lnTo>
                <a:lnTo>
                  <a:pt x="1070" y="166"/>
                </a:lnTo>
                <a:lnTo>
                  <a:pt x="1072" y="171"/>
                </a:lnTo>
                <a:lnTo>
                  <a:pt x="1075" y="178"/>
                </a:lnTo>
                <a:lnTo>
                  <a:pt x="1075" y="183"/>
                </a:lnTo>
                <a:lnTo>
                  <a:pt x="1077" y="190"/>
                </a:lnTo>
                <a:lnTo>
                  <a:pt x="1075" y="200"/>
                </a:lnTo>
                <a:lnTo>
                  <a:pt x="1072" y="207"/>
                </a:lnTo>
                <a:lnTo>
                  <a:pt x="1065" y="214"/>
                </a:lnTo>
                <a:lnTo>
                  <a:pt x="1058" y="221"/>
                </a:lnTo>
                <a:lnTo>
                  <a:pt x="1051" y="226"/>
                </a:lnTo>
                <a:lnTo>
                  <a:pt x="1039" y="233"/>
                </a:lnTo>
                <a:lnTo>
                  <a:pt x="1027" y="238"/>
                </a:lnTo>
                <a:lnTo>
                  <a:pt x="1015" y="243"/>
                </a:lnTo>
                <a:lnTo>
                  <a:pt x="1010" y="245"/>
                </a:lnTo>
                <a:lnTo>
                  <a:pt x="1003" y="247"/>
                </a:lnTo>
                <a:lnTo>
                  <a:pt x="999" y="252"/>
                </a:lnTo>
                <a:lnTo>
                  <a:pt x="991" y="254"/>
                </a:lnTo>
                <a:lnTo>
                  <a:pt x="982" y="262"/>
                </a:lnTo>
                <a:lnTo>
                  <a:pt x="975" y="266"/>
                </a:lnTo>
                <a:lnTo>
                  <a:pt x="965" y="274"/>
                </a:lnTo>
                <a:lnTo>
                  <a:pt x="956" y="281"/>
                </a:lnTo>
                <a:lnTo>
                  <a:pt x="944" y="290"/>
                </a:lnTo>
                <a:lnTo>
                  <a:pt x="932" y="300"/>
                </a:lnTo>
                <a:lnTo>
                  <a:pt x="920" y="312"/>
                </a:lnTo>
                <a:lnTo>
                  <a:pt x="908" y="321"/>
                </a:lnTo>
                <a:lnTo>
                  <a:pt x="894" y="335"/>
                </a:lnTo>
                <a:lnTo>
                  <a:pt x="879" y="347"/>
                </a:lnTo>
                <a:lnTo>
                  <a:pt x="865" y="362"/>
                </a:lnTo>
                <a:lnTo>
                  <a:pt x="851" y="378"/>
                </a:lnTo>
                <a:lnTo>
                  <a:pt x="834" y="395"/>
                </a:lnTo>
                <a:lnTo>
                  <a:pt x="817" y="412"/>
                </a:lnTo>
                <a:lnTo>
                  <a:pt x="798" y="431"/>
                </a:lnTo>
                <a:lnTo>
                  <a:pt x="782" y="450"/>
                </a:lnTo>
                <a:lnTo>
                  <a:pt x="763" y="469"/>
                </a:lnTo>
                <a:lnTo>
                  <a:pt x="744" y="490"/>
                </a:lnTo>
                <a:lnTo>
                  <a:pt x="722" y="512"/>
                </a:lnTo>
                <a:lnTo>
                  <a:pt x="703" y="535"/>
                </a:lnTo>
                <a:lnTo>
                  <a:pt x="682" y="559"/>
                </a:lnTo>
                <a:lnTo>
                  <a:pt x="658" y="585"/>
                </a:lnTo>
                <a:lnTo>
                  <a:pt x="636" y="611"/>
                </a:lnTo>
                <a:lnTo>
                  <a:pt x="612" y="638"/>
                </a:lnTo>
                <a:lnTo>
                  <a:pt x="589" y="666"/>
                </a:lnTo>
                <a:lnTo>
                  <a:pt x="565" y="697"/>
                </a:lnTo>
                <a:lnTo>
                  <a:pt x="539" y="726"/>
                </a:lnTo>
                <a:lnTo>
                  <a:pt x="512" y="759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Freeform 44"/>
          <p:cNvSpPr/>
          <p:nvPr/>
        </p:nvSpPr>
        <p:spPr>
          <a:xfrm>
            <a:off x="6529320" y="2665440"/>
            <a:ext cx="225360" cy="225360"/>
          </a:xfrm>
          <a:custGeom>
            <a:avLst/>
            <a:gdLst/>
            <a:ahLst/>
            <a:rect l="l" t="t" r="r" b="b"/>
            <a:pathLst>
              <a:path w="355" h="355">
                <a:moveTo>
                  <a:pt x="0" y="26"/>
                </a:moveTo>
                <a:lnTo>
                  <a:pt x="0" y="21"/>
                </a:lnTo>
                <a:lnTo>
                  <a:pt x="2" y="17"/>
                </a:lnTo>
                <a:lnTo>
                  <a:pt x="4" y="12"/>
                </a:lnTo>
                <a:lnTo>
                  <a:pt x="9" y="7"/>
                </a:lnTo>
                <a:lnTo>
                  <a:pt x="16" y="5"/>
                </a:lnTo>
                <a:lnTo>
                  <a:pt x="26" y="2"/>
                </a:lnTo>
                <a:lnTo>
                  <a:pt x="35" y="0"/>
                </a:lnTo>
                <a:lnTo>
                  <a:pt x="47" y="0"/>
                </a:lnTo>
                <a:lnTo>
                  <a:pt x="64" y="0"/>
                </a:lnTo>
                <a:lnTo>
                  <a:pt x="81" y="2"/>
                </a:lnTo>
                <a:lnTo>
                  <a:pt x="100" y="5"/>
                </a:lnTo>
                <a:lnTo>
                  <a:pt x="121" y="7"/>
                </a:lnTo>
                <a:lnTo>
                  <a:pt x="145" y="12"/>
                </a:lnTo>
                <a:lnTo>
                  <a:pt x="171" y="17"/>
                </a:lnTo>
                <a:lnTo>
                  <a:pt x="200" y="21"/>
                </a:lnTo>
                <a:lnTo>
                  <a:pt x="231" y="26"/>
                </a:lnTo>
                <a:lnTo>
                  <a:pt x="247" y="31"/>
                </a:lnTo>
                <a:lnTo>
                  <a:pt x="262" y="38"/>
                </a:lnTo>
                <a:lnTo>
                  <a:pt x="274" y="45"/>
                </a:lnTo>
                <a:lnTo>
                  <a:pt x="288" y="55"/>
                </a:lnTo>
                <a:lnTo>
                  <a:pt x="297" y="64"/>
                </a:lnTo>
                <a:lnTo>
                  <a:pt x="307" y="74"/>
                </a:lnTo>
                <a:lnTo>
                  <a:pt x="316" y="83"/>
                </a:lnTo>
                <a:lnTo>
                  <a:pt x="326" y="95"/>
                </a:lnTo>
                <a:lnTo>
                  <a:pt x="331" y="109"/>
                </a:lnTo>
                <a:lnTo>
                  <a:pt x="338" y="121"/>
                </a:lnTo>
                <a:lnTo>
                  <a:pt x="343" y="136"/>
                </a:lnTo>
                <a:lnTo>
                  <a:pt x="347" y="150"/>
                </a:lnTo>
                <a:lnTo>
                  <a:pt x="350" y="167"/>
                </a:lnTo>
                <a:lnTo>
                  <a:pt x="352" y="181"/>
                </a:lnTo>
                <a:lnTo>
                  <a:pt x="355" y="197"/>
                </a:lnTo>
                <a:lnTo>
                  <a:pt x="355" y="216"/>
                </a:lnTo>
                <a:lnTo>
                  <a:pt x="355" y="233"/>
                </a:lnTo>
                <a:lnTo>
                  <a:pt x="352" y="250"/>
                </a:lnTo>
                <a:lnTo>
                  <a:pt x="352" y="264"/>
                </a:lnTo>
                <a:lnTo>
                  <a:pt x="350" y="278"/>
                </a:lnTo>
                <a:lnTo>
                  <a:pt x="347" y="293"/>
                </a:lnTo>
                <a:lnTo>
                  <a:pt x="345" y="305"/>
                </a:lnTo>
                <a:lnTo>
                  <a:pt x="340" y="314"/>
                </a:lnTo>
                <a:lnTo>
                  <a:pt x="338" y="324"/>
                </a:lnTo>
                <a:lnTo>
                  <a:pt x="333" y="333"/>
                </a:lnTo>
                <a:lnTo>
                  <a:pt x="328" y="340"/>
                </a:lnTo>
                <a:lnTo>
                  <a:pt x="324" y="345"/>
                </a:lnTo>
                <a:lnTo>
                  <a:pt x="319" y="350"/>
                </a:lnTo>
                <a:lnTo>
                  <a:pt x="312" y="352"/>
                </a:lnTo>
                <a:lnTo>
                  <a:pt x="307" y="355"/>
                </a:lnTo>
                <a:lnTo>
                  <a:pt x="300" y="352"/>
                </a:lnTo>
                <a:lnTo>
                  <a:pt x="293" y="352"/>
                </a:lnTo>
                <a:lnTo>
                  <a:pt x="285" y="350"/>
                </a:lnTo>
                <a:lnTo>
                  <a:pt x="278" y="350"/>
                </a:lnTo>
                <a:lnTo>
                  <a:pt x="269" y="345"/>
                </a:lnTo>
                <a:lnTo>
                  <a:pt x="262" y="343"/>
                </a:lnTo>
                <a:lnTo>
                  <a:pt x="252" y="335"/>
                </a:lnTo>
                <a:lnTo>
                  <a:pt x="243" y="328"/>
                </a:lnTo>
                <a:lnTo>
                  <a:pt x="231" y="321"/>
                </a:lnTo>
                <a:lnTo>
                  <a:pt x="221" y="312"/>
                </a:lnTo>
                <a:lnTo>
                  <a:pt x="209" y="302"/>
                </a:lnTo>
                <a:lnTo>
                  <a:pt x="197" y="290"/>
                </a:lnTo>
                <a:lnTo>
                  <a:pt x="185" y="278"/>
                </a:lnTo>
                <a:lnTo>
                  <a:pt x="173" y="266"/>
                </a:lnTo>
                <a:lnTo>
                  <a:pt x="162" y="252"/>
                </a:lnTo>
                <a:lnTo>
                  <a:pt x="147" y="236"/>
                </a:lnTo>
                <a:lnTo>
                  <a:pt x="135" y="219"/>
                </a:lnTo>
                <a:lnTo>
                  <a:pt x="121" y="202"/>
                </a:lnTo>
                <a:lnTo>
                  <a:pt x="107" y="186"/>
                </a:lnTo>
                <a:lnTo>
                  <a:pt x="92" y="169"/>
                </a:lnTo>
                <a:lnTo>
                  <a:pt x="78" y="152"/>
                </a:lnTo>
                <a:lnTo>
                  <a:pt x="66" y="136"/>
                </a:lnTo>
                <a:lnTo>
                  <a:pt x="54" y="121"/>
                </a:lnTo>
                <a:lnTo>
                  <a:pt x="45" y="107"/>
                </a:lnTo>
                <a:lnTo>
                  <a:pt x="35" y="95"/>
                </a:lnTo>
                <a:lnTo>
                  <a:pt x="28" y="83"/>
                </a:lnTo>
                <a:lnTo>
                  <a:pt x="21" y="71"/>
                </a:lnTo>
                <a:lnTo>
                  <a:pt x="16" y="62"/>
                </a:lnTo>
                <a:lnTo>
                  <a:pt x="11" y="55"/>
                </a:lnTo>
                <a:lnTo>
                  <a:pt x="7" y="45"/>
                </a:lnTo>
                <a:lnTo>
                  <a:pt x="2" y="38"/>
                </a:lnTo>
                <a:lnTo>
                  <a:pt x="2" y="33"/>
                </a:lnTo>
                <a:lnTo>
                  <a:pt x="0" y="28"/>
                </a:lnTo>
                <a:lnTo>
                  <a:pt x="0" y="2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Freeform 45"/>
          <p:cNvSpPr/>
          <p:nvPr/>
        </p:nvSpPr>
        <p:spPr>
          <a:xfrm>
            <a:off x="6238800" y="2838600"/>
            <a:ext cx="1058760" cy="320400"/>
          </a:xfrm>
          <a:custGeom>
            <a:avLst/>
            <a:gdLst/>
            <a:ahLst/>
            <a:rect l="l" t="t" r="r" b="b"/>
            <a:pathLst>
              <a:path w="1668" h="505">
                <a:moveTo>
                  <a:pt x="1535" y="107"/>
                </a:moveTo>
                <a:lnTo>
                  <a:pt x="1549" y="119"/>
                </a:lnTo>
                <a:lnTo>
                  <a:pt x="1563" y="134"/>
                </a:lnTo>
                <a:lnTo>
                  <a:pt x="1577" y="145"/>
                </a:lnTo>
                <a:lnTo>
                  <a:pt x="1592" y="155"/>
                </a:lnTo>
                <a:lnTo>
                  <a:pt x="1604" y="167"/>
                </a:lnTo>
                <a:lnTo>
                  <a:pt x="1613" y="179"/>
                </a:lnTo>
                <a:lnTo>
                  <a:pt x="1623" y="188"/>
                </a:lnTo>
                <a:lnTo>
                  <a:pt x="1632" y="198"/>
                </a:lnTo>
                <a:lnTo>
                  <a:pt x="1642" y="207"/>
                </a:lnTo>
                <a:lnTo>
                  <a:pt x="1649" y="214"/>
                </a:lnTo>
                <a:lnTo>
                  <a:pt x="1654" y="224"/>
                </a:lnTo>
                <a:lnTo>
                  <a:pt x="1658" y="231"/>
                </a:lnTo>
                <a:lnTo>
                  <a:pt x="1663" y="238"/>
                </a:lnTo>
                <a:lnTo>
                  <a:pt x="1666" y="245"/>
                </a:lnTo>
                <a:lnTo>
                  <a:pt x="1668" y="250"/>
                </a:lnTo>
                <a:lnTo>
                  <a:pt x="1668" y="257"/>
                </a:lnTo>
                <a:lnTo>
                  <a:pt x="1668" y="262"/>
                </a:lnTo>
                <a:lnTo>
                  <a:pt x="1668" y="267"/>
                </a:lnTo>
                <a:lnTo>
                  <a:pt x="1666" y="269"/>
                </a:lnTo>
                <a:lnTo>
                  <a:pt x="1663" y="274"/>
                </a:lnTo>
                <a:lnTo>
                  <a:pt x="1661" y="279"/>
                </a:lnTo>
                <a:lnTo>
                  <a:pt x="1658" y="281"/>
                </a:lnTo>
                <a:lnTo>
                  <a:pt x="1654" y="286"/>
                </a:lnTo>
                <a:lnTo>
                  <a:pt x="1649" y="288"/>
                </a:lnTo>
                <a:lnTo>
                  <a:pt x="1644" y="291"/>
                </a:lnTo>
                <a:lnTo>
                  <a:pt x="1637" y="295"/>
                </a:lnTo>
                <a:lnTo>
                  <a:pt x="1630" y="298"/>
                </a:lnTo>
                <a:lnTo>
                  <a:pt x="1623" y="300"/>
                </a:lnTo>
                <a:lnTo>
                  <a:pt x="1613" y="302"/>
                </a:lnTo>
                <a:lnTo>
                  <a:pt x="1604" y="305"/>
                </a:lnTo>
                <a:lnTo>
                  <a:pt x="1594" y="307"/>
                </a:lnTo>
                <a:lnTo>
                  <a:pt x="1582" y="312"/>
                </a:lnTo>
                <a:lnTo>
                  <a:pt x="1558" y="317"/>
                </a:lnTo>
                <a:lnTo>
                  <a:pt x="1535" y="324"/>
                </a:lnTo>
                <a:lnTo>
                  <a:pt x="1508" y="333"/>
                </a:lnTo>
                <a:lnTo>
                  <a:pt x="1496" y="338"/>
                </a:lnTo>
                <a:lnTo>
                  <a:pt x="1482" y="345"/>
                </a:lnTo>
                <a:lnTo>
                  <a:pt x="1468" y="350"/>
                </a:lnTo>
                <a:lnTo>
                  <a:pt x="1454" y="357"/>
                </a:lnTo>
                <a:lnTo>
                  <a:pt x="1439" y="367"/>
                </a:lnTo>
                <a:lnTo>
                  <a:pt x="1425" y="376"/>
                </a:lnTo>
                <a:lnTo>
                  <a:pt x="1408" y="386"/>
                </a:lnTo>
                <a:lnTo>
                  <a:pt x="1394" y="395"/>
                </a:lnTo>
                <a:lnTo>
                  <a:pt x="1377" y="407"/>
                </a:lnTo>
                <a:lnTo>
                  <a:pt x="1363" y="419"/>
                </a:lnTo>
                <a:lnTo>
                  <a:pt x="1346" y="431"/>
                </a:lnTo>
                <a:lnTo>
                  <a:pt x="1332" y="443"/>
                </a:lnTo>
                <a:lnTo>
                  <a:pt x="1318" y="452"/>
                </a:lnTo>
                <a:lnTo>
                  <a:pt x="1306" y="462"/>
                </a:lnTo>
                <a:lnTo>
                  <a:pt x="1294" y="471"/>
                </a:lnTo>
                <a:lnTo>
                  <a:pt x="1282" y="479"/>
                </a:lnTo>
                <a:lnTo>
                  <a:pt x="1272" y="486"/>
                </a:lnTo>
                <a:lnTo>
                  <a:pt x="1263" y="491"/>
                </a:lnTo>
                <a:lnTo>
                  <a:pt x="1253" y="495"/>
                </a:lnTo>
                <a:lnTo>
                  <a:pt x="1246" y="498"/>
                </a:lnTo>
                <a:lnTo>
                  <a:pt x="1239" y="502"/>
                </a:lnTo>
                <a:lnTo>
                  <a:pt x="1232" y="502"/>
                </a:lnTo>
                <a:lnTo>
                  <a:pt x="1227" y="505"/>
                </a:lnTo>
                <a:lnTo>
                  <a:pt x="1222" y="505"/>
                </a:lnTo>
                <a:lnTo>
                  <a:pt x="1218" y="502"/>
                </a:lnTo>
                <a:lnTo>
                  <a:pt x="1215" y="500"/>
                </a:lnTo>
                <a:lnTo>
                  <a:pt x="1213" y="498"/>
                </a:lnTo>
                <a:lnTo>
                  <a:pt x="1213" y="493"/>
                </a:lnTo>
                <a:lnTo>
                  <a:pt x="1213" y="488"/>
                </a:lnTo>
                <a:lnTo>
                  <a:pt x="1213" y="483"/>
                </a:lnTo>
                <a:lnTo>
                  <a:pt x="1215" y="476"/>
                </a:lnTo>
                <a:lnTo>
                  <a:pt x="1218" y="469"/>
                </a:lnTo>
                <a:lnTo>
                  <a:pt x="1220" y="460"/>
                </a:lnTo>
                <a:lnTo>
                  <a:pt x="1225" y="452"/>
                </a:lnTo>
                <a:lnTo>
                  <a:pt x="1227" y="441"/>
                </a:lnTo>
                <a:lnTo>
                  <a:pt x="1234" y="431"/>
                </a:lnTo>
                <a:lnTo>
                  <a:pt x="1239" y="419"/>
                </a:lnTo>
                <a:lnTo>
                  <a:pt x="1246" y="407"/>
                </a:lnTo>
                <a:lnTo>
                  <a:pt x="1253" y="395"/>
                </a:lnTo>
                <a:lnTo>
                  <a:pt x="1261" y="381"/>
                </a:lnTo>
                <a:lnTo>
                  <a:pt x="1268" y="367"/>
                </a:lnTo>
                <a:lnTo>
                  <a:pt x="1277" y="352"/>
                </a:lnTo>
                <a:lnTo>
                  <a:pt x="1284" y="336"/>
                </a:lnTo>
                <a:lnTo>
                  <a:pt x="1289" y="322"/>
                </a:lnTo>
                <a:lnTo>
                  <a:pt x="1296" y="307"/>
                </a:lnTo>
                <a:lnTo>
                  <a:pt x="1301" y="295"/>
                </a:lnTo>
                <a:lnTo>
                  <a:pt x="1306" y="283"/>
                </a:lnTo>
                <a:lnTo>
                  <a:pt x="1311" y="272"/>
                </a:lnTo>
                <a:lnTo>
                  <a:pt x="1315" y="260"/>
                </a:lnTo>
                <a:lnTo>
                  <a:pt x="1320" y="250"/>
                </a:lnTo>
                <a:lnTo>
                  <a:pt x="1322" y="241"/>
                </a:lnTo>
                <a:lnTo>
                  <a:pt x="1325" y="231"/>
                </a:lnTo>
                <a:lnTo>
                  <a:pt x="1327" y="222"/>
                </a:lnTo>
                <a:lnTo>
                  <a:pt x="1327" y="214"/>
                </a:lnTo>
                <a:lnTo>
                  <a:pt x="1330" y="207"/>
                </a:lnTo>
                <a:lnTo>
                  <a:pt x="1330" y="200"/>
                </a:lnTo>
                <a:lnTo>
                  <a:pt x="1327" y="195"/>
                </a:lnTo>
                <a:lnTo>
                  <a:pt x="1325" y="188"/>
                </a:lnTo>
                <a:lnTo>
                  <a:pt x="1320" y="183"/>
                </a:lnTo>
                <a:lnTo>
                  <a:pt x="1315" y="179"/>
                </a:lnTo>
                <a:lnTo>
                  <a:pt x="1306" y="174"/>
                </a:lnTo>
                <a:lnTo>
                  <a:pt x="1299" y="169"/>
                </a:lnTo>
                <a:lnTo>
                  <a:pt x="1289" y="167"/>
                </a:lnTo>
                <a:lnTo>
                  <a:pt x="1277" y="164"/>
                </a:lnTo>
                <a:lnTo>
                  <a:pt x="1265" y="162"/>
                </a:lnTo>
                <a:lnTo>
                  <a:pt x="1253" y="162"/>
                </a:lnTo>
                <a:lnTo>
                  <a:pt x="1249" y="162"/>
                </a:lnTo>
                <a:lnTo>
                  <a:pt x="1244" y="162"/>
                </a:lnTo>
                <a:lnTo>
                  <a:pt x="1239" y="162"/>
                </a:lnTo>
                <a:lnTo>
                  <a:pt x="1232" y="164"/>
                </a:lnTo>
                <a:lnTo>
                  <a:pt x="1225" y="164"/>
                </a:lnTo>
                <a:lnTo>
                  <a:pt x="1215" y="167"/>
                </a:lnTo>
                <a:lnTo>
                  <a:pt x="1208" y="167"/>
                </a:lnTo>
                <a:lnTo>
                  <a:pt x="1196" y="169"/>
                </a:lnTo>
                <a:lnTo>
                  <a:pt x="1187" y="172"/>
                </a:lnTo>
                <a:lnTo>
                  <a:pt x="1175" y="174"/>
                </a:lnTo>
                <a:lnTo>
                  <a:pt x="1163" y="176"/>
                </a:lnTo>
                <a:lnTo>
                  <a:pt x="1149" y="179"/>
                </a:lnTo>
                <a:lnTo>
                  <a:pt x="1134" y="181"/>
                </a:lnTo>
                <a:lnTo>
                  <a:pt x="1120" y="183"/>
                </a:lnTo>
                <a:lnTo>
                  <a:pt x="1103" y="188"/>
                </a:lnTo>
                <a:lnTo>
                  <a:pt x="1087" y="191"/>
                </a:lnTo>
                <a:lnTo>
                  <a:pt x="1067" y="195"/>
                </a:lnTo>
                <a:lnTo>
                  <a:pt x="1048" y="200"/>
                </a:lnTo>
                <a:lnTo>
                  <a:pt x="1029" y="205"/>
                </a:lnTo>
                <a:lnTo>
                  <a:pt x="1008" y="210"/>
                </a:lnTo>
                <a:lnTo>
                  <a:pt x="986" y="214"/>
                </a:lnTo>
                <a:lnTo>
                  <a:pt x="965" y="219"/>
                </a:lnTo>
                <a:lnTo>
                  <a:pt x="941" y="224"/>
                </a:lnTo>
                <a:lnTo>
                  <a:pt x="917" y="229"/>
                </a:lnTo>
                <a:lnTo>
                  <a:pt x="891" y="236"/>
                </a:lnTo>
                <a:lnTo>
                  <a:pt x="865" y="241"/>
                </a:lnTo>
                <a:lnTo>
                  <a:pt x="839" y="248"/>
                </a:lnTo>
                <a:lnTo>
                  <a:pt x="810" y="255"/>
                </a:lnTo>
                <a:lnTo>
                  <a:pt x="782" y="262"/>
                </a:lnTo>
                <a:lnTo>
                  <a:pt x="753" y="269"/>
                </a:lnTo>
                <a:lnTo>
                  <a:pt x="722" y="276"/>
                </a:lnTo>
                <a:lnTo>
                  <a:pt x="689" y="283"/>
                </a:lnTo>
                <a:lnTo>
                  <a:pt x="658" y="291"/>
                </a:lnTo>
                <a:lnTo>
                  <a:pt x="624" y="298"/>
                </a:lnTo>
                <a:lnTo>
                  <a:pt x="596" y="305"/>
                </a:lnTo>
                <a:lnTo>
                  <a:pt x="565" y="312"/>
                </a:lnTo>
                <a:lnTo>
                  <a:pt x="536" y="319"/>
                </a:lnTo>
                <a:lnTo>
                  <a:pt x="510" y="326"/>
                </a:lnTo>
                <a:lnTo>
                  <a:pt x="484" y="331"/>
                </a:lnTo>
                <a:lnTo>
                  <a:pt x="458" y="338"/>
                </a:lnTo>
                <a:lnTo>
                  <a:pt x="434" y="343"/>
                </a:lnTo>
                <a:lnTo>
                  <a:pt x="410" y="348"/>
                </a:lnTo>
                <a:lnTo>
                  <a:pt x="388" y="355"/>
                </a:lnTo>
                <a:lnTo>
                  <a:pt x="367" y="360"/>
                </a:lnTo>
                <a:lnTo>
                  <a:pt x="346" y="364"/>
                </a:lnTo>
                <a:lnTo>
                  <a:pt x="326" y="367"/>
                </a:lnTo>
                <a:lnTo>
                  <a:pt x="310" y="372"/>
                </a:lnTo>
                <a:lnTo>
                  <a:pt x="293" y="376"/>
                </a:lnTo>
                <a:lnTo>
                  <a:pt x="276" y="379"/>
                </a:lnTo>
                <a:lnTo>
                  <a:pt x="260" y="383"/>
                </a:lnTo>
                <a:lnTo>
                  <a:pt x="245" y="386"/>
                </a:lnTo>
                <a:lnTo>
                  <a:pt x="234" y="388"/>
                </a:lnTo>
                <a:lnTo>
                  <a:pt x="222" y="391"/>
                </a:lnTo>
                <a:lnTo>
                  <a:pt x="210" y="393"/>
                </a:lnTo>
                <a:lnTo>
                  <a:pt x="200" y="395"/>
                </a:lnTo>
                <a:lnTo>
                  <a:pt x="191" y="398"/>
                </a:lnTo>
                <a:lnTo>
                  <a:pt x="181" y="400"/>
                </a:lnTo>
                <a:lnTo>
                  <a:pt x="174" y="402"/>
                </a:lnTo>
                <a:lnTo>
                  <a:pt x="169" y="402"/>
                </a:lnTo>
                <a:lnTo>
                  <a:pt x="162" y="405"/>
                </a:lnTo>
                <a:lnTo>
                  <a:pt x="160" y="405"/>
                </a:lnTo>
                <a:lnTo>
                  <a:pt x="155" y="405"/>
                </a:lnTo>
                <a:lnTo>
                  <a:pt x="153" y="405"/>
                </a:lnTo>
                <a:lnTo>
                  <a:pt x="150" y="405"/>
                </a:lnTo>
                <a:lnTo>
                  <a:pt x="148" y="405"/>
                </a:lnTo>
                <a:lnTo>
                  <a:pt x="145" y="405"/>
                </a:lnTo>
                <a:lnTo>
                  <a:pt x="138" y="400"/>
                </a:lnTo>
                <a:lnTo>
                  <a:pt x="129" y="395"/>
                </a:lnTo>
                <a:lnTo>
                  <a:pt x="117" y="388"/>
                </a:lnTo>
                <a:lnTo>
                  <a:pt x="102" y="376"/>
                </a:lnTo>
                <a:lnTo>
                  <a:pt x="88" y="367"/>
                </a:lnTo>
                <a:lnTo>
                  <a:pt x="71" y="352"/>
                </a:lnTo>
                <a:lnTo>
                  <a:pt x="52" y="338"/>
                </a:lnTo>
                <a:lnTo>
                  <a:pt x="45" y="331"/>
                </a:lnTo>
                <a:lnTo>
                  <a:pt x="36" y="324"/>
                </a:lnTo>
                <a:lnTo>
                  <a:pt x="29" y="317"/>
                </a:lnTo>
                <a:lnTo>
                  <a:pt x="24" y="312"/>
                </a:lnTo>
                <a:lnTo>
                  <a:pt x="17" y="307"/>
                </a:lnTo>
                <a:lnTo>
                  <a:pt x="14" y="302"/>
                </a:lnTo>
                <a:lnTo>
                  <a:pt x="10" y="298"/>
                </a:lnTo>
                <a:lnTo>
                  <a:pt x="7" y="293"/>
                </a:lnTo>
                <a:lnTo>
                  <a:pt x="2" y="291"/>
                </a:lnTo>
                <a:lnTo>
                  <a:pt x="2" y="286"/>
                </a:lnTo>
                <a:lnTo>
                  <a:pt x="0" y="283"/>
                </a:lnTo>
                <a:lnTo>
                  <a:pt x="0" y="281"/>
                </a:lnTo>
                <a:lnTo>
                  <a:pt x="0" y="279"/>
                </a:lnTo>
                <a:lnTo>
                  <a:pt x="0" y="276"/>
                </a:lnTo>
                <a:lnTo>
                  <a:pt x="2" y="272"/>
                </a:lnTo>
                <a:lnTo>
                  <a:pt x="5" y="269"/>
                </a:lnTo>
                <a:lnTo>
                  <a:pt x="7" y="269"/>
                </a:lnTo>
                <a:lnTo>
                  <a:pt x="12" y="269"/>
                </a:lnTo>
                <a:lnTo>
                  <a:pt x="17" y="269"/>
                </a:lnTo>
                <a:lnTo>
                  <a:pt x="21" y="267"/>
                </a:lnTo>
                <a:lnTo>
                  <a:pt x="29" y="267"/>
                </a:lnTo>
                <a:lnTo>
                  <a:pt x="38" y="264"/>
                </a:lnTo>
                <a:lnTo>
                  <a:pt x="48" y="264"/>
                </a:lnTo>
                <a:lnTo>
                  <a:pt x="57" y="262"/>
                </a:lnTo>
                <a:lnTo>
                  <a:pt x="69" y="260"/>
                </a:lnTo>
                <a:lnTo>
                  <a:pt x="81" y="257"/>
                </a:lnTo>
                <a:lnTo>
                  <a:pt x="95" y="255"/>
                </a:lnTo>
                <a:lnTo>
                  <a:pt x="110" y="253"/>
                </a:lnTo>
                <a:lnTo>
                  <a:pt x="124" y="250"/>
                </a:lnTo>
                <a:lnTo>
                  <a:pt x="141" y="248"/>
                </a:lnTo>
                <a:lnTo>
                  <a:pt x="157" y="245"/>
                </a:lnTo>
                <a:lnTo>
                  <a:pt x="176" y="243"/>
                </a:lnTo>
                <a:lnTo>
                  <a:pt x="214" y="238"/>
                </a:lnTo>
                <a:lnTo>
                  <a:pt x="253" y="233"/>
                </a:lnTo>
                <a:lnTo>
                  <a:pt x="295" y="226"/>
                </a:lnTo>
                <a:lnTo>
                  <a:pt x="341" y="222"/>
                </a:lnTo>
                <a:lnTo>
                  <a:pt x="388" y="214"/>
                </a:lnTo>
                <a:lnTo>
                  <a:pt x="436" y="207"/>
                </a:lnTo>
                <a:lnTo>
                  <a:pt x="488" y="198"/>
                </a:lnTo>
                <a:lnTo>
                  <a:pt x="543" y="188"/>
                </a:lnTo>
                <a:lnTo>
                  <a:pt x="593" y="183"/>
                </a:lnTo>
                <a:lnTo>
                  <a:pt x="648" y="176"/>
                </a:lnTo>
                <a:lnTo>
                  <a:pt x="703" y="167"/>
                </a:lnTo>
                <a:lnTo>
                  <a:pt x="762" y="160"/>
                </a:lnTo>
                <a:lnTo>
                  <a:pt x="820" y="148"/>
                </a:lnTo>
                <a:lnTo>
                  <a:pt x="882" y="136"/>
                </a:lnTo>
                <a:lnTo>
                  <a:pt x="944" y="122"/>
                </a:lnTo>
                <a:lnTo>
                  <a:pt x="1008" y="107"/>
                </a:lnTo>
                <a:lnTo>
                  <a:pt x="1037" y="100"/>
                </a:lnTo>
                <a:lnTo>
                  <a:pt x="1065" y="93"/>
                </a:lnTo>
                <a:lnTo>
                  <a:pt x="1091" y="86"/>
                </a:lnTo>
                <a:lnTo>
                  <a:pt x="1115" y="79"/>
                </a:lnTo>
                <a:lnTo>
                  <a:pt x="1139" y="74"/>
                </a:lnTo>
                <a:lnTo>
                  <a:pt x="1160" y="67"/>
                </a:lnTo>
                <a:lnTo>
                  <a:pt x="1179" y="62"/>
                </a:lnTo>
                <a:lnTo>
                  <a:pt x="1199" y="57"/>
                </a:lnTo>
                <a:lnTo>
                  <a:pt x="1215" y="53"/>
                </a:lnTo>
                <a:lnTo>
                  <a:pt x="1232" y="48"/>
                </a:lnTo>
                <a:lnTo>
                  <a:pt x="1246" y="43"/>
                </a:lnTo>
                <a:lnTo>
                  <a:pt x="1258" y="38"/>
                </a:lnTo>
                <a:lnTo>
                  <a:pt x="1268" y="36"/>
                </a:lnTo>
                <a:lnTo>
                  <a:pt x="1277" y="31"/>
                </a:lnTo>
                <a:lnTo>
                  <a:pt x="1284" y="29"/>
                </a:lnTo>
                <a:lnTo>
                  <a:pt x="1289" y="26"/>
                </a:lnTo>
                <a:lnTo>
                  <a:pt x="1294" y="22"/>
                </a:lnTo>
                <a:lnTo>
                  <a:pt x="1301" y="17"/>
                </a:lnTo>
                <a:lnTo>
                  <a:pt x="1308" y="12"/>
                </a:lnTo>
                <a:lnTo>
                  <a:pt x="1318" y="7"/>
                </a:lnTo>
                <a:lnTo>
                  <a:pt x="1327" y="5"/>
                </a:lnTo>
                <a:lnTo>
                  <a:pt x="1337" y="0"/>
                </a:lnTo>
                <a:lnTo>
                  <a:pt x="1349" y="0"/>
                </a:lnTo>
                <a:lnTo>
                  <a:pt x="1363" y="0"/>
                </a:lnTo>
                <a:lnTo>
                  <a:pt x="1370" y="0"/>
                </a:lnTo>
                <a:lnTo>
                  <a:pt x="1377" y="0"/>
                </a:lnTo>
                <a:lnTo>
                  <a:pt x="1384" y="3"/>
                </a:lnTo>
                <a:lnTo>
                  <a:pt x="1392" y="7"/>
                </a:lnTo>
                <a:lnTo>
                  <a:pt x="1401" y="10"/>
                </a:lnTo>
                <a:lnTo>
                  <a:pt x="1411" y="15"/>
                </a:lnTo>
                <a:lnTo>
                  <a:pt x="1420" y="22"/>
                </a:lnTo>
                <a:lnTo>
                  <a:pt x="1430" y="26"/>
                </a:lnTo>
                <a:lnTo>
                  <a:pt x="1442" y="36"/>
                </a:lnTo>
                <a:lnTo>
                  <a:pt x="1451" y="43"/>
                </a:lnTo>
                <a:lnTo>
                  <a:pt x="1463" y="53"/>
                </a:lnTo>
                <a:lnTo>
                  <a:pt x="1477" y="62"/>
                </a:lnTo>
                <a:lnTo>
                  <a:pt x="1489" y="72"/>
                </a:lnTo>
                <a:lnTo>
                  <a:pt x="1504" y="84"/>
                </a:lnTo>
                <a:lnTo>
                  <a:pt x="1518" y="95"/>
                </a:lnTo>
                <a:lnTo>
                  <a:pt x="1535" y="107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Freeform 46"/>
          <p:cNvSpPr/>
          <p:nvPr/>
        </p:nvSpPr>
        <p:spPr>
          <a:xfrm>
            <a:off x="6380280" y="2995560"/>
            <a:ext cx="392040" cy="1141560"/>
          </a:xfrm>
          <a:custGeom>
            <a:avLst/>
            <a:gdLst/>
            <a:ahLst/>
            <a:rect l="l" t="t" r="r" b="b"/>
            <a:pathLst>
              <a:path w="617" h="1797">
                <a:moveTo>
                  <a:pt x="172" y="1473"/>
                </a:moveTo>
                <a:lnTo>
                  <a:pt x="150" y="1459"/>
                </a:lnTo>
                <a:lnTo>
                  <a:pt x="129" y="1447"/>
                </a:lnTo>
                <a:lnTo>
                  <a:pt x="110" y="1437"/>
                </a:lnTo>
                <a:lnTo>
                  <a:pt x="93" y="1425"/>
                </a:lnTo>
                <a:lnTo>
                  <a:pt x="76" y="1416"/>
                </a:lnTo>
                <a:lnTo>
                  <a:pt x="62" y="1406"/>
                </a:lnTo>
                <a:lnTo>
                  <a:pt x="48" y="1399"/>
                </a:lnTo>
                <a:lnTo>
                  <a:pt x="36" y="1390"/>
                </a:lnTo>
                <a:lnTo>
                  <a:pt x="26" y="1383"/>
                </a:lnTo>
                <a:lnTo>
                  <a:pt x="17" y="1378"/>
                </a:lnTo>
                <a:lnTo>
                  <a:pt x="10" y="1371"/>
                </a:lnTo>
                <a:lnTo>
                  <a:pt x="5" y="1366"/>
                </a:lnTo>
                <a:lnTo>
                  <a:pt x="2" y="1361"/>
                </a:lnTo>
                <a:lnTo>
                  <a:pt x="0" y="1356"/>
                </a:lnTo>
                <a:lnTo>
                  <a:pt x="0" y="1354"/>
                </a:lnTo>
                <a:lnTo>
                  <a:pt x="0" y="1349"/>
                </a:lnTo>
                <a:lnTo>
                  <a:pt x="2" y="1347"/>
                </a:lnTo>
                <a:lnTo>
                  <a:pt x="7" y="1344"/>
                </a:lnTo>
                <a:lnTo>
                  <a:pt x="12" y="1342"/>
                </a:lnTo>
                <a:lnTo>
                  <a:pt x="19" y="1342"/>
                </a:lnTo>
                <a:lnTo>
                  <a:pt x="26" y="1340"/>
                </a:lnTo>
                <a:lnTo>
                  <a:pt x="36" y="1340"/>
                </a:lnTo>
                <a:lnTo>
                  <a:pt x="48" y="1340"/>
                </a:lnTo>
                <a:lnTo>
                  <a:pt x="60" y="1340"/>
                </a:lnTo>
                <a:lnTo>
                  <a:pt x="71" y="1340"/>
                </a:lnTo>
                <a:lnTo>
                  <a:pt x="88" y="1342"/>
                </a:lnTo>
                <a:lnTo>
                  <a:pt x="105" y="1342"/>
                </a:lnTo>
                <a:lnTo>
                  <a:pt x="122" y="1344"/>
                </a:lnTo>
                <a:lnTo>
                  <a:pt x="141" y="1347"/>
                </a:lnTo>
                <a:lnTo>
                  <a:pt x="162" y="1347"/>
                </a:lnTo>
                <a:lnTo>
                  <a:pt x="183" y="1349"/>
                </a:lnTo>
                <a:lnTo>
                  <a:pt x="205" y="1354"/>
                </a:lnTo>
                <a:lnTo>
                  <a:pt x="224" y="1359"/>
                </a:lnTo>
                <a:lnTo>
                  <a:pt x="243" y="1364"/>
                </a:lnTo>
                <a:lnTo>
                  <a:pt x="260" y="1366"/>
                </a:lnTo>
                <a:lnTo>
                  <a:pt x="276" y="1368"/>
                </a:lnTo>
                <a:lnTo>
                  <a:pt x="293" y="1371"/>
                </a:lnTo>
                <a:lnTo>
                  <a:pt x="307" y="1371"/>
                </a:lnTo>
                <a:lnTo>
                  <a:pt x="322" y="1371"/>
                </a:lnTo>
                <a:lnTo>
                  <a:pt x="336" y="1371"/>
                </a:lnTo>
                <a:lnTo>
                  <a:pt x="348" y="1371"/>
                </a:lnTo>
                <a:lnTo>
                  <a:pt x="360" y="1368"/>
                </a:lnTo>
                <a:lnTo>
                  <a:pt x="369" y="1366"/>
                </a:lnTo>
                <a:lnTo>
                  <a:pt x="379" y="1364"/>
                </a:lnTo>
                <a:lnTo>
                  <a:pt x="388" y="1359"/>
                </a:lnTo>
                <a:lnTo>
                  <a:pt x="398" y="1354"/>
                </a:lnTo>
                <a:lnTo>
                  <a:pt x="405" y="1349"/>
                </a:lnTo>
                <a:lnTo>
                  <a:pt x="407" y="1349"/>
                </a:lnTo>
                <a:lnTo>
                  <a:pt x="410" y="1347"/>
                </a:lnTo>
                <a:lnTo>
                  <a:pt x="415" y="1342"/>
                </a:lnTo>
                <a:lnTo>
                  <a:pt x="417" y="1340"/>
                </a:lnTo>
                <a:lnTo>
                  <a:pt x="419" y="1335"/>
                </a:lnTo>
                <a:lnTo>
                  <a:pt x="422" y="1330"/>
                </a:lnTo>
                <a:lnTo>
                  <a:pt x="424" y="1323"/>
                </a:lnTo>
                <a:lnTo>
                  <a:pt x="427" y="1318"/>
                </a:lnTo>
                <a:lnTo>
                  <a:pt x="429" y="1311"/>
                </a:lnTo>
                <a:lnTo>
                  <a:pt x="431" y="1302"/>
                </a:lnTo>
                <a:lnTo>
                  <a:pt x="434" y="1294"/>
                </a:lnTo>
                <a:lnTo>
                  <a:pt x="436" y="1285"/>
                </a:lnTo>
                <a:lnTo>
                  <a:pt x="438" y="1273"/>
                </a:lnTo>
                <a:lnTo>
                  <a:pt x="438" y="1264"/>
                </a:lnTo>
                <a:lnTo>
                  <a:pt x="441" y="1252"/>
                </a:lnTo>
                <a:lnTo>
                  <a:pt x="443" y="1240"/>
                </a:lnTo>
                <a:lnTo>
                  <a:pt x="443" y="1228"/>
                </a:lnTo>
                <a:lnTo>
                  <a:pt x="446" y="1214"/>
                </a:lnTo>
                <a:lnTo>
                  <a:pt x="446" y="1199"/>
                </a:lnTo>
                <a:lnTo>
                  <a:pt x="448" y="1185"/>
                </a:lnTo>
                <a:lnTo>
                  <a:pt x="448" y="1171"/>
                </a:lnTo>
                <a:lnTo>
                  <a:pt x="450" y="1154"/>
                </a:lnTo>
                <a:lnTo>
                  <a:pt x="450" y="1137"/>
                </a:lnTo>
                <a:lnTo>
                  <a:pt x="450" y="1121"/>
                </a:lnTo>
                <a:lnTo>
                  <a:pt x="450" y="1102"/>
                </a:lnTo>
                <a:lnTo>
                  <a:pt x="453" y="1083"/>
                </a:lnTo>
                <a:lnTo>
                  <a:pt x="453" y="1064"/>
                </a:lnTo>
                <a:lnTo>
                  <a:pt x="453" y="1045"/>
                </a:lnTo>
                <a:lnTo>
                  <a:pt x="453" y="1023"/>
                </a:lnTo>
                <a:lnTo>
                  <a:pt x="453" y="1002"/>
                </a:lnTo>
                <a:lnTo>
                  <a:pt x="453" y="980"/>
                </a:lnTo>
                <a:lnTo>
                  <a:pt x="453" y="957"/>
                </a:lnTo>
                <a:lnTo>
                  <a:pt x="453" y="911"/>
                </a:lnTo>
                <a:lnTo>
                  <a:pt x="453" y="868"/>
                </a:lnTo>
                <a:lnTo>
                  <a:pt x="453" y="826"/>
                </a:lnTo>
                <a:lnTo>
                  <a:pt x="453" y="785"/>
                </a:lnTo>
                <a:lnTo>
                  <a:pt x="453" y="745"/>
                </a:lnTo>
                <a:lnTo>
                  <a:pt x="453" y="704"/>
                </a:lnTo>
                <a:lnTo>
                  <a:pt x="453" y="666"/>
                </a:lnTo>
                <a:lnTo>
                  <a:pt x="453" y="630"/>
                </a:lnTo>
                <a:lnTo>
                  <a:pt x="450" y="595"/>
                </a:lnTo>
                <a:lnTo>
                  <a:pt x="450" y="559"/>
                </a:lnTo>
                <a:lnTo>
                  <a:pt x="450" y="526"/>
                </a:lnTo>
                <a:lnTo>
                  <a:pt x="448" y="495"/>
                </a:lnTo>
                <a:lnTo>
                  <a:pt x="446" y="461"/>
                </a:lnTo>
                <a:lnTo>
                  <a:pt x="446" y="433"/>
                </a:lnTo>
                <a:lnTo>
                  <a:pt x="443" y="402"/>
                </a:lnTo>
                <a:lnTo>
                  <a:pt x="441" y="373"/>
                </a:lnTo>
                <a:lnTo>
                  <a:pt x="438" y="347"/>
                </a:lnTo>
                <a:lnTo>
                  <a:pt x="436" y="321"/>
                </a:lnTo>
                <a:lnTo>
                  <a:pt x="434" y="297"/>
                </a:lnTo>
                <a:lnTo>
                  <a:pt x="431" y="276"/>
                </a:lnTo>
                <a:lnTo>
                  <a:pt x="429" y="254"/>
                </a:lnTo>
                <a:lnTo>
                  <a:pt x="427" y="235"/>
                </a:lnTo>
                <a:lnTo>
                  <a:pt x="424" y="216"/>
                </a:lnTo>
                <a:lnTo>
                  <a:pt x="422" y="200"/>
                </a:lnTo>
                <a:lnTo>
                  <a:pt x="417" y="185"/>
                </a:lnTo>
                <a:lnTo>
                  <a:pt x="415" y="171"/>
                </a:lnTo>
                <a:lnTo>
                  <a:pt x="412" y="159"/>
                </a:lnTo>
                <a:lnTo>
                  <a:pt x="407" y="147"/>
                </a:lnTo>
                <a:lnTo>
                  <a:pt x="405" y="138"/>
                </a:lnTo>
                <a:lnTo>
                  <a:pt x="400" y="131"/>
                </a:lnTo>
                <a:lnTo>
                  <a:pt x="396" y="124"/>
                </a:lnTo>
                <a:lnTo>
                  <a:pt x="393" y="116"/>
                </a:lnTo>
                <a:lnTo>
                  <a:pt x="384" y="107"/>
                </a:lnTo>
                <a:lnTo>
                  <a:pt x="376" y="97"/>
                </a:lnTo>
                <a:lnTo>
                  <a:pt x="369" y="85"/>
                </a:lnTo>
                <a:lnTo>
                  <a:pt x="365" y="74"/>
                </a:lnTo>
                <a:lnTo>
                  <a:pt x="360" y="64"/>
                </a:lnTo>
                <a:lnTo>
                  <a:pt x="357" y="50"/>
                </a:lnTo>
                <a:lnTo>
                  <a:pt x="355" y="38"/>
                </a:lnTo>
                <a:lnTo>
                  <a:pt x="355" y="21"/>
                </a:lnTo>
                <a:lnTo>
                  <a:pt x="355" y="16"/>
                </a:lnTo>
                <a:lnTo>
                  <a:pt x="357" y="14"/>
                </a:lnTo>
                <a:lnTo>
                  <a:pt x="360" y="9"/>
                </a:lnTo>
                <a:lnTo>
                  <a:pt x="362" y="7"/>
                </a:lnTo>
                <a:lnTo>
                  <a:pt x="367" y="5"/>
                </a:lnTo>
                <a:lnTo>
                  <a:pt x="372" y="2"/>
                </a:lnTo>
                <a:lnTo>
                  <a:pt x="376" y="0"/>
                </a:lnTo>
                <a:lnTo>
                  <a:pt x="384" y="0"/>
                </a:lnTo>
                <a:lnTo>
                  <a:pt x="391" y="0"/>
                </a:lnTo>
                <a:lnTo>
                  <a:pt x="398" y="0"/>
                </a:lnTo>
                <a:lnTo>
                  <a:pt x="407" y="0"/>
                </a:lnTo>
                <a:lnTo>
                  <a:pt x="417" y="2"/>
                </a:lnTo>
                <a:lnTo>
                  <a:pt x="429" y="2"/>
                </a:lnTo>
                <a:lnTo>
                  <a:pt x="441" y="5"/>
                </a:lnTo>
                <a:lnTo>
                  <a:pt x="453" y="7"/>
                </a:lnTo>
                <a:lnTo>
                  <a:pt x="465" y="9"/>
                </a:lnTo>
                <a:lnTo>
                  <a:pt x="488" y="19"/>
                </a:lnTo>
                <a:lnTo>
                  <a:pt x="510" y="28"/>
                </a:lnTo>
                <a:lnTo>
                  <a:pt x="529" y="40"/>
                </a:lnTo>
                <a:lnTo>
                  <a:pt x="546" y="52"/>
                </a:lnTo>
                <a:lnTo>
                  <a:pt x="562" y="62"/>
                </a:lnTo>
                <a:lnTo>
                  <a:pt x="577" y="76"/>
                </a:lnTo>
                <a:lnTo>
                  <a:pt x="591" y="88"/>
                </a:lnTo>
                <a:lnTo>
                  <a:pt x="596" y="95"/>
                </a:lnTo>
                <a:lnTo>
                  <a:pt x="600" y="104"/>
                </a:lnTo>
                <a:lnTo>
                  <a:pt x="605" y="119"/>
                </a:lnTo>
                <a:lnTo>
                  <a:pt x="610" y="135"/>
                </a:lnTo>
                <a:lnTo>
                  <a:pt x="612" y="150"/>
                </a:lnTo>
                <a:lnTo>
                  <a:pt x="615" y="169"/>
                </a:lnTo>
                <a:lnTo>
                  <a:pt x="617" y="185"/>
                </a:lnTo>
                <a:lnTo>
                  <a:pt x="617" y="207"/>
                </a:lnTo>
                <a:lnTo>
                  <a:pt x="615" y="228"/>
                </a:lnTo>
                <a:lnTo>
                  <a:pt x="615" y="240"/>
                </a:lnTo>
                <a:lnTo>
                  <a:pt x="612" y="252"/>
                </a:lnTo>
                <a:lnTo>
                  <a:pt x="612" y="259"/>
                </a:lnTo>
                <a:lnTo>
                  <a:pt x="610" y="266"/>
                </a:lnTo>
                <a:lnTo>
                  <a:pt x="610" y="276"/>
                </a:lnTo>
                <a:lnTo>
                  <a:pt x="608" y="283"/>
                </a:lnTo>
                <a:lnTo>
                  <a:pt x="608" y="293"/>
                </a:lnTo>
                <a:lnTo>
                  <a:pt x="608" y="304"/>
                </a:lnTo>
                <a:lnTo>
                  <a:pt x="605" y="314"/>
                </a:lnTo>
                <a:lnTo>
                  <a:pt x="605" y="326"/>
                </a:lnTo>
                <a:lnTo>
                  <a:pt x="605" y="338"/>
                </a:lnTo>
                <a:lnTo>
                  <a:pt x="605" y="352"/>
                </a:lnTo>
                <a:lnTo>
                  <a:pt x="605" y="366"/>
                </a:lnTo>
                <a:lnTo>
                  <a:pt x="603" y="381"/>
                </a:lnTo>
                <a:lnTo>
                  <a:pt x="603" y="397"/>
                </a:lnTo>
                <a:lnTo>
                  <a:pt x="603" y="412"/>
                </a:lnTo>
                <a:lnTo>
                  <a:pt x="603" y="431"/>
                </a:lnTo>
                <a:lnTo>
                  <a:pt x="603" y="447"/>
                </a:lnTo>
                <a:lnTo>
                  <a:pt x="603" y="466"/>
                </a:lnTo>
                <a:lnTo>
                  <a:pt x="603" y="485"/>
                </a:lnTo>
                <a:lnTo>
                  <a:pt x="603" y="504"/>
                </a:lnTo>
                <a:lnTo>
                  <a:pt x="603" y="526"/>
                </a:lnTo>
                <a:lnTo>
                  <a:pt x="605" y="547"/>
                </a:lnTo>
                <a:lnTo>
                  <a:pt x="605" y="569"/>
                </a:lnTo>
                <a:lnTo>
                  <a:pt x="605" y="592"/>
                </a:lnTo>
                <a:lnTo>
                  <a:pt x="605" y="616"/>
                </a:lnTo>
                <a:lnTo>
                  <a:pt x="605" y="640"/>
                </a:lnTo>
                <a:lnTo>
                  <a:pt x="608" y="666"/>
                </a:lnTo>
                <a:lnTo>
                  <a:pt x="608" y="692"/>
                </a:lnTo>
                <a:lnTo>
                  <a:pt x="608" y="719"/>
                </a:lnTo>
                <a:lnTo>
                  <a:pt x="610" y="747"/>
                </a:lnTo>
                <a:lnTo>
                  <a:pt x="610" y="776"/>
                </a:lnTo>
                <a:lnTo>
                  <a:pt x="612" y="804"/>
                </a:lnTo>
                <a:lnTo>
                  <a:pt x="612" y="835"/>
                </a:lnTo>
                <a:lnTo>
                  <a:pt x="612" y="866"/>
                </a:lnTo>
                <a:lnTo>
                  <a:pt x="615" y="895"/>
                </a:lnTo>
                <a:lnTo>
                  <a:pt x="615" y="923"/>
                </a:lnTo>
                <a:lnTo>
                  <a:pt x="615" y="952"/>
                </a:lnTo>
                <a:lnTo>
                  <a:pt x="617" y="980"/>
                </a:lnTo>
                <a:lnTo>
                  <a:pt x="617" y="1007"/>
                </a:lnTo>
                <a:lnTo>
                  <a:pt x="617" y="1033"/>
                </a:lnTo>
                <a:lnTo>
                  <a:pt x="617" y="1059"/>
                </a:lnTo>
                <a:lnTo>
                  <a:pt x="617" y="1083"/>
                </a:lnTo>
                <a:lnTo>
                  <a:pt x="617" y="1109"/>
                </a:lnTo>
                <a:lnTo>
                  <a:pt x="617" y="1133"/>
                </a:lnTo>
                <a:lnTo>
                  <a:pt x="617" y="1154"/>
                </a:lnTo>
                <a:lnTo>
                  <a:pt x="617" y="1178"/>
                </a:lnTo>
                <a:lnTo>
                  <a:pt x="617" y="1199"/>
                </a:lnTo>
                <a:lnTo>
                  <a:pt x="615" y="1221"/>
                </a:lnTo>
                <a:lnTo>
                  <a:pt x="615" y="1240"/>
                </a:lnTo>
                <a:lnTo>
                  <a:pt x="615" y="1259"/>
                </a:lnTo>
                <a:lnTo>
                  <a:pt x="615" y="1278"/>
                </a:lnTo>
                <a:lnTo>
                  <a:pt x="612" y="1297"/>
                </a:lnTo>
                <a:lnTo>
                  <a:pt x="612" y="1316"/>
                </a:lnTo>
                <a:lnTo>
                  <a:pt x="612" y="1333"/>
                </a:lnTo>
                <a:lnTo>
                  <a:pt x="610" y="1347"/>
                </a:lnTo>
                <a:lnTo>
                  <a:pt x="610" y="1364"/>
                </a:lnTo>
                <a:lnTo>
                  <a:pt x="610" y="1378"/>
                </a:lnTo>
                <a:lnTo>
                  <a:pt x="608" y="1392"/>
                </a:lnTo>
                <a:lnTo>
                  <a:pt x="608" y="1406"/>
                </a:lnTo>
                <a:lnTo>
                  <a:pt x="605" y="1418"/>
                </a:lnTo>
                <a:lnTo>
                  <a:pt x="605" y="1430"/>
                </a:lnTo>
                <a:lnTo>
                  <a:pt x="603" y="1442"/>
                </a:lnTo>
                <a:lnTo>
                  <a:pt x="603" y="1454"/>
                </a:lnTo>
                <a:lnTo>
                  <a:pt x="600" y="1463"/>
                </a:lnTo>
                <a:lnTo>
                  <a:pt x="600" y="1473"/>
                </a:lnTo>
                <a:lnTo>
                  <a:pt x="598" y="1492"/>
                </a:lnTo>
                <a:lnTo>
                  <a:pt x="596" y="1511"/>
                </a:lnTo>
                <a:lnTo>
                  <a:pt x="591" y="1530"/>
                </a:lnTo>
                <a:lnTo>
                  <a:pt x="589" y="1549"/>
                </a:lnTo>
                <a:lnTo>
                  <a:pt x="586" y="1566"/>
                </a:lnTo>
                <a:lnTo>
                  <a:pt x="581" y="1582"/>
                </a:lnTo>
                <a:lnTo>
                  <a:pt x="577" y="1599"/>
                </a:lnTo>
                <a:lnTo>
                  <a:pt x="572" y="1613"/>
                </a:lnTo>
                <a:lnTo>
                  <a:pt x="567" y="1630"/>
                </a:lnTo>
                <a:lnTo>
                  <a:pt x="562" y="1644"/>
                </a:lnTo>
                <a:lnTo>
                  <a:pt x="558" y="1656"/>
                </a:lnTo>
                <a:lnTo>
                  <a:pt x="553" y="1671"/>
                </a:lnTo>
                <a:lnTo>
                  <a:pt x="546" y="1682"/>
                </a:lnTo>
                <a:lnTo>
                  <a:pt x="541" y="1694"/>
                </a:lnTo>
                <a:lnTo>
                  <a:pt x="534" y="1706"/>
                </a:lnTo>
                <a:lnTo>
                  <a:pt x="527" y="1716"/>
                </a:lnTo>
                <a:lnTo>
                  <a:pt x="519" y="1725"/>
                </a:lnTo>
                <a:lnTo>
                  <a:pt x="512" y="1735"/>
                </a:lnTo>
                <a:lnTo>
                  <a:pt x="505" y="1744"/>
                </a:lnTo>
                <a:lnTo>
                  <a:pt x="500" y="1751"/>
                </a:lnTo>
                <a:lnTo>
                  <a:pt x="493" y="1759"/>
                </a:lnTo>
                <a:lnTo>
                  <a:pt x="486" y="1766"/>
                </a:lnTo>
                <a:lnTo>
                  <a:pt x="479" y="1773"/>
                </a:lnTo>
                <a:lnTo>
                  <a:pt x="472" y="1778"/>
                </a:lnTo>
                <a:lnTo>
                  <a:pt x="465" y="1782"/>
                </a:lnTo>
                <a:lnTo>
                  <a:pt x="457" y="1787"/>
                </a:lnTo>
                <a:lnTo>
                  <a:pt x="450" y="1790"/>
                </a:lnTo>
                <a:lnTo>
                  <a:pt x="443" y="1792"/>
                </a:lnTo>
                <a:lnTo>
                  <a:pt x="436" y="1794"/>
                </a:lnTo>
                <a:lnTo>
                  <a:pt x="431" y="1797"/>
                </a:lnTo>
                <a:lnTo>
                  <a:pt x="424" y="1797"/>
                </a:lnTo>
                <a:lnTo>
                  <a:pt x="417" y="1797"/>
                </a:lnTo>
                <a:lnTo>
                  <a:pt x="410" y="1797"/>
                </a:lnTo>
                <a:lnTo>
                  <a:pt x="403" y="1797"/>
                </a:lnTo>
                <a:lnTo>
                  <a:pt x="398" y="1794"/>
                </a:lnTo>
                <a:lnTo>
                  <a:pt x="393" y="1790"/>
                </a:lnTo>
                <a:lnTo>
                  <a:pt x="388" y="1787"/>
                </a:lnTo>
                <a:lnTo>
                  <a:pt x="386" y="1780"/>
                </a:lnTo>
                <a:lnTo>
                  <a:pt x="381" y="1775"/>
                </a:lnTo>
                <a:lnTo>
                  <a:pt x="379" y="1768"/>
                </a:lnTo>
                <a:lnTo>
                  <a:pt x="376" y="1761"/>
                </a:lnTo>
                <a:lnTo>
                  <a:pt x="374" y="1754"/>
                </a:lnTo>
                <a:lnTo>
                  <a:pt x="372" y="1744"/>
                </a:lnTo>
                <a:lnTo>
                  <a:pt x="369" y="1735"/>
                </a:lnTo>
                <a:lnTo>
                  <a:pt x="369" y="1725"/>
                </a:lnTo>
                <a:lnTo>
                  <a:pt x="369" y="1713"/>
                </a:lnTo>
                <a:lnTo>
                  <a:pt x="367" y="1701"/>
                </a:lnTo>
                <a:lnTo>
                  <a:pt x="367" y="1690"/>
                </a:lnTo>
                <a:lnTo>
                  <a:pt x="365" y="1673"/>
                </a:lnTo>
                <a:lnTo>
                  <a:pt x="360" y="1659"/>
                </a:lnTo>
                <a:lnTo>
                  <a:pt x="355" y="1644"/>
                </a:lnTo>
                <a:lnTo>
                  <a:pt x="350" y="1630"/>
                </a:lnTo>
                <a:lnTo>
                  <a:pt x="341" y="1616"/>
                </a:lnTo>
                <a:lnTo>
                  <a:pt x="334" y="1604"/>
                </a:lnTo>
                <a:lnTo>
                  <a:pt x="322" y="1590"/>
                </a:lnTo>
                <a:lnTo>
                  <a:pt x="310" y="1575"/>
                </a:lnTo>
                <a:lnTo>
                  <a:pt x="298" y="1563"/>
                </a:lnTo>
                <a:lnTo>
                  <a:pt x="284" y="1549"/>
                </a:lnTo>
                <a:lnTo>
                  <a:pt x="269" y="1537"/>
                </a:lnTo>
                <a:lnTo>
                  <a:pt x="253" y="1523"/>
                </a:lnTo>
                <a:lnTo>
                  <a:pt x="234" y="1511"/>
                </a:lnTo>
                <a:lnTo>
                  <a:pt x="214" y="1499"/>
                </a:lnTo>
                <a:lnTo>
                  <a:pt x="193" y="1485"/>
                </a:lnTo>
                <a:lnTo>
                  <a:pt x="172" y="1473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Freeform 39"/>
          <p:cNvSpPr/>
          <p:nvPr/>
        </p:nvSpPr>
        <p:spPr>
          <a:xfrm>
            <a:off x="5915160" y="2449440"/>
            <a:ext cx="115920" cy="1041480"/>
          </a:xfrm>
          <a:custGeom>
            <a:avLst/>
            <a:gdLst/>
            <a:ahLst/>
            <a:rect l="l" t="t" r="r" b="b"/>
            <a:pathLst>
              <a:path w="184" h="1639">
                <a:moveTo>
                  <a:pt x="160" y="204"/>
                </a:moveTo>
                <a:lnTo>
                  <a:pt x="160" y="204"/>
                </a:lnTo>
                <a:lnTo>
                  <a:pt x="157" y="207"/>
                </a:lnTo>
                <a:lnTo>
                  <a:pt x="157" y="211"/>
                </a:lnTo>
                <a:lnTo>
                  <a:pt x="157" y="214"/>
                </a:lnTo>
                <a:lnTo>
                  <a:pt x="157" y="219"/>
                </a:lnTo>
                <a:lnTo>
                  <a:pt x="157" y="223"/>
                </a:lnTo>
                <a:lnTo>
                  <a:pt x="155" y="228"/>
                </a:lnTo>
                <a:lnTo>
                  <a:pt x="155" y="235"/>
                </a:lnTo>
                <a:lnTo>
                  <a:pt x="155" y="242"/>
                </a:lnTo>
                <a:lnTo>
                  <a:pt x="155" y="249"/>
                </a:lnTo>
                <a:lnTo>
                  <a:pt x="155" y="257"/>
                </a:lnTo>
                <a:lnTo>
                  <a:pt x="155" y="266"/>
                </a:lnTo>
                <a:lnTo>
                  <a:pt x="153" y="276"/>
                </a:lnTo>
                <a:lnTo>
                  <a:pt x="153" y="285"/>
                </a:lnTo>
                <a:lnTo>
                  <a:pt x="153" y="297"/>
                </a:lnTo>
                <a:lnTo>
                  <a:pt x="153" y="309"/>
                </a:lnTo>
                <a:lnTo>
                  <a:pt x="153" y="321"/>
                </a:lnTo>
                <a:lnTo>
                  <a:pt x="153" y="333"/>
                </a:lnTo>
                <a:lnTo>
                  <a:pt x="153" y="347"/>
                </a:lnTo>
                <a:lnTo>
                  <a:pt x="150" y="361"/>
                </a:lnTo>
                <a:lnTo>
                  <a:pt x="150" y="376"/>
                </a:lnTo>
                <a:lnTo>
                  <a:pt x="150" y="390"/>
                </a:lnTo>
                <a:lnTo>
                  <a:pt x="150" y="407"/>
                </a:lnTo>
                <a:lnTo>
                  <a:pt x="150" y="423"/>
                </a:lnTo>
                <a:lnTo>
                  <a:pt x="150" y="440"/>
                </a:lnTo>
                <a:lnTo>
                  <a:pt x="150" y="459"/>
                </a:lnTo>
                <a:lnTo>
                  <a:pt x="150" y="478"/>
                </a:lnTo>
                <a:lnTo>
                  <a:pt x="150" y="497"/>
                </a:lnTo>
                <a:lnTo>
                  <a:pt x="150" y="516"/>
                </a:lnTo>
                <a:lnTo>
                  <a:pt x="150" y="537"/>
                </a:lnTo>
                <a:lnTo>
                  <a:pt x="148" y="559"/>
                </a:lnTo>
                <a:lnTo>
                  <a:pt x="148" y="580"/>
                </a:lnTo>
                <a:lnTo>
                  <a:pt x="148" y="604"/>
                </a:lnTo>
                <a:lnTo>
                  <a:pt x="148" y="628"/>
                </a:lnTo>
                <a:lnTo>
                  <a:pt x="148" y="652"/>
                </a:lnTo>
                <a:lnTo>
                  <a:pt x="148" y="675"/>
                </a:lnTo>
                <a:lnTo>
                  <a:pt x="148" y="702"/>
                </a:lnTo>
                <a:lnTo>
                  <a:pt x="148" y="728"/>
                </a:lnTo>
                <a:lnTo>
                  <a:pt x="148" y="754"/>
                </a:lnTo>
                <a:lnTo>
                  <a:pt x="148" y="783"/>
                </a:lnTo>
                <a:lnTo>
                  <a:pt x="148" y="809"/>
                </a:lnTo>
                <a:lnTo>
                  <a:pt x="148" y="837"/>
                </a:lnTo>
                <a:lnTo>
                  <a:pt x="148" y="868"/>
                </a:lnTo>
                <a:lnTo>
                  <a:pt x="148" y="897"/>
                </a:lnTo>
                <a:lnTo>
                  <a:pt x="148" y="928"/>
                </a:lnTo>
                <a:lnTo>
                  <a:pt x="148" y="961"/>
                </a:lnTo>
                <a:lnTo>
                  <a:pt x="148" y="992"/>
                </a:lnTo>
                <a:lnTo>
                  <a:pt x="148" y="1025"/>
                </a:lnTo>
                <a:lnTo>
                  <a:pt x="148" y="1059"/>
                </a:lnTo>
                <a:lnTo>
                  <a:pt x="148" y="1092"/>
                </a:lnTo>
                <a:lnTo>
                  <a:pt x="148" y="1128"/>
                </a:lnTo>
                <a:lnTo>
                  <a:pt x="148" y="1163"/>
                </a:lnTo>
                <a:lnTo>
                  <a:pt x="148" y="1199"/>
                </a:lnTo>
                <a:lnTo>
                  <a:pt x="148" y="1235"/>
                </a:lnTo>
                <a:lnTo>
                  <a:pt x="148" y="1273"/>
                </a:lnTo>
                <a:lnTo>
                  <a:pt x="148" y="1311"/>
                </a:lnTo>
                <a:lnTo>
                  <a:pt x="148" y="1349"/>
                </a:lnTo>
                <a:lnTo>
                  <a:pt x="148" y="1390"/>
                </a:lnTo>
                <a:lnTo>
                  <a:pt x="148" y="1430"/>
                </a:lnTo>
                <a:lnTo>
                  <a:pt x="148" y="1470"/>
                </a:lnTo>
                <a:lnTo>
                  <a:pt x="148" y="1511"/>
                </a:lnTo>
                <a:lnTo>
                  <a:pt x="148" y="1554"/>
                </a:lnTo>
                <a:lnTo>
                  <a:pt x="148" y="1597"/>
                </a:lnTo>
                <a:lnTo>
                  <a:pt x="148" y="1639"/>
                </a:lnTo>
                <a:lnTo>
                  <a:pt x="24" y="1639"/>
                </a:lnTo>
                <a:lnTo>
                  <a:pt x="24" y="1511"/>
                </a:lnTo>
                <a:lnTo>
                  <a:pt x="24" y="1382"/>
                </a:lnTo>
                <a:lnTo>
                  <a:pt x="24" y="1261"/>
                </a:lnTo>
                <a:lnTo>
                  <a:pt x="22" y="1142"/>
                </a:lnTo>
                <a:lnTo>
                  <a:pt x="22" y="1028"/>
                </a:lnTo>
                <a:lnTo>
                  <a:pt x="19" y="916"/>
                </a:lnTo>
                <a:lnTo>
                  <a:pt x="19" y="806"/>
                </a:lnTo>
                <a:lnTo>
                  <a:pt x="17" y="704"/>
                </a:lnTo>
                <a:lnTo>
                  <a:pt x="14" y="602"/>
                </a:lnTo>
                <a:lnTo>
                  <a:pt x="14" y="507"/>
                </a:lnTo>
                <a:lnTo>
                  <a:pt x="12" y="414"/>
                </a:lnTo>
                <a:lnTo>
                  <a:pt x="10" y="323"/>
                </a:lnTo>
                <a:lnTo>
                  <a:pt x="7" y="238"/>
                </a:lnTo>
                <a:lnTo>
                  <a:pt x="5" y="154"/>
                </a:lnTo>
                <a:lnTo>
                  <a:pt x="2" y="76"/>
                </a:lnTo>
                <a:lnTo>
                  <a:pt x="0" y="0"/>
                </a:lnTo>
                <a:lnTo>
                  <a:pt x="22" y="9"/>
                </a:lnTo>
                <a:lnTo>
                  <a:pt x="38" y="16"/>
                </a:lnTo>
                <a:lnTo>
                  <a:pt x="57" y="23"/>
                </a:lnTo>
                <a:lnTo>
                  <a:pt x="74" y="31"/>
                </a:lnTo>
                <a:lnTo>
                  <a:pt x="88" y="38"/>
                </a:lnTo>
                <a:lnTo>
                  <a:pt x="103" y="45"/>
                </a:lnTo>
                <a:lnTo>
                  <a:pt x="117" y="52"/>
                </a:lnTo>
                <a:lnTo>
                  <a:pt x="129" y="59"/>
                </a:lnTo>
                <a:lnTo>
                  <a:pt x="141" y="66"/>
                </a:lnTo>
                <a:lnTo>
                  <a:pt x="150" y="73"/>
                </a:lnTo>
                <a:lnTo>
                  <a:pt x="157" y="80"/>
                </a:lnTo>
                <a:lnTo>
                  <a:pt x="164" y="85"/>
                </a:lnTo>
                <a:lnTo>
                  <a:pt x="172" y="92"/>
                </a:lnTo>
                <a:lnTo>
                  <a:pt x="176" y="97"/>
                </a:lnTo>
                <a:lnTo>
                  <a:pt x="181" y="104"/>
                </a:lnTo>
                <a:lnTo>
                  <a:pt x="184" y="109"/>
                </a:lnTo>
                <a:lnTo>
                  <a:pt x="184" y="123"/>
                </a:lnTo>
                <a:lnTo>
                  <a:pt x="181" y="138"/>
                </a:lnTo>
                <a:lnTo>
                  <a:pt x="179" y="150"/>
                </a:lnTo>
                <a:lnTo>
                  <a:pt x="176" y="161"/>
                </a:lnTo>
                <a:lnTo>
                  <a:pt x="172" y="173"/>
                </a:lnTo>
                <a:lnTo>
                  <a:pt x="169" y="183"/>
                </a:lnTo>
                <a:lnTo>
                  <a:pt x="160" y="204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Freeform 41"/>
          <p:cNvSpPr/>
          <p:nvPr/>
        </p:nvSpPr>
        <p:spPr>
          <a:xfrm>
            <a:off x="5673600" y="3147840"/>
            <a:ext cx="536760" cy="154080"/>
          </a:xfrm>
          <a:custGeom>
            <a:avLst/>
            <a:gdLst/>
            <a:ahLst/>
            <a:rect l="l" t="t" r="r" b="b"/>
            <a:pathLst>
              <a:path w="844" h="243">
                <a:moveTo>
                  <a:pt x="515" y="176"/>
                </a:moveTo>
                <a:lnTo>
                  <a:pt x="477" y="183"/>
                </a:lnTo>
                <a:lnTo>
                  <a:pt x="441" y="191"/>
                </a:lnTo>
                <a:lnTo>
                  <a:pt x="405" y="198"/>
                </a:lnTo>
                <a:lnTo>
                  <a:pt x="374" y="202"/>
                </a:lnTo>
                <a:lnTo>
                  <a:pt x="343" y="210"/>
                </a:lnTo>
                <a:lnTo>
                  <a:pt x="317" y="214"/>
                </a:lnTo>
                <a:lnTo>
                  <a:pt x="291" y="219"/>
                </a:lnTo>
                <a:lnTo>
                  <a:pt x="267" y="224"/>
                </a:lnTo>
                <a:lnTo>
                  <a:pt x="243" y="229"/>
                </a:lnTo>
                <a:lnTo>
                  <a:pt x="224" y="233"/>
                </a:lnTo>
                <a:lnTo>
                  <a:pt x="208" y="236"/>
                </a:lnTo>
                <a:lnTo>
                  <a:pt x="191" y="238"/>
                </a:lnTo>
                <a:lnTo>
                  <a:pt x="177" y="241"/>
                </a:lnTo>
                <a:lnTo>
                  <a:pt x="165" y="243"/>
                </a:lnTo>
                <a:lnTo>
                  <a:pt x="155" y="243"/>
                </a:lnTo>
                <a:lnTo>
                  <a:pt x="148" y="243"/>
                </a:lnTo>
                <a:lnTo>
                  <a:pt x="134" y="243"/>
                </a:lnTo>
                <a:lnTo>
                  <a:pt x="122" y="241"/>
                </a:lnTo>
                <a:lnTo>
                  <a:pt x="110" y="238"/>
                </a:lnTo>
                <a:lnTo>
                  <a:pt x="98" y="233"/>
                </a:lnTo>
                <a:lnTo>
                  <a:pt x="86" y="226"/>
                </a:lnTo>
                <a:lnTo>
                  <a:pt x="74" y="219"/>
                </a:lnTo>
                <a:lnTo>
                  <a:pt x="62" y="212"/>
                </a:lnTo>
                <a:lnTo>
                  <a:pt x="50" y="202"/>
                </a:lnTo>
                <a:lnTo>
                  <a:pt x="36" y="198"/>
                </a:lnTo>
                <a:lnTo>
                  <a:pt x="26" y="193"/>
                </a:lnTo>
                <a:lnTo>
                  <a:pt x="17" y="186"/>
                </a:lnTo>
                <a:lnTo>
                  <a:pt x="10" y="181"/>
                </a:lnTo>
                <a:lnTo>
                  <a:pt x="5" y="176"/>
                </a:lnTo>
                <a:lnTo>
                  <a:pt x="3" y="172"/>
                </a:lnTo>
                <a:lnTo>
                  <a:pt x="0" y="167"/>
                </a:lnTo>
                <a:lnTo>
                  <a:pt x="0" y="162"/>
                </a:lnTo>
                <a:lnTo>
                  <a:pt x="0" y="160"/>
                </a:lnTo>
                <a:lnTo>
                  <a:pt x="3" y="157"/>
                </a:lnTo>
                <a:lnTo>
                  <a:pt x="5" y="155"/>
                </a:lnTo>
                <a:lnTo>
                  <a:pt x="7" y="155"/>
                </a:lnTo>
                <a:lnTo>
                  <a:pt x="12" y="152"/>
                </a:lnTo>
                <a:lnTo>
                  <a:pt x="15" y="150"/>
                </a:lnTo>
                <a:lnTo>
                  <a:pt x="22" y="148"/>
                </a:lnTo>
                <a:lnTo>
                  <a:pt x="26" y="148"/>
                </a:lnTo>
                <a:lnTo>
                  <a:pt x="31" y="145"/>
                </a:lnTo>
                <a:lnTo>
                  <a:pt x="38" y="143"/>
                </a:lnTo>
                <a:lnTo>
                  <a:pt x="45" y="141"/>
                </a:lnTo>
                <a:lnTo>
                  <a:pt x="53" y="138"/>
                </a:lnTo>
                <a:lnTo>
                  <a:pt x="62" y="136"/>
                </a:lnTo>
                <a:lnTo>
                  <a:pt x="72" y="133"/>
                </a:lnTo>
                <a:lnTo>
                  <a:pt x="81" y="129"/>
                </a:lnTo>
                <a:lnTo>
                  <a:pt x="91" y="126"/>
                </a:lnTo>
                <a:lnTo>
                  <a:pt x="103" y="124"/>
                </a:lnTo>
                <a:lnTo>
                  <a:pt x="115" y="122"/>
                </a:lnTo>
                <a:lnTo>
                  <a:pt x="127" y="117"/>
                </a:lnTo>
                <a:lnTo>
                  <a:pt x="138" y="114"/>
                </a:lnTo>
                <a:lnTo>
                  <a:pt x="153" y="110"/>
                </a:lnTo>
                <a:lnTo>
                  <a:pt x="181" y="102"/>
                </a:lnTo>
                <a:lnTo>
                  <a:pt x="212" y="95"/>
                </a:lnTo>
                <a:lnTo>
                  <a:pt x="246" y="86"/>
                </a:lnTo>
                <a:lnTo>
                  <a:pt x="281" y="76"/>
                </a:lnTo>
                <a:lnTo>
                  <a:pt x="317" y="67"/>
                </a:lnTo>
                <a:lnTo>
                  <a:pt x="355" y="60"/>
                </a:lnTo>
                <a:lnTo>
                  <a:pt x="391" y="53"/>
                </a:lnTo>
                <a:lnTo>
                  <a:pt x="427" y="45"/>
                </a:lnTo>
                <a:lnTo>
                  <a:pt x="458" y="38"/>
                </a:lnTo>
                <a:lnTo>
                  <a:pt x="489" y="33"/>
                </a:lnTo>
                <a:lnTo>
                  <a:pt x="515" y="26"/>
                </a:lnTo>
                <a:lnTo>
                  <a:pt x="541" y="22"/>
                </a:lnTo>
                <a:lnTo>
                  <a:pt x="565" y="17"/>
                </a:lnTo>
                <a:lnTo>
                  <a:pt x="589" y="12"/>
                </a:lnTo>
                <a:lnTo>
                  <a:pt x="608" y="10"/>
                </a:lnTo>
                <a:lnTo>
                  <a:pt x="625" y="7"/>
                </a:lnTo>
                <a:lnTo>
                  <a:pt x="641" y="5"/>
                </a:lnTo>
                <a:lnTo>
                  <a:pt x="655" y="3"/>
                </a:lnTo>
                <a:lnTo>
                  <a:pt x="667" y="0"/>
                </a:lnTo>
                <a:lnTo>
                  <a:pt x="677" y="0"/>
                </a:lnTo>
                <a:lnTo>
                  <a:pt x="686" y="0"/>
                </a:lnTo>
                <a:lnTo>
                  <a:pt x="713" y="0"/>
                </a:lnTo>
                <a:lnTo>
                  <a:pt x="727" y="0"/>
                </a:lnTo>
                <a:lnTo>
                  <a:pt x="741" y="0"/>
                </a:lnTo>
                <a:lnTo>
                  <a:pt x="753" y="3"/>
                </a:lnTo>
                <a:lnTo>
                  <a:pt x="767" y="5"/>
                </a:lnTo>
                <a:lnTo>
                  <a:pt x="782" y="7"/>
                </a:lnTo>
                <a:lnTo>
                  <a:pt x="796" y="12"/>
                </a:lnTo>
                <a:lnTo>
                  <a:pt x="808" y="19"/>
                </a:lnTo>
                <a:lnTo>
                  <a:pt x="818" y="24"/>
                </a:lnTo>
                <a:lnTo>
                  <a:pt x="827" y="31"/>
                </a:lnTo>
                <a:lnTo>
                  <a:pt x="834" y="41"/>
                </a:lnTo>
                <a:lnTo>
                  <a:pt x="839" y="48"/>
                </a:lnTo>
                <a:lnTo>
                  <a:pt x="841" y="55"/>
                </a:lnTo>
                <a:lnTo>
                  <a:pt x="844" y="62"/>
                </a:lnTo>
                <a:lnTo>
                  <a:pt x="844" y="67"/>
                </a:lnTo>
                <a:lnTo>
                  <a:pt x="844" y="69"/>
                </a:lnTo>
                <a:lnTo>
                  <a:pt x="844" y="72"/>
                </a:lnTo>
                <a:lnTo>
                  <a:pt x="841" y="74"/>
                </a:lnTo>
                <a:lnTo>
                  <a:pt x="839" y="79"/>
                </a:lnTo>
                <a:lnTo>
                  <a:pt x="837" y="81"/>
                </a:lnTo>
                <a:lnTo>
                  <a:pt x="832" y="83"/>
                </a:lnTo>
                <a:lnTo>
                  <a:pt x="829" y="86"/>
                </a:lnTo>
                <a:lnTo>
                  <a:pt x="825" y="88"/>
                </a:lnTo>
                <a:lnTo>
                  <a:pt x="818" y="93"/>
                </a:lnTo>
                <a:lnTo>
                  <a:pt x="813" y="95"/>
                </a:lnTo>
                <a:lnTo>
                  <a:pt x="806" y="98"/>
                </a:lnTo>
                <a:lnTo>
                  <a:pt x="798" y="102"/>
                </a:lnTo>
                <a:lnTo>
                  <a:pt x="789" y="105"/>
                </a:lnTo>
                <a:lnTo>
                  <a:pt x="782" y="110"/>
                </a:lnTo>
                <a:lnTo>
                  <a:pt x="772" y="112"/>
                </a:lnTo>
                <a:lnTo>
                  <a:pt x="763" y="117"/>
                </a:lnTo>
                <a:lnTo>
                  <a:pt x="751" y="119"/>
                </a:lnTo>
                <a:lnTo>
                  <a:pt x="739" y="122"/>
                </a:lnTo>
                <a:lnTo>
                  <a:pt x="727" y="126"/>
                </a:lnTo>
                <a:lnTo>
                  <a:pt x="715" y="129"/>
                </a:lnTo>
                <a:lnTo>
                  <a:pt x="703" y="133"/>
                </a:lnTo>
                <a:lnTo>
                  <a:pt x="689" y="138"/>
                </a:lnTo>
                <a:lnTo>
                  <a:pt x="675" y="141"/>
                </a:lnTo>
                <a:lnTo>
                  <a:pt x="658" y="145"/>
                </a:lnTo>
                <a:lnTo>
                  <a:pt x="644" y="148"/>
                </a:lnTo>
                <a:lnTo>
                  <a:pt x="627" y="152"/>
                </a:lnTo>
                <a:lnTo>
                  <a:pt x="608" y="155"/>
                </a:lnTo>
                <a:lnTo>
                  <a:pt x="591" y="160"/>
                </a:lnTo>
                <a:lnTo>
                  <a:pt x="572" y="164"/>
                </a:lnTo>
                <a:lnTo>
                  <a:pt x="553" y="167"/>
                </a:lnTo>
                <a:lnTo>
                  <a:pt x="534" y="172"/>
                </a:lnTo>
                <a:lnTo>
                  <a:pt x="515" y="17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Freeform 42"/>
          <p:cNvSpPr/>
          <p:nvPr/>
        </p:nvSpPr>
        <p:spPr>
          <a:xfrm>
            <a:off x="5500800" y="3379680"/>
            <a:ext cx="833400" cy="320760"/>
          </a:xfrm>
          <a:custGeom>
            <a:avLst/>
            <a:gdLst/>
            <a:ahLst/>
            <a:rect l="l" t="t" r="r" b="b"/>
            <a:pathLst>
              <a:path w="1313" h="505">
                <a:moveTo>
                  <a:pt x="715" y="136"/>
                </a:moveTo>
                <a:lnTo>
                  <a:pt x="741" y="126"/>
                </a:lnTo>
                <a:lnTo>
                  <a:pt x="767" y="119"/>
                </a:lnTo>
                <a:lnTo>
                  <a:pt x="794" y="110"/>
                </a:lnTo>
                <a:lnTo>
                  <a:pt x="820" y="103"/>
                </a:lnTo>
                <a:lnTo>
                  <a:pt x="844" y="95"/>
                </a:lnTo>
                <a:lnTo>
                  <a:pt x="868" y="88"/>
                </a:lnTo>
                <a:lnTo>
                  <a:pt x="889" y="81"/>
                </a:lnTo>
                <a:lnTo>
                  <a:pt x="913" y="74"/>
                </a:lnTo>
                <a:lnTo>
                  <a:pt x="934" y="69"/>
                </a:lnTo>
                <a:lnTo>
                  <a:pt x="953" y="62"/>
                </a:lnTo>
                <a:lnTo>
                  <a:pt x="975" y="57"/>
                </a:lnTo>
                <a:lnTo>
                  <a:pt x="994" y="50"/>
                </a:lnTo>
                <a:lnTo>
                  <a:pt x="1013" y="46"/>
                </a:lnTo>
                <a:lnTo>
                  <a:pt x="1030" y="41"/>
                </a:lnTo>
                <a:lnTo>
                  <a:pt x="1049" y="36"/>
                </a:lnTo>
                <a:lnTo>
                  <a:pt x="1065" y="34"/>
                </a:lnTo>
                <a:lnTo>
                  <a:pt x="1080" y="29"/>
                </a:lnTo>
                <a:lnTo>
                  <a:pt x="1096" y="24"/>
                </a:lnTo>
                <a:lnTo>
                  <a:pt x="1111" y="22"/>
                </a:lnTo>
                <a:lnTo>
                  <a:pt x="1125" y="19"/>
                </a:lnTo>
                <a:lnTo>
                  <a:pt x="1137" y="15"/>
                </a:lnTo>
                <a:lnTo>
                  <a:pt x="1151" y="12"/>
                </a:lnTo>
                <a:lnTo>
                  <a:pt x="1163" y="10"/>
                </a:lnTo>
                <a:lnTo>
                  <a:pt x="1175" y="7"/>
                </a:lnTo>
                <a:lnTo>
                  <a:pt x="1184" y="7"/>
                </a:lnTo>
                <a:lnTo>
                  <a:pt x="1194" y="5"/>
                </a:lnTo>
                <a:lnTo>
                  <a:pt x="1204" y="3"/>
                </a:lnTo>
                <a:lnTo>
                  <a:pt x="1213" y="3"/>
                </a:lnTo>
                <a:lnTo>
                  <a:pt x="1220" y="3"/>
                </a:lnTo>
                <a:lnTo>
                  <a:pt x="1227" y="0"/>
                </a:lnTo>
                <a:lnTo>
                  <a:pt x="1234" y="0"/>
                </a:lnTo>
                <a:lnTo>
                  <a:pt x="1242" y="0"/>
                </a:lnTo>
                <a:lnTo>
                  <a:pt x="1258" y="0"/>
                </a:lnTo>
                <a:lnTo>
                  <a:pt x="1273" y="0"/>
                </a:lnTo>
                <a:lnTo>
                  <a:pt x="1285" y="3"/>
                </a:lnTo>
                <a:lnTo>
                  <a:pt x="1296" y="3"/>
                </a:lnTo>
                <a:lnTo>
                  <a:pt x="1304" y="5"/>
                </a:lnTo>
                <a:lnTo>
                  <a:pt x="1308" y="7"/>
                </a:lnTo>
                <a:lnTo>
                  <a:pt x="1313" y="10"/>
                </a:lnTo>
                <a:lnTo>
                  <a:pt x="1313" y="15"/>
                </a:lnTo>
                <a:lnTo>
                  <a:pt x="1313" y="17"/>
                </a:lnTo>
                <a:lnTo>
                  <a:pt x="1311" y="17"/>
                </a:lnTo>
                <a:lnTo>
                  <a:pt x="1308" y="19"/>
                </a:lnTo>
                <a:lnTo>
                  <a:pt x="1306" y="24"/>
                </a:lnTo>
                <a:lnTo>
                  <a:pt x="1301" y="26"/>
                </a:lnTo>
                <a:lnTo>
                  <a:pt x="1294" y="31"/>
                </a:lnTo>
                <a:lnTo>
                  <a:pt x="1287" y="34"/>
                </a:lnTo>
                <a:lnTo>
                  <a:pt x="1280" y="38"/>
                </a:lnTo>
                <a:lnTo>
                  <a:pt x="1270" y="43"/>
                </a:lnTo>
                <a:lnTo>
                  <a:pt x="1261" y="50"/>
                </a:lnTo>
                <a:lnTo>
                  <a:pt x="1249" y="55"/>
                </a:lnTo>
                <a:lnTo>
                  <a:pt x="1237" y="62"/>
                </a:lnTo>
                <a:lnTo>
                  <a:pt x="1223" y="69"/>
                </a:lnTo>
                <a:lnTo>
                  <a:pt x="1208" y="76"/>
                </a:lnTo>
                <a:lnTo>
                  <a:pt x="1192" y="84"/>
                </a:lnTo>
                <a:lnTo>
                  <a:pt x="1175" y="91"/>
                </a:lnTo>
                <a:lnTo>
                  <a:pt x="1158" y="100"/>
                </a:lnTo>
                <a:lnTo>
                  <a:pt x="1139" y="110"/>
                </a:lnTo>
                <a:lnTo>
                  <a:pt x="1120" y="117"/>
                </a:lnTo>
                <a:lnTo>
                  <a:pt x="1099" y="126"/>
                </a:lnTo>
                <a:lnTo>
                  <a:pt x="1077" y="138"/>
                </a:lnTo>
                <a:lnTo>
                  <a:pt x="1053" y="148"/>
                </a:lnTo>
                <a:lnTo>
                  <a:pt x="1030" y="157"/>
                </a:lnTo>
                <a:lnTo>
                  <a:pt x="1003" y="169"/>
                </a:lnTo>
                <a:lnTo>
                  <a:pt x="977" y="181"/>
                </a:lnTo>
                <a:lnTo>
                  <a:pt x="951" y="193"/>
                </a:lnTo>
                <a:lnTo>
                  <a:pt x="922" y="205"/>
                </a:lnTo>
                <a:lnTo>
                  <a:pt x="891" y="217"/>
                </a:lnTo>
                <a:lnTo>
                  <a:pt x="860" y="231"/>
                </a:lnTo>
                <a:lnTo>
                  <a:pt x="829" y="243"/>
                </a:lnTo>
                <a:lnTo>
                  <a:pt x="796" y="257"/>
                </a:lnTo>
                <a:lnTo>
                  <a:pt x="763" y="272"/>
                </a:lnTo>
                <a:lnTo>
                  <a:pt x="729" y="288"/>
                </a:lnTo>
                <a:lnTo>
                  <a:pt x="694" y="303"/>
                </a:lnTo>
                <a:lnTo>
                  <a:pt x="663" y="317"/>
                </a:lnTo>
                <a:lnTo>
                  <a:pt x="629" y="329"/>
                </a:lnTo>
                <a:lnTo>
                  <a:pt x="598" y="343"/>
                </a:lnTo>
                <a:lnTo>
                  <a:pt x="570" y="355"/>
                </a:lnTo>
                <a:lnTo>
                  <a:pt x="541" y="369"/>
                </a:lnTo>
                <a:lnTo>
                  <a:pt x="512" y="379"/>
                </a:lnTo>
                <a:lnTo>
                  <a:pt x="486" y="391"/>
                </a:lnTo>
                <a:lnTo>
                  <a:pt x="462" y="403"/>
                </a:lnTo>
                <a:lnTo>
                  <a:pt x="436" y="412"/>
                </a:lnTo>
                <a:lnTo>
                  <a:pt x="415" y="422"/>
                </a:lnTo>
                <a:lnTo>
                  <a:pt x="391" y="431"/>
                </a:lnTo>
                <a:lnTo>
                  <a:pt x="370" y="438"/>
                </a:lnTo>
                <a:lnTo>
                  <a:pt x="350" y="448"/>
                </a:lnTo>
                <a:lnTo>
                  <a:pt x="331" y="455"/>
                </a:lnTo>
                <a:lnTo>
                  <a:pt x="312" y="462"/>
                </a:lnTo>
                <a:lnTo>
                  <a:pt x="296" y="467"/>
                </a:lnTo>
                <a:lnTo>
                  <a:pt x="279" y="474"/>
                </a:lnTo>
                <a:lnTo>
                  <a:pt x="265" y="479"/>
                </a:lnTo>
                <a:lnTo>
                  <a:pt x="250" y="483"/>
                </a:lnTo>
                <a:lnTo>
                  <a:pt x="238" y="488"/>
                </a:lnTo>
                <a:lnTo>
                  <a:pt x="227" y="493"/>
                </a:lnTo>
                <a:lnTo>
                  <a:pt x="215" y="495"/>
                </a:lnTo>
                <a:lnTo>
                  <a:pt x="205" y="498"/>
                </a:lnTo>
                <a:lnTo>
                  <a:pt x="196" y="500"/>
                </a:lnTo>
                <a:lnTo>
                  <a:pt x="188" y="502"/>
                </a:lnTo>
                <a:lnTo>
                  <a:pt x="181" y="502"/>
                </a:lnTo>
                <a:lnTo>
                  <a:pt x="174" y="505"/>
                </a:lnTo>
                <a:lnTo>
                  <a:pt x="169" y="505"/>
                </a:lnTo>
                <a:lnTo>
                  <a:pt x="167" y="502"/>
                </a:lnTo>
                <a:lnTo>
                  <a:pt x="165" y="502"/>
                </a:lnTo>
                <a:lnTo>
                  <a:pt x="157" y="502"/>
                </a:lnTo>
                <a:lnTo>
                  <a:pt x="150" y="500"/>
                </a:lnTo>
                <a:lnTo>
                  <a:pt x="143" y="498"/>
                </a:lnTo>
                <a:lnTo>
                  <a:pt x="136" y="495"/>
                </a:lnTo>
                <a:lnTo>
                  <a:pt x="129" y="491"/>
                </a:lnTo>
                <a:lnTo>
                  <a:pt x="122" y="486"/>
                </a:lnTo>
                <a:lnTo>
                  <a:pt x="115" y="481"/>
                </a:lnTo>
                <a:lnTo>
                  <a:pt x="107" y="474"/>
                </a:lnTo>
                <a:lnTo>
                  <a:pt x="103" y="467"/>
                </a:lnTo>
                <a:lnTo>
                  <a:pt x="96" y="457"/>
                </a:lnTo>
                <a:lnTo>
                  <a:pt x="88" y="450"/>
                </a:lnTo>
                <a:lnTo>
                  <a:pt x="81" y="441"/>
                </a:lnTo>
                <a:lnTo>
                  <a:pt x="74" y="429"/>
                </a:lnTo>
                <a:lnTo>
                  <a:pt x="67" y="419"/>
                </a:lnTo>
                <a:lnTo>
                  <a:pt x="60" y="407"/>
                </a:lnTo>
                <a:lnTo>
                  <a:pt x="55" y="393"/>
                </a:lnTo>
                <a:lnTo>
                  <a:pt x="45" y="381"/>
                </a:lnTo>
                <a:lnTo>
                  <a:pt x="38" y="369"/>
                </a:lnTo>
                <a:lnTo>
                  <a:pt x="31" y="357"/>
                </a:lnTo>
                <a:lnTo>
                  <a:pt x="24" y="345"/>
                </a:lnTo>
                <a:lnTo>
                  <a:pt x="19" y="336"/>
                </a:lnTo>
                <a:lnTo>
                  <a:pt x="14" y="324"/>
                </a:lnTo>
                <a:lnTo>
                  <a:pt x="10" y="314"/>
                </a:lnTo>
                <a:lnTo>
                  <a:pt x="7" y="305"/>
                </a:lnTo>
                <a:lnTo>
                  <a:pt x="5" y="298"/>
                </a:lnTo>
                <a:lnTo>
                  <a:pt x="3" y="288"/>
                </a:lnTo>
                <a:lnTo>
                  <a:pt x="0" y="281"/>
                </a:lnTo>
                <a:lnTo>
                  <a:pt x="0" y="276"/>
                </a:lnTo>
                <a:lnTo>
                  <a:pt x="0" y="269"/>
                </a:lnTo>
                <a:lnTo>
                  <a:pt x="3" y="264"/>
                </a:lnTo>
                <a:lnTo>
                  <a:pt x="3" y="262"/>
                </a:lnTo>
                <a:lnTo>
                  <a:pt x="5" y="257"/>
                </a:lnTo>
                <a:lnTo>
                  <a:pt x="7" y="255"/>
                </a:lnTo>
                <a:lnTo>
                  <a:pt x="10" y="255"/>
                </a:lnTo>
                <a:lnTo>
                  <a:pt x="17" y="253"/>
                </a:lnTo>
                <a:lnTo>
                  <a:pt x="24" y="253"/>
                </a:lnTo>
                <a:lnTo>
                  <a:pt x="31" y="255"/>
                </a:lnTo>
                <a:lnTo>
                  <a:pt x="43" y="257"/>
                </a:lnTo>
                <a:lnTo>
                  <a:pt x="53" y="262"/>
                </a:lnTo>
                <a:lnTo>
                  <a:pt x="65" y="267"/>
                </a:lnTo>
                <a:lnTo>
                  <a:pt x="79" y="272"/>
                </a:lnTo>
                <a:lnTo>
                  <a:pt x="93" y="276"/>
                </a:lnTo>
                <a:lnTo>
                  <a:pt x="105" y="279"/>
                </a:lnTo>
                <a:lnTo>
                  <a:pt x="119" y="281"/>
                </a:lnTo>
                <a:lnTo>
                  <a:pt x="136" y="281"/>
                </a:lnTo>
                <a:lnTo>
                  <a:pt x="150" y="281"/>
                </a:lnTo>
                <a:lnTo>
                  <a:pt x="167" y="279"/>
                </a:lnTo>
                <a:lnTo>
                  <a:pt x="184" y="276"/>
                </a:lnTo>
                <a:lnTo>
                  <a:pt x="200" y="272"/>
                </a:lnTo>
                <a:lnTo>
                  <a:pt x="205" y="272"/>
                </a:lnTo>
                <a:lnTo>
                  <a:pt x="210" y="269"/>
                </a:lnTo>
                <a:lnTo>
                  <a:pt x="217" y="267"/>
                </a:lnTo>
                <a:lnTo>
                  <a:pt x="224" y="264"/>
                </a:lnTo>
                <a:lnTo>
                  <a:pt x="231" y="264"/>
                </a:lnTo>
                <a:lnTo>
                  <a:pt x="241" y="262"/>
                </a:lnTo>
                <a:lnTo>
                  <a:pt x="250" y="260"/>
                </a:lnTo>
                <a:lnTo>
                  <a:pt x="260" y="257"/>
                </a:lnTo>
                <a:lnTo>
                  <a:pt x="272" y="255"/>
                </a:lnTo>
                <a:lnTo>
                  <a:pt x="281" y="250"/>
                </a:lnTo>
                <a:lnTo>
                  <a:pt x="296" y="248"/>
                </a:lnTo>
                <a:lnTo>
                  <a:pt x="308" y="245"/>
                </a:lnTo>
                <a:lnTo>
                  <a:pt x="322" y="241"/>
                </a:lnTo>
                <a:lnTo>
                  <a:pt x="336" y="238"/>
                </a:lnTo>
                <a:lnTo>
                  <a:pt x="350" y="234"/>
                </a:lnTo>
                <a:lnTo>
                  <a:pt x="367" y="231"/>
                </a:lnTo>
                <a:lnTo>
                  <a:pt x="381" y="226"/>
                </a:lnTo>
                <a:lnTo>
                  <a:pt x="401" y="222"/>
                </a:lnTo>
                <a:lnTo>
                  <a:pt x="417" y="217"/>
                </a:lnTo>
                <a:lnTo>
                  <a:pt x="436" y="212"/>
                </a:lnTo>
                <a:lnTo>
                  <a:pt x="455" y="207"/>
                </a:lnTo>
                <a:lnTo>
                  <a:pt x="474" y="203"/>
                </a:lnTo>
                <a:lnTo>
                  <a:pt x="496" y="195"/>
                </a:lnTo>
                <a:lnTo>
                  <a:pt x="517" y="191"/>
                </a:lnTo>
                <a:lnTo>
                  <a:pt x="539" y="184"/>
                </a:lnTo>
                <a:lnTo>
                  <a:pt x="563" y="179"/>
                </a:lnTo>
                <a:lnTo>
                  <a:pt x="586" y="172"/>
                </a:lnTo>
                <a:lnTo>
                  <a:pt x="610" y="165"/>
                </a:lnTo>
                <a:lnTo>
                  <a:pt x="636" y="157"/>
                </a:lnTo>
                <a:lnTo>
                  <a:pt x="660" y="150"/>
                </a:lnTo>
                <a:lnTo>
                  <a:pt x="686" y="143"/>
                </a:lnTo>
                <a:lnTo>
                  <a:pt x="715" y="136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3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28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3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8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3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8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3" dur="5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8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3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8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3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78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83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88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99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04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图片 1" descr="白马寺"/>
          <p:cNvPicPr/>
          <p:nvPr/>
        </p:nvPicPr>
        <p:blipFill>
          <a:blip r:embed="rId1"/>
          <a:stretch/>
        </p:blipFill>
        <p:spPr>
          <a:xfrm>
            <a:off x="0" y="6480"/>
            <a:ext cx="9194760" cy="6832440"/>
          </a:xfrm>
          <a:prstGeom prst="rect">
            <a:avLst/>
          </a:prstGeom>
          <a:ln w="0">
            <a:noFill/>
          </a:ln>
        </p:spPr>
      </p:pic>
      <p:sp>
        <p:nvSpPr>
          <p:cNvPr id="614" name="文本框 2"/>
          <p:cNvSpPr/>
          <p:nvPr/>
        </p:nvSpPr>
        <p:spPr>
          <a:xfrm>
            <a:off x="0" y="6480"/>
            <a:ext cx="4118040" cy="25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白马</a:t>
            </a:r>
            <a:r>
              <a:rPr b="0" lang="zh-CN" sz="8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寺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</a:t>
            </a:r>
            <a:r>
              <a:rPr b="0" lang="zh-CN" sz="8000" spc="-1" strike="noStrike">
                <a:solidFill>
                  <a:srgbClr val="4f81bd"/>
                </a:solidFill>
                <a:latin typeface="华文楷体"/>
                <a:ea typeface="华文楷体"/>
              </a:rPr>
              <a:t>河南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图片 1" descr="寒山寺"/>
          <p:cNvPicPr/>
          <p:nvPr/>
        </p:nvPicPr>
        <p:blipFill>
          <a:blip r:embed="rId1"/>
          <a:stretch/>
        </p:blipFill>
        <p:spPr>
          <a:xfrm>
            <a:off x="-46080" y="-23760"/>
            <a:ext cx="9174240" cy="7081920"/>
          </a:xfrm>
          <a:prstGeom prst="rect">
            <a:avLst/>
          </a:prstGeom>
          <a:ln w="0">
            <a:noFill/>
          </a:ln>
        </p:spPr>
      </p:pic>
      <p:sp>
        <p:nvSpPr>
          <p:cNvPr id="616" name="文本框 2"/>
          <p:cNvSpPr/>
          <p:nvPr/>
        </p:nvSpPr>
        <p:spPr>
          <a:xfrm>
            <a:off x="0" y="6480"/>
            <a:ext cx="4118040" cy="253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寒山寺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华文楷体"/>
                <a:ea typeface="华文楷体"/>
              </a:rPr>
              <a:t>  </a:t>
            </a:r>
            <a:r>
              <a:rPr b="0" lang="zh-CN" sz="8000" spc="-1" strike="noStrike">
                <a:solidFill>
                  <a:srgbClr val="4f81bd"/>
                </a:solidFill>
                <a:latin typeface="华文楷体"/>
                <a:ea typeface="华文楷体"/>
              </a:rPr>
              <a:t>江苏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图片 1" descr="少林寺"/>
          <p:cNvPicPr/>
          <p:nvPr/>
        </p:nvPicPr>
        <p:blipFill>
          <a:blip r:embed="rId1"/>
          <a:stretch/>
        </p:blipFill>
        <p:spPr>
          <a:xfrm>
            <a:off x="-28440" y="22320"/>
            <a:ext cx="9200880" cy="6813360"/>
          </a:xfrm>
          <a:prstGeom prst="rect">
            <a:avLst/>
          </a:prstGeom>
          <a:ln w="0">
            <a:noFill/>
          </a:ln>
        </p:spPr>
      </p:pic>
      <p:sp>
        <p:nvSpPr>
          <p:cNvPr id="618" name="文本框 2"/>
          <p:cNvSpPr/>
          <p:nvPr/>
        </p:nvSpPr>
        <p:spPr>
          <a:xfrm>
            <a:off x="54000" y="138240"/>
            <a:ext cx="4387680" cy="21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少林</a:t>
            </a:r>
            <a:r>
              <a:rPr b="0" lang="zh-CN" sz="6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寺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华文楷体"/>
                <a:ea typeface="华文楷体"/>
              </a:rPr>
              <a:t> </a:t>
            </a:r>
            <a:r>
              <a:rPr b="0" lang="zh-CN" sz="6600" spc="-1" strike="noStrike">
                <a:solidFill>
                  <a:srgbClr val="4f81bd"/>
                </a:solidFill>
                <a:latin typeface="华文楷体"/>
                <a:ea typeface="华文楷体"/>
              </a:rPr>
              <a:t>河南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图片 1" descr="timg (8)"/>
          <p:cNvPicPr/>
          <p:nvPr/>
        </p:nvPicPr>
        <p:blipFill>
          <a:blip r:embed="rId1"/>
          <a:stretch/>
        </p:blipFill>
        <p:spPr>
          <a:xfrm>
            <a:off x="-73080" y="0"/>
            <a:ext cx="9226440" cy="6858000"/>
          </a:xfrm>
          <a:prstGeom prst="rect">
            <a:avLst/>
          </a:prstGeom>
          <a:ln w="0">
            <a:noFill/>
          </a:ln>
        </p:spPr>
      </p:pic>
      <p:sp>
        <p:nvSpPr>
          <p:cNvPr id="620" name="文本框 2"/>
          <p:cNvSpPr/>
          <p:nvPr/>
        </p:nvSpPr>
        <p:spPr>
          <a:xfrm>
            <a:off x="92160" y="163440"/>
            <a:ext cx="370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Calibri"/>
                <a:ea typeface="宋体"/>
              </a:rPr>
              <a:t>江心</a:t>
            </a:r>
            <a:r>
              <a:rPr b="0" lang="zh-CN" sz="7200" spc="-1" strike="noStrike">
                <a:solidFill>
                  <a:srgbClr val="ff0000"/>
                </a:solidFill>
                <a:latin typeface="Calibri"/>
                <a:ea typeface="宋体"/>
              </a:rPr>
              <a:t>寺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圆角矩形 66"/>
          <p:cNvSpPr/>
          <p:nvPr/>
        </p:nvSpPr>
        <p:spPr>
          <a:xfrm>
            <a:off x="923760" y="190980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0"/>
          </a:gradFill>
          <a:ln w="9360">
            <a:solidFill>
              <a:srgbClr val="539f36"/>
            </a:solidFill>
            <a:round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2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624" name="Text Box 2"/>
          <p:cNvSpPr/>
          <p:nvPr/>
        </p:nvSpPr>
        <p:spPr>
          <a:xfrm>
            <a:off x="2846520" y="961920"/>
            <a:ext cx="4581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Calibri"/>
                <a:ea typeface="黑体"/>
              </a:rPr>
              <a:t>夜宿山寺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5" name="图片 1" descr=""/>
          <p:cNvPicPr/>
          <p:nvPr/>
        </p:nvPicPr>
        <p:blipFill>
          <a:blip r:embed="rId3"/>
          <a:srcRect l="0" t="0" r="51798" b="3860"/>
          <a:stretch/>
        </p:blipFill>
        <p:spPr>
          <a:xfrm>
            <a:off x="923760" y="2044800"/>
            <a:ext cx="3343320" cy="4368600"/>
          </a:xfrm>
          <a:prstGeom prst="rect">
            <a:avLst/>
          </a:prstGeom>
          <a:ln w="0">
            <a:noFill/>
          </a:ln>
        </p:spPr>
      </p:pic>
      <p:sp>
        <p:nvSpPr>
          <p:cNvPr id="626" name="文本框 2"/>
          <p:cNvSpPr/>
          <p:nvPr/>
        </p:nvSpPr>
        <p:spPr>
          <a:xfrm>
            <a:off x="4506840" y="2806560"/>
            <a:ext cx="433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李白是唐朝的一位大诗人，被后人誉为“诗仙”。他的很多诗都充满想象力，洒脱浪漫，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静夜思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宋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荣德基</dc:creator>
  <dc:description/>
  <dc:language>en-US</dc:language>
  <cp:lastModifiedBy>noodee</cp:lastModifiedBy>
  <dcterms:modified xsi:type="dcterms:W3CDTF">2018-12-02T09:09:54Z</dcterms:modified>
  <cp:revision>50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469</vt:lpwstr>
  </property>
</Properties>
</file>